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A31-F00A-408A-97FF-3C678C28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277B-1530-416C-B138-DF525825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2A3B-4C47-4496-AE5F-7CBB3FF7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005-6305-4997-B9CD-C9728FA5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9F1A-619F-49C2-8467-E49FD3D7C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C0C3-0F8A-4761-A5B3-24C417E6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3583-ED7D-4EC6-A11B-4A02633F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5BCC-E003-43D0-8478-943B569B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892E-F992-48AB-91AA-2B9512FD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342D-6AE5-4329-9BFA-8852F56F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3783-36D1-4167-97EB-8D6FD462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B55-3A67-4343-BFAC-961D6D48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B67A-5FBE-4E1E-ADC1-1170C713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EBB6-5CBC-4D7B-9D9D-D2A27E6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85B9-AFBE-4014-9880-6E420F47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8647-53A6-4A8D-BCC5-17F5C1D6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DCF3-91B7-4D48-9FCF-3C333518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A2A-B8C0-4055-B3DF-42DFE9E3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4ED1-03FB-4664-93FD-4177141B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B9B-D6A1-47F8-9528-B84F92C0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6B3-FC2D-4F15-AC1E-C96F2382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A41-6D56-4B1C-9C0B-B7D3AA1C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408-6625-4556-B4D7-43B1C026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D1A-4002-4D1B-A798-658CC2CD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81D4-3C09-404E-A3B8-F022835F35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9FFA-1E2E-4363-AB83-2D52C1EEC2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99D2-7956-4A8A-A649-8C06A00929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B2FC-C49D-485A-8AE5-902BB6EF6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pid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182680" y="3389400"/>
            <a:ext cx="4840200" cy="2388960"/>
            <a:chOff x="2182680" y="3389400"/>
            <a:chExt cx="4840200" cy="238896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2182680" y="3389400"/>
              <a:ext cx="4840200" cy="23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970000" y="3819240"/>
              <a:ext cx="3186360" cy="14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直接连接符 4"/>
          <p:cNvSpPr/>
          <p:nvPr/>
        </p:nvSpPr>
        <p:spPr>
          <a:xfrm flipH="1">
            <a:off x="473040" y="3693960"/>
            <a:ext cx="3813120" cy="0"/>
          </a:xfrm>
          <a:prstGeom prst="line">
            <a:avLst/>
          </a:prstGeom>
          <a:ln w="6480">
            <a:solidFill>
              <a:srgbClr val="c73e01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5"/>
          <p:cNvSpPr/>
          <p:nvPr/>
        </p:nvSpPr>
        <p:spPr>
          <a:xfrm flipH="1">
            <a:off x="4676400" y="3156120"/>
            <a:ext cx="3902040" cy="0"/>
          </a:xfrm>
          <a:prstGeom prst="line">
            <a:avLst/>
          </a:prstGeom>
          <a:ln w="6480">
            <a:solidFill>
              <a:srgbClr val="be124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6"/>
          <p:cNvSpPr/>
          <p:nvPr/>
        </p:nvSpPr>
        <p:spPr>
          <a:xfrm flipH="1">
            <a:off x="4676400" y="4530600"/>
            <a:ext cx="3902040" cy="0"/>
          </a:xfrm>
          <a:prstGeom prst="line">
            <a:avLst/>
          </a:prstGeom>
          <a:ln w="6480">
            <a:solidFill>
              <a:srgbClr val="119707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489480" y="3436920"/>
            <a:ext cx="2292120" cy="1428840"/>
            <a:chOff x="3489480" y="3436920"/>
            <a:chExt cx="2292120" cy="1428840"/>
          </a:xfrm>
        </p:grpSpPr>
        <p:sp>
          <p:nvSpPr>
            <p:cNvPr id="89" name="任意多边形 8"/>
            <p:cNvSpPr/>
            <p:nvPr/>
          </p:nvSpPr>
          <p:spPr>
            <a:xfrm>
              <a:off x="3489480" y="4337280"/>
              <a:ext cx="2292120" cy="528480"/>
            </a:xfrm>
            <a:custGeom>
              <a:avLst/>
              <a:gdLst/>
              <a:ahLst/>
              <a:rect l="l" t="t" r="r" b="b"/>
              <a:pathLst>
                <a:path w="2963119" h="689114">
                  <a:moveTo>
                    <a:pt x="0" y="0"/>
                  </a:moveTo>
                  <a:lnTo>
                    <a:pt x="2963119" y="52507"/>
                  </a:lnTo>
                  <a:lnTo>
                    <a:pt x="2905245" y="689114"/>
                  </a:lnTo>
                  <a:lnTo>
                    <a:pt x="69448" y="66596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ceb6f"/>
                </a:gs>
                <a:gs pos="100000">
                  <a:srgbClr val="11970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9"/>
            <p:cNvSpPr/>
            <p:nvPr/>
          </p:nvSpPr>
          <p:spPr>
            <a:xfrm>
              <a:off x="3489480" y="3436920"/>
              <a:ext cx="2292120" cy="940680"/>
            </a:xfrm>
            <a:custGeom>
              <a:avLst/>
              <a:gdLst/>
              <a:ahLst/>
              <a:rect l="l" t="t" r="r" b="b"/>
              <a:pathLst>
                <a:path w="2986268" h="1226917">
                  <a:moveTo>
                    <a:pt x="2986268" y="1226917"/>
                  </a:moveTo>
                  <a:lnTo>
                    <a:pt x="2777924" y="34724"/>
                  </a:lnTo>
                  <a:lnTo>
                    <a:pt x="266217" y="0"/>
                  </a:lnTo>
                  <a:lnTo>
                    <a:pt x="0" y="1169043"/>
                  </a:lnTo>
                  <a:lnTo>
                    <a:pt x="2986268" y="1226917"/>
                  </a:lnTo>
                  <a:close/>
                </a:path>
              </a:pathLst>
            </a:custGeom>
            <a:gradFill rotWithShape="0">
              <a:gsLst>
                <a:gs pos="0">
                  <a:srgbClr val="119707"/>
                </a:gs>
                <a:gs pos="100000">
                  <a:srgbClr val="bceb6f"/>
                </a:gs>
              </a:gsLst>
              <a:lin ang="54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405240" y="2978280"/>
            <a:ext cx="2460600" cy="1631880"/>
            <a:chOff x="3405240" y="2978280"/>
            <a:chExt cx="2460600" cy="1631880"/>
          </a:xfrm>
        </p:grpSpPr>
        <p:sp>
          <p:nvSpPr>
            <p:cNvPr id="92" name="任意多边形 11"/>
            <p:cNvSpPr/>
            <p:nvPr/>
          </p:nvSpPr>
          <p:spPr>
            <a:xfrm>
              <a:off x="3405240" y="3624840"/>
              <a:ext cx="2176560" cy="977040"/>
            </a:xfrm>
            <a:custGeom>
              <a:avLst/>
              <a:gdLst/>
              <a:ahLst/>
              <a:rect l="l" t="t" r="r" b="b"/>
              <a:pathLst>
                <a:path w="2835797" h="1273215">
                  <a:moveTo>
                    <a:pt x="0" y="0"/>
                  </a:moveTo>
                  <a:lnTo>
                    <a:pt x="2835797" y="544010"/>
                  </a:lnTo>
                  <a:lnTo>
                    <a:pt x="2766349" y="1273215"/>
                  </a:lnTo>
                  <a:lnTo>
                    <a:pt x="11575" y="70605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c73e01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12"/>
            <p:cNvSpPr/>
            <p:nvPr/>
          </p:nvSpPr>
          <p:spPr>
            <a:xfrm>
              <a:off x="5532480" y="3251520"/>
              <a:ext cx="333360" cy="1358640"/>
            </a:xfrm>
            <a:custGeom>
              <a:avLst/>
              <a:gdLst/>
              <a:ahLst/>
              <a:rect l="l" t="t" r="r" b="b"/>
              <a:pathLst>
                <a:path w="434470" h="1770087">
                  <a:moveTo>
                    <a:pt x="64080" y="1018573"/>
                  </a:moveTo>
                  <a:lnTo>
                    <a:pt x="0" y="1770087"/>
                  </a:lnTo>
                  <a:lnTo>
                    <a:pt x="399746" y="451413"/>
                  </a:lnTo>
                  <a:lnTo>
                    <a:pt x="434470" y="0"/>
                  </a:lnTo>
                  <a:lnTo>
                    <a:pt x="64080" y="1018573"/>
                  </a:lnTo>
                  <a:close/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c73e01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3"/>
            <p:cNvSpPr/>
            <p:nvPr/>
          </p:nvSpPr>
          <p:spPr>
            <a:xfrm>
              <a:off x="3405240" y="2978280"/>
              <a:ext cx="2460600" cy="1081800"/>
            </a:xfrm>
            <a:custGeom>
              <a:avLst/>
              <a:gdLst/>
              <a:ahLst/>
              <a:rect l="l" t="t" r="r" b="b"/>
              <a:pathLst>
                <a:path w="3206187" h="1409726">
                  <a:moveTo>
                    <a:pt x="3206187" y="368004"/>
                  </a:moveTo>
                  <a:lnTo>
                    <a:pt x="2835797" y="1409726"/>
                  </a:lnTo>
                  <a:lnTo>
                    <a:pt x="0" y="854141"/>
                  </a:lnTo>
                  <a:lnTo>
                    <a:pt x="671685" y="0"/>
                  </a:lnTo>
                  <a:lnTo>
                    <a:pt x="3206187" y="368004"/>
                  </a:lnTo>
                  <a:close/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c73e01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370320" y="2325600"/>
            <a:ext cx="2814480" cy="1712880"/>
            <a:chOff x="3370320" y="2325600"/>
            <a:chExt cx="2814480" cy="1712880"/>
          </a:xfrm>
        </p:grpSpPr>
        <p:sp>
          <p:nvSpPr>
            <p:cNvPr id="96" name="任意多边形 15"/>
            <p:cNvSpPr/>
            <p:nvPr/>
          </p:nvSpPr>
          <p:spPr>
            <a:xfrm>
              <a:off x="4532760" y="2859480"/>
              <a:ext cx="1647360" cy="1179000"/>
            </a:xfrm>
            <a:custGeom>
              <a:avLst/>
              <a:gdLst/>
              <a:ahLst/>
              <a:rect l="l" t="t" r="r" b="b"/>
              <a:pathLst>
                <a:path w="2158226" h="1537752">
                  <a:moveTo>
                    <a:pt x="23150" y="692800"/>
                  </a:moveTo>
                  <a:lnTo>
                    <a:pt x="0" y="1537752"/>
                  </a:lnTo>
                  <a:lnTo>
                    <a:pt x="2118167" y="681226"/>
                  </a:lnTo>
                  <a:lnTo>
                    <a:pt x="2158226" y="0"/>
                  </a:lnTo>
                  <a:lnTo>
                    <a:pt x="23150" y="692800"/>
                  </a:ln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16"/>
            <p:cNvSpPr/>
            <p:nvPr/>
          </p:nvSpPr>
          <p:spPr>
            <a:xfrm>
              <a:off x="3375000" y="2325600"/>
              <a:ext cx="2809800" cy="1073880"/>
            </a:xfrm>
            <a:custGeom>
              <a:avLst/>
              <a:gdLst/>
              <a:ahLst/>
              <a:rect l="l" t="t" r="r" b="b"/>
              <a:pathLst>
                <a:path w="3661288" h="1400537">
                  <a:moveTo>
                    <a:pt x="1519972" y="1400537"/>
                  </a:moveTo>
                  <a:lnTo>
                    <a:pt x="3661288" y="694481"/>
                  </a:lnTo>
                  <a:lnTo>
                    <a:pt x="1948235" y="0"/>
                  </a:lnTo>
                  <a:lnTo>
                    <a:pt x="0" y="520862"/>
                  </a:lnTo>
                  <a:lnTo>
                    <a:pt x="1519972" y="1400537"/>
                  </a:ln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7"/>
            <p:cNvSpPr/>
            <p:nvPr/>
          </p:nvSpPr>
          <p:spPr>
            <a:xfrm>
              <a:off x="3370320" y="2721240"/>
              <a:ext cx="1176120" cy="1317240"/>
            </a:xfrm>
            <a:custGeom>
              <a:avLst/>
              <a:gdLst/>
              <a:ahLst/>
              <a:rect l="l" t="t" r="r" b="b"/>
              <a:pathLst>
                <a:path w="1532387" h="1717580">
                  <a:moveTo>
                    <a:pt x="0" y="0"/>
                  </a:moveTo>
                  <a:lnTo>
                    <a:pt x="21470" y="652709"/>
                  </a:lnTo>
                  <a:lnTo>
                    <a:pt x="1526179" y="1717580"/>
                  </a:lnTo>
                  <a:cubicBezTo>
                    <a:pt x="1528248" y="1442137"/>
                    <a:pt x="1530318" y="1166693"/>
                    <a:pt x="1532387" y="89125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11"/>
          <p:cNvSpPr/>
          <p:nvPr/>
        </p:nvSpPr>
        <p:spPr>
          <a:xfrm flipH="1">
            <a:off x="473040" y="31860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 flipH="1">
            <a:off x="473040" y="278280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7432560" y="266076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7122960" y="225576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7432560" y="40435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 flipH="1">
            <a:off x="7122960" y="363996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 flipH="1">
            <a:off x="3843360" y="263700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 flipH="1">
            <a:off x="3845880" y="400356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 flipH="1">
            <a:off x="3845880" y="452772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5621760" y="255600"/>
            <a:ext cx="24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三元素交错层叠递进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8">
            <a:hlinkClick r:id="rId2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30:4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