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237-4CBB-48F8-8E00-771D435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1E6-6A42-49AA-9091-02D5BC1D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806-4365-4909-A18A-C15463D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B70-8354-4EF0-89A3-65170664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0FA-170C-4887-97BF-2FC96688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E38-EE4C-4AD1-8751-F38339D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3C2E-4EC6-45F3-B96B-2EDBC58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0348-D69B-479E-B628-3BE6090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E10-9778-4072-BE0F-06B979E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220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AD15-F5DB-439D-BA19-791E73EC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40A-C695-4AE9-883F-1B16DB8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4EE-1221-4611-B296-1A6E16D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E6F0-8A8E-4825-958F-5A1A576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8A56-A6DB-459C-992F-0811DFA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0437-F306-41E8-A308-E59669E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E908-B214-4697-9DE3-AB023E88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094-03CC-4896-B149-04782AAB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CC8-38C8-4725-8F19-226827A3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3E-4DDD-4100-BCA6-93D0F52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4D7-D352-49CD-9CB7-4DC8080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220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990-FF47-4816-8631-DB9B35B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3E3-9DF1-4252-A024-15FB2B1F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9AC-EC6F-4268-94A7-0E4D127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988-843A-4940-AB0B-2894E8C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E80-2D80-46FB-8110-31717F39DFA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c0c0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1EE1-5C51-4761-8899-2DB99898E779}" type="slidenum">
              <a:rPr b="0" lang="en-US" sz="1400" spc="-1" strike="noStrike">
                <a:solidFill>
                  <a:srgbClr val="0c0c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E:\PPT动画\345\背景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:\PPT动画\345\条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-260280" y="0"/>
            <a:ext cx="9404280" cy="705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:\PPT动画\345\光.png"/>
          <p:cNvPicPr/>
          <p:nvPr/>
        </p:nvPicPr>
        <p:blipFill>
          <a:blip r:embed="rId4"/>
          <a:stretch/>
        </p:blipFill>
        <p:spPr>
          <a:xfrm>
            <a:off x="-28440" y="189000"/>
            <a:ext cx="9172440" cy="688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E:\PPT动画\345\楼.png"/>
          <p:cNvPicPr/>
          <p:nvPr/>
        </p:nvPicPr>
        <p:blipFill>
          <a:blip r:embed="rId5"/>
          <a:stretch/>
        </p:blipFill>
        <p:spPr>
          <a:xfrm>
            <a:off x="-58680" y="4071960"/>
            <a:ext cx="9202680" cy="29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PPT动画\345\门.png"/>
          <p:cNvPicPr/>
          <p:nvPr/>
        </p:nvPicPr>
        <p:blipFill>
          <a:blip r:embed="rId6"/>
          <a:stretch/>
        </p:blipFill>
        <p:spPr>
          <a:xfrm>
            <a:off x="7763040" y="-122400"/>
            <a:ext cx="2354040" cy="700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:\PPT动画\345\门.png"/>
          <p:cNvPicPr/>
          <p:nvPr/>
        </p:nvPicPr>
        <p:blipFill>
          <a:blip r:embed="rId7"/>
          <a:stretch/>
        </p:blipFill>
        <p:spPr>
          <a:xfrm>
            <a:off x="-798480" y="-112680"/>
            <a:ext cx="2346120" cy="699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52560" y="3645000"/>
            <a:ext cx="3657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260000" y="2277720"/>
            <a:ext cx="66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60360" y="3108240"/>
            <a:ext cx="669636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天安门</a:t>
            </a:r>
            <a:r>
              <a:rPr b="1" lang="en-US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1" strike="noStrike">
                <a:ln w="6480">
                  <a:solidFill>
                    <a:srgbClr val="0c0c0c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50000"/>
                    </a:srgbClr>
                  </a:outerShdw>
                </a:effectLst>
                <a:latin typeface="黑体"/>
              </a:rPr>
              <a:t>模板免费下载</a:t>
            </a:r>
            <a:endParaRPr b="1" lang="en-US" sz="1800" spc="1" strike="noStrike">
              <a:ln w="6480">
                <a:solidFill>
                  <a:srgbClr val="0c0c0c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7512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220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c0c0c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7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a9545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c06464"/>
                </a:gs>
                <a:gs pos="100000">
                  <a:srgbClr val="99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8d8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E:\PPT动画\345\背景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8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E:\PPT动画\345\条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-260280" y="0"/>
            <a:ext cx="9404280" cy="7059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:\PPT动画\345\光.png"/>
          <p:cNvPicPr/>
          <p:nvPr/>
        </p:nvPicPr>
        <p:blipFill>
          <a:blip r:embed="rId3"/>
          <a:stretch/>
        </p:blipFill>
        <p:spPr>
          <a:xfrm>
            <a:off x="-28440" y="-19080"/>
            <a:ext cx="9172440" cy="687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PPT动画\345\楼.png"/>
          <p:cNvPicPr/>
          <p:nvPr/>
        </p:nvPicPr>
        <p:blipFill>
          <a:blip r:embed="rId4"/>
          <a:stretch/>
        </p:blipFill>
        <p:spPr>
          <a:xfrm>
            <a:off x="-58680" y="4071960"/>
            <a:ext cx="920268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PPT动画\345\门.png"/>
          <p:cNvPicPr/>
          <p:nvPr/>
        </p:nvPicPr>
        <p:blipFill>
          <a:blip r:embed="rId5"/>
          <a:stretch/>
        </p:blipFill>
        <p:spPr>
          <a:xfrm>
            <a:off x="7186680" y="-122400"/>
            <a:ext cx="2354040" cy="700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PPT动画\345\门.png"/>
          <p:cNvPicPr/>
          <p:nvPr/>
        </p:nvPicPr>
        <p:blipFill>
          <a:blip r:embed="rId6"/>
          <a:stretch/>
        </p:blipFill>
        <p:spPr>
          <a:xfrm>
            <a:off x="-388800" y="-135000"/>
            <a:ext cx="2346120" cy="69994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3268800" y="227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3746520" y="306864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-0.0044 L -3.88889E-006 -1.48148E-006 E">
                                      <p:cBhvr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-0.00255 L -0.02361 -0.00255 E">
                                      <p:cBhvr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AE2-3D9A-4204-BB9C-E8C7BA564C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http://www.eeppt.com</dc:creator>
  <dc:description>ppt模板下载网站 http://www.eeppt.com</dc:description>
  <dc:language>en-US</dc:language>
  <cp:lastModifiedBy/>
  <dcterms:modified xsi:type="dcterms:W3CDTF">2015-06-14T08:38:49Z</dcterms:modified>
  <cp:revision>1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