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77E-C7F9-49AF-B7B6-B79686D5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1E-5752-4F57-9F52-ABB952A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D8A-C0F1-4AAC-8483-2564AE14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87B-9F5F-45B3-8B57-225AEAC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6BBF-91AF-4429-BEF5-6D786B58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3899-A5E3-4BD0-9298-57E83D24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9F4-43AB-4FF2-B839-30D4B01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BAFB-2247-4836-886E-E05DBD27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473D-6C85-4E5D-A1C1-A90941C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E04-FBBA-40DD-BDA0-AEA19509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12C-0066-469A-82CA-16E5A82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D5E-22B4-4446-BE59-C699542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976-E21E-4C05-8ED2-8155E86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D0FD-F009-4AC7-84A0-68BB7BB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451C-29C8-4E47-9694-6C99872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CD29-3C84-4C58-85D9-A84788D3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2F53-4D9E-41D9-BE04-BFF556AF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B1F-4D68-4C4E-BE7F-5880964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7E1-99BD-454F-854C-5C61807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90C-26FE-40AE-B213-7A6E725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730-656B-4F6D-976E-33BA4C34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769-D624-4C0E-AB15-58AEF4E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08C-F156-4CDB-B51A-FA0C1F2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4FD-ED20-4999-A3A4-C66A620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B830-FC56-4CE8-BC69-D68581AAA7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6783-ED4C-46DA-85EB-7D50D3BB8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65F-FA92-402C-94D6-8FEBA23660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8DE-1E30-4F95-A9E6-81C2230D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rapidppt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39680" y="4260960"/>
            <a:ext cx="6450120" cy="1420560"/>
            <a:chOff x="139680" y="4260960"/>
            <a:chExt cx="6450120" cy="142056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39680" y="4260960"/>
              <a:ext cx="6450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62080" y="4549680"/>
              <a:ext cx="432432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矩形 5" descr=""/>
          <p:cNvPicPr/>
          <p:nvPr/>
        </p:nvPicPr>
        <p:blipFill>
          <a:blip r:embed="rId2"/>
          <a:stretch/>
        </p:blipFill>
        <p:spPr>
          <a:xfrm>
            <a:off x="2487600" y="1962000"/>
            <a:ext cx="1670040" cy="314028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3324240" y="3598920"/>
            <a:ext cx="307800" cy="10522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右箭头 1"/>
          <p:cNvSpPr/>
          <p:nvPr/>
        </p:nvSpPr>
        <p:spPr>
          <a:xfrm rot="20832600">
            <a:off x="866520" y="2534760"/>
            <a:ext cx="5219640" cy="2125800"/>
          </a:xfrm>
          <a:custGeom>
            <a:avLst/>
            <a:gdLst/>
            <a:ahLst/>
            <a:rect l="l" t="t" r="r" b="b"/>
            <a:pathLst>
              <a:path w="5680224" h="2312897">
                <a:moveTo>
                  <a:pt x="1493657" y="1010955"/>
                </a:moveTo>
                <a:lnTo>
                  <a:pt x="1434086" y="1273463"/>
                </a:lnTo>
                <a:lnTo>
                  <a:pt x="0" y="1156300"/>
                </a:lnTo>
                <a:lnTo>
                  <a:pt x="12204" y="1156596"/>
                </a:lnTo>
                <a:lnTo>
                  <a:pt x="1493657" y="1010955"/>
                </a:lnTo>
                <a:close/>
                <a:moveTo>
                  <a:pt x="3924196" y="0"/>
                </a:moveTo>
                <a:lnTo>
                  <a:pt x="5680224" y="1120299"/>
                </a:lnTo>
                <a:lnTo>
                  <a:pt x="3924196" y="2312897"/>
                </a:lnTo>
                <a:lnTo>
                  <a:pt x="4424565" y="1517782"/>
                </a:lnTo>
                <a:lnTo>
                  <a:pt x="2852765" y="1389368"/>
                </a:lnTo>
                <a:cubicBezTo>
                  <a:pt x="2845727" y="1390995"/>
                  <a:pt x="2838572" y="1390760"/>
                  <a:pt x="2831389" y="1389906"/>
                </a:cubicBezTo>
                <a:lnTo>
                  <a:pt x="2819121" y="1386619"/>
                </a:lnTo>
                <a:lnTo>
                  <a:pt x="2788448" y="1384113"/>
                </a:lnTo>
                <a:lnTo>
                  <a:pt x="2790082" y="1376914"/>
                </a:lnTo>
                <a:cubicBezTo>
                  <a:pt x="2714731" y="1340933"/>
                  <a:pt x="2668650" y="1232861"/>
                  <a:pt x="2682986" y="1112243"/>
                </a:cubicBezTo>
                <a:cubicBezTo>
                  <a:pt x="2699818" y="970636"/>
                  <a:pt x="2793549" y="865360"/>
                  <a:pt x="2892341" y="877102"/>
                </a:cubicBezTo>
                <a:lnTo>
                  <a:pt x="2902864" y="879922"/>
                </a:lnTo>
                <a:lnTo>
                  <a:pt x="2904606" y="872245"/>
                </a:lnTo>
                <a:lnTo>
                  <a:pt x="4424565" y="722818"/>
                </a:lnTo>
                <a:lnTo>
                  <a:pt x="3924196" y="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7"/>
          <p:cNvSpPr/>
          <p:nvPr/>
        </p:nvSpPr>
        <p:spPr>
          <a:xfrm rot="20832600">
            <a:off x="4290480" y="2119320"/>
            <a:ext cx="1838520" cy="1063440"/>
          </a:xfrm>
          <a:custGeom>
            <a:avLst/>
            <a:gdLst/>
            <a:ahLst/>
            <a:rect l="l" t="t" r="r" b="b"/>
            <a:pathLst>
              <a:path w="2305318" h="1242812">
                <a:moveTo>
                  <a:pt x="0" y="0"/>
                </a:moveTo>
                <a:lnTo>
                  <a:pt x="2028422" y="1223493"/>
                </a:lnTo>
                <a:lnTo>
                  <a:pt x="2305318" y="1242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8"/>
          <p:cNvSpPr/>
          <p:nvPr/>
        </p:nvSpPr>
        <p:spPr>
          <a:xfrm rot="20832600">
            <a:off x="4562640" y="3129120"/>
            <a:ext cx="1787400" cy="1076040"/>
          </a:xfrm>
          <a:custGeom>
            <a:avLst/>
            <a:gdLst/>
            <a:ahLst/>
            <a:rect l="l" t="t" r="r" b="b"/>
            <a:pathLst>
              <a:path w="2240924" h="1249251">
                <a:moveTo>
                  <a:pt x="1964028" y="0"/>
                </a:moveTo>
                <a:lnTo>
                  <a:pt x="2240924" y="25758"/>
                </a:lnTo>
                <a:lnTo>
                  <a:pt x="0" y="1249251"/>
                </a:lnTo>
                <a:lnTo>
                  <a:pt x="1964028" y="0"/>
                </a:lnTo>
                <a:close/>
              </a:path>
            </a:pathLst>
          </a:cu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任意多边形 9" descr=""/>
          <p:cNvPicPr/>
          <p:nvPr/>
        </p:nvPicPr>
        <p:blipFill>
          <a:blip r:embed="rId3"/>
          <a:stretch/>
        </p:blipFill>
        <p:spPr>
          <a:xfrm>
            <a:off x="2255760" y="1962000"/>
            <a:ext cx="255600" cy="3146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 flipH="1" rot="20856000">
            <a:off x="4083840" y="30636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flipH="1">
            <a:off x="2229840" y="2092320"/>
            <a:ext cx="7290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35680" y="4249800"/>
            <a:ext cx="2184480" cy="459000"/>
            <a:chOff x="5935680" y="4249800"/>
            <a:chExt cx="2184480" cy="459000"/>
          </a:xfrm>
        </p:grpSpPr>
        <p:sp>
          <p:nvSpPr>
            <p:cNvPr id="94" name="TextBox 11"/>
            <p:cNvSpPr/>
            <p:nvPr/>
          </p:nvSpPr>
          <p:spPr>
            <a:xfrm flipH="1">
              <a:off x="5935680" y="42498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1"/>
            <p:cNvSpPr/>
            <p:nvPr/>
          </p:nvSpPr>
          <p:spPr>
            <a:xfrm flipH="1">
              <a:off x="6973920" y="42498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 flipH="1">
            <a:off x="5958000" y="3833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6357240" y="255600"/>
            <a:ext cx="19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突破型递进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>
            <a:hlinkClick r:id="rId4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2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