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7B1-DF3A-4281-B68B-B9FE9D35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D78-B9AC-4DCA-ADE3-CB1FF496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764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6E1-AE62-4FFA-9270-05E7B6B4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4744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732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4744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732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646-7F62-498B-B6F3-A9D56DF5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061C-B853-4303-BED5-0967FF70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D017-967E-48AF-B3FF-7E2AFBD3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B356-8DA8-48F1-9295-FD70A428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EF37-F409-433F-8309-381B9AC9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DF1E-6A23-4E62-9681-8916563D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28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4B36-FDEF-4D72-855B-26B7BE3F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9583-D559-4A91-A31D-6018DB4F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01B-942B-4968-9B3F-F17416D5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764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93C8-82A3-437E-9169-1661F79C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A144-04A2-440F-A014-12D7E853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48EB-B882-405A-A4BF-20A22834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7764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B408-D7A0-4967-8BAE-D4A4C9E0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4744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732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4744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732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D254-CF52-4D44-BCEF-119DB842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52423-7D93-47C0-9252-5CAA5EAD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BA402-BFDD-4929-B1CF-90316E9B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294D6-0D4D-4CBB-942E-F48EB336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22B9E-FC7D-411F-98C7-BF1DA7E2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3536-5A96-4F62-91A7-2006731F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7254-51E8-426D-902A-ED3E3CD3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28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84A8-0427-435C-94A9-6D5A1497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DD609-11DB-42FB-A5CC-32FD2070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7764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469B-B2A1-4989-A555-5E8A8AA6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96B22-D708-4108-A701-C09D452D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85209-00E4-48E9-9141-B9C1F713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7764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2E1C-82BE-4668-844F-E35EA91D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4744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83732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64744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83732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45CA-99A7-449A-AEFD-AE6EE577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40492-94FE-4675-A285-1A870E75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C43FE-CCEA-4018-B545-8743673C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E18D6-76C5-48B7-9FA8-F8BB4DA1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FDB-5106-4DA1-BC2C-7F38E75A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4510C-2E61-4EAE-809E-BEE44BA3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F7BCE-9087-4A8D-843D-464800E5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28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F0B55-94CF-47DF-96C5-950231A2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911D-2932-450A-8B05-8F79F219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7764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4EFE5-59E6-4FE9-A56F-D4071F0F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CB062-2631-4088-93CC-25B0971E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73DAA-E9DD-46CD-8C70-A9831D14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7764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24F2E-D915-47F0-B471-82CC227A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64744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3732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64744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483732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23CE0-4953-4511-842B-F604239E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7FF-5555-408A-97AB-4D1CBDE0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28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96A-503D-4B39-9A5E-25D78841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247-0B4B-446B-9D68-38ADEFB8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764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941-3F1D-4050-A138-C47A9DAB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FDB-48B2-4D70-8B94-EFE8EADA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63264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6925-09E7-4E04-A330-32A51E4D5A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-36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CDE3-4FF9-4E0D-8F4E-17E265B687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-360" y="663264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D223-ECB8-486B-8B18-9B9A4011EB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14264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-360" y="663264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DA9F-CD9B-4200-9C02-B1D7947A69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同一世界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演示模板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0" y="213192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486400" y="3733920"/>
            <a:ext cx="358128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4960" y="4856040"/>
            <a:ext cx="190332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A27A-2E66-480D-800A-D59BDC5476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14:16:57Z</dcterms:created>
  <dc:creator>http://www.eeppt.com</dc:creator>
  <dc:description>ppt模板下载网站 http://www.eeppt.com</dc:description>
  <dc:language>en-US</dc:language>
  <cp:lastModifiedBy/>
  <dcterms:modified xsi:type="dcterms:W3CDTF">2015-06-14T08:39:37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