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0E5-13D1-4361-8FD8-843BEE9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17C-7347-4803-A931-45BBE9F9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468-4912-4E07-879E-1EC41095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591-8286-47E5-BD1D-E797FF30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30A-4B33-4EEA-A5B2-390102B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94A-4670-40AB-A0A6-8175138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0B3-A937-41C4-AC3C-261F1F9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EE1-E082-45D7-B3A5-CD24AD7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BF5-E48C-420F-9BB5-1B5C1BA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E0C-80F2-40CC-92FE-96E3C1C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A26-E39D-4556-BB17-2EF9A527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D7B-0AB0-4C46-821E-CB10AA4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http://images.7083.com/20090308/bizhi-1239521564989.jpg"/>
          <p:cNvPicPr/>
          <p:nvPr/>
        </p:nvPicPr>
        <p:blipFill>
          <a:blip r:embed="rId2"/>
          <a:stretch/>
        </p:blipFill>
        <p:spPr>
          <a:xfrm>
            <a:off x="-225360" y="-168120"/>
            <a:ext cx="9369360" cy="7026120"/>
          </a:xfrm>
          <a:prstGeom prst="rect">
            <a:avLst/>
          </a:prstGeom>
          <a:ln w="0">
            <a:noFill/>
          </a:ln>
        </p:spPr>
      </p:pic>
      <p:pic>
        <p:nvPicPr>
          <p:cNvPr id="1" name="图片 35" descr="4.png"/>
          <p:cNvPicPr/>
          <p:nvPr/>
        </p:nvPicPr>
        <p:blipFill>
          <a:blip r:embed="rId3"/>
          <a:srcRect l="23437" t="63386" r="32177" b="5207"/>
          <a:stretch/>
        </p:blipFill>
        <p:spPr>
          <a:xfrm>
            <a:off x="-1211400" y="4524480"/>
            <a:ext cx="5477040" cy="29052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-235080" y="-3240"/>
            <a:ext cx="5026320" cy="5581800"/>
            <a:chOff x="-235080" y="-3240"/>
            <a:chExt cx="5026320" cy="5581800"/>
          </a:xfrm>
        </p:grpSpPr>
        <p:pic>
          <p:nvPicPr>
            <p:cNvPr id="3" name="椭圆 36" descr=""/>
            <p:cNvPicPr/>
            <p:nvPr/>
          </p:nvPicPr>
          <p:blipFill>
            <a:blip r:embed="rId4"/>
            <a:stretch/>
          </p:blipFill>
          <p:spPr>
            <a:xfrm>
              <a:off x="-235080" y="-3240"/>
              <a:ext cx="5026320" cy="55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08680" y="818280"/>
              <a:ext cx="3542760" cy="39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-1216080" y="5565600"/>
            <a:ext cx="5489640" cy="1871640"/>
            <a:chOff x="-1216080" y="5565600"/>
            <a:chExt cx="5489640" cy="1871640"/>
          </a:xfrm>
        </p:grpSpPr>
        <p:pic>
          <p:nvPicPr>
            <p:cNvPr id="6" name="椭圆 37" descr=""/>
            <p:cNvPicPr/>
            <p:nvPr/>
          </p:nvPicPr>
          <p:blipFill>
            <a:blip r:embed="rId5"/>
            <a:stretch/>
          </p:blipFill>
          <p:spPr>
            <a:xfrm>
              <a:off x="-1216080" y="5565600"/>
              <a:ext cx="5489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-408240" y="5843520"/>
              <a:ext cx="38707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0CF8-D4E8-4CAB-B63F-87BEA0127B2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12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唯美水墨荷花动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CD9-5250-457A-8A40-1AB591FF4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5:26:35Z</dcterms:created>
  <dc:creator>http://www.eeppt.com</dc:creator>
  <dc:description>ppt模板下载网站 http://www.eeppt.com</dc:description>
  <dc:language>en-US</dc:language>
  <cp:lastModifiedBy/>
  <dcterms:modified xsi:type="dcterms:W3CDTF">2015-06-14T08:40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