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CA6A-7306-4E58-B5AE-EBD1DBE35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BB14-4E11-4CB3-9F9A-F3FAE4ED0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26B-A02E-4B28-9B08-8D28950AD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169F-B5E7-4A00-A7C5-075616C57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85E1-08DA-4332-B59F-6FA5DB0CB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78B9-53D4-41CB-A9A9-E7766AB35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F8F7-727D-421F-999D-B3A08FC57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853E-7E52-4C09-B89E-678639B29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9353-B803-43B7-A317-165E3FE05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D3E7-EB7C-400A-8C0C-19B5FE76E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55A1-9A6A-4C50-BCA0-5AACDA61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F526-2FB8-4453-8CA9-F8FBB7660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grayscl/>
            <a:lum bright="-18000"/>
          </a:blip>
          <a:srcRect l="0" t="0" r="0" b="65994"/>
          <a:stretch/>
        </p:blipFill>
        <p:spPr>
          <a:xfrm>
            <a:off x="0" y="3240"/>
            <a:ext cx="9144000" cy="1060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53820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BF5B73F-B3E8-4715-AD9A-1FEBAA31C0E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111480"/>
            <a:ext cx="9144000" cy="3741840"/>
          </a:xfrm>
          <a:prstGeom prst="rect">
            <a:avLst/>
          </a:prstGeom>
          <a:gradFill rotWithShape="0">
            <a:gsLst>
              <a:gs pos="0">
                <a:srgbClr val="c02500"/>
              </a:gs>
              <a:gs pos="100000">
                <a:srgbClr val="460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0"/>
            <a:ext cx="9144000" cy="311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108240"/>
            <a:ext cx="91440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11160"/>
            <a:ext cx="9144000" cy="228312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36100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18.png"/><Relationship Id="rId4" Type="http://schemas.openxmlformats.org/officeDocument/2006/relationships/image" Target="../media/image3.wmf"/><Relationship Id="rId5" Type="http://schemas.openxmlformats.org/officeDocument/2006/relationships/image" Target="../media/image18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3610080"/>
            <a:ext cx="619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向成功奔跑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92360" y="468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7280" y="1268280"/>
            <a:ext cx="178740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bc000d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bc000d"/>
              </a:solidFill>
              <a:latin typeface="黑体"/>
              <a:ea typeface="黑体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603760" y="1917360"/>
            <a:ext cx="1501920" cy="1515960"/>
            <a:chOff x="5603760" y="1917360"/>
            <a:chExt cx="1501920" cy="1515960"/>
          </a:xfrm>
        </p:grpSpPr>
        <p:sp>
          <p:nvSpPr>
            <p:cNvPr id="292" name="未知"/>
            <p:cNvSpPr/>
            <p:nvPr/>
          </p:nvSpPr>
          <p:spPr>
            <a:xfrm>
              <a:off x="5672160" y="298584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603760" y="1917360"/>
              <a:ext cx="148896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5837040" y="2323800"/>
              <a:ext cx="211320" cy="4996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6095880" y="2314440"/>
              <a:ext cx="295200" cy="520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426000" y="2314440"/>
              <a:ext cx="41616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5668920" y="2784240"/>
              <a:ext cx="142380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83000" y="1917360"/>
            <a:ext cx="1501200" cy="1515960"/>
            <a:chOff x="2583000" y="1917360"/>
            <a:chExt cx="1501200" cy="1515960"/>
          </a:xfrm>
        </p:grpSpPr>
        <p:sp>
          <p:nvSpPr>
            <p:cNvPr id="299" name="未知"/>
            <p:cNvSpPr/>
            <p:nvPr/>
          </p:nvSpPr>
          <p:spPr>
            <a:xfrm>
              <a:off x="2651040" y="298584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583000" y="1917360"/>
              <a:ext cx="148860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3298680" y="2314440"/>
              <a:ext cx="41544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647800" y="2784240"/>
              <a:ext cx="142344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917440" y="2336760"/>
              <a:ext cx="309240" cy="523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217520" y="3882960"/>
            <a:ext cx="1501920" cy="1514520"/>
            <a:chOff x="1217520" y="3882960"/>
            <a:chExt cx="1501920" cy="1514520"/>
          </a:xfrm>
        </p:grpSpPr>
        <p:sp>
          <p:nvSpPr>
            <p:cNvPr id="305" name="未知"/>
            <p:cNvSpPr/>
            <p:nvPr/>
          </p:nvSpPr>
          <p:spPr>
            <a:xfrm>
              <a:off x="1285920" y="495000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1217520" y="3882960"/>
              <a:ext cx="148896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1450800" y="4287960"/>
              <a:ext cx="211320" cy="501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2039760" y="4280040"/>
              <a:ext cx="41616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282680" y="4748400"/>
              <a:ext cx="142380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1709640" y="4287960"/>
              <a:ext cx="309600" cy="5238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179960" y="3882960"/>
            <a:ext cx="1501200" cy="1514520"/>
            <a:chOff x="4179960" y="3882960"/>
            <a:chExt cx="1501200" cy="1514520"/>
          </a:xfrm>
        </p:grpSpPr>
        <p:sp>
          <p:nvSpPr>
            <p:cNvPr id="312" name="未知"/>
            <p:cNvSpPr/>
            <p:nvPr/>
          </p:nvSpPr>
          <p:spPr>
            <a:xfrm>
              <a:off x="4248000" y="495000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4179960" y="3882960"/>
              <a:ext cx="148860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067000" y="4280040"/>
              <a:ext cx="41400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4244760" y="4748400"/>
              <a:ext cx="142344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393800" y="4284720"/>
              <a:ext cx="628200" cy="520200"/>
              <a:chOff x="4393800" y="4284720"/>
              <a:chExt cx="628200" cy="520200"/>
            </a:xfrm>
          </p:grpSpPr>
          <p:sp>
            <p:nvSpPr>
              <p:cNvPr id="317" name="未知"/>
              <p:cNvSpPr/>
              <p:nvPr/>
            </p:nvSpPr>
            <p:spPr>
              <a:xfrm>
                <a:off x="4393800" y="4284720"/>
                <a:ext cx="289080" cy="51408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4720320" y="4290840"/>
                <a:ext cx="301680" cy="51408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2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472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7C98-D3C2-4EF8-8B1C-79108F5C4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900000" y="2144880"/>
            <a:ext cx="7344000" cy="2813040"/>
            <a:chOff x="900000" y="2144880"/>
            <a:chExt cx="7344000" cy="2813040"/>
          </a:xfrm>
        </p:grpSpPr>
        <p:sp>
          <p:nvSpPr>
            <p:cNvPr id="330" name=""/>
            <p:cNvSpPr/>
            <p:nvPr/>
          </p:nvSpPr>
          <p:spPr>
            <a:xfrm>
              <a:off x="900000" y="2151720"/>
              <a:ext cx="5257080" cy="27946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83000" y="2144880"/>
              <a:ext cx="2061000" cy="2813040"/>
            </a:xfrm>
            <a:prstGeom prst="rect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bc0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882360" y="4965480"/>
            <a:ext cx="7289640" cy="318960"/>
          </a:xfrm>
          <a:custGeom>
            <a:avLst/>
            <a:gdLst>
              <a:gd name="textAreaLeft" fmla="*/ 590400 w 7289640"/>
              <a:gd name="textAreaRight" fmla="*/ 6699240 w 728964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D9A9-72B6-424F-A241-D2F42DF38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800 w 1344600"/>
              <a:gd name="textAreaRight" fmla="*/ 119880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9720 w 1341360"/>
              <a:gd name="textAreaRight" fmla="*/ 1151640 w 134136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9720 w 1341720"/>
              <a:gd name="textAreaRight" fmla="*/ 1152000 w 134172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45" idx="0"/>
            <a:endCxn id="346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b2b2b2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132000" y="3903840"/>
            <a:ext cx="0" cy="6206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02360" y="3903840"/>
            <a:ext cx="0" cy="65376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560005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16440 w 2238120"/>
              <a:gd name="textAreaRight" fmla="*/ 1921680 w 2238120"/>
              <a:gd name="textAreaTop" fmla="*/ 18000 h 128880"/>
              <a:gd name="textAreaBottom" fmla="*/ 11088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grayscl/>
            <a:lum contrast="6000"/>
          </a:blip>
          <a:srcRect l="0" t="0" r="121" b="210"/>
          <a:stretch/>
        </p:blipFill>
        <p:spPr>
          <a:xfrm>
            <a:off x="1095480" y="3851280"/>
            <a:ext cx="769680" cy="5889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>
            <a:grayscl/>
            <a:lum contrast="12000"/>
          </a:blip>
          <a:srcRect l="0" t="0" r="44" b="52"/>
          <a:stretch/>
        </p:blipFill>
        <p:spPr>
          <a:xfrm>
            <a:off x="2739960" y="3846600"/>
            <a:ext cx="696960" cy="58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>
            <a:grayscl/>
            <a:lum contrast="6000"/>
          </a:blip>
          <a:srcRect l="0" t="0" r="0" b="93"/>
          <a:stretch/>
        </p:blipFill>
        <p:spPr>
          <a:xfrm>
            <a:off x="4138560" y="3776760"/>
            <a:ext cx="849240" cy="660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>
            <a:grayscl/>
            <a:lum contrast="12000"/>
          </a:blip>
          <a:srcRect l="0" t="0" r="166" b="147"/>
          <a:stretch/>
        </p:blipFill>
        <p:spPr>
          <a:xfrm>
            <a:off x="5688000" y="3809880"/>
            <a:ext cx="739800" cy="6336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>
            <a:grayscl/>
            <a:lum contrast="24000"/>
          </a:blip>
          <a:srcRect l="0" t="0" r="156" b="-46"/>
          <a:stretch/>
        </p:blipFill>
        <p:spPr>
          <a:xfrm>
            <a:off x="7068960" y="3755880"/>
            <a:ext cx="787680" cy="681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86480 w 2304720"/>
              <a:gd name="textAreaRight" fmla="*/ 2118240 w 2304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bc000d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81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383" name="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386" name="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389" name="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392" name="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395" name="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398" name="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1" name="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2" name="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3" name="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4" name="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5" name="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07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08" name="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未知"/>
            <p:cNvSpPr/>
            <p:nvPr/>
          </p:nvSpPr>
          <p:spPr>
            <a:xfrm rot="16200000">
              <a:off x="3876120" y="307224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 rot="5400000">
              <a:off x="421416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2" name="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6" name="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4" name="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8" name="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26" idx="1"/>
            <a:endCxn id="42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ff0517"/>
            </a:solidFill>
            <a:miter/>
          </a:ln>
        </p:spPr>
      </p:cxnSp>
      <p:cxnSp>
        <p:nvCxnSpPr>
          <p:cNvPr id="440" name=""/>
          <p:cNvCxnSpPr>
            <a:stCxn id="42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41" name=""/>
          <p:cNvCxnSpPr>
            <a:stCxn id="426" idx="2"/>
            <a:endCxn id="42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42" name=""/>
          <p:cNvCxnSpPr>
            <a:stCxn id="430" idx="2"/>
            <a:endCxn id="43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48684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cxnSp>
        <p:nvCxnSpPr>
          <p:cNvPr id="443" name=""/>
          <p:cNvCxnSpPr>
            <a:stCxn id="434" idx="2"/>
            <a:endCxn id="43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ff0517"/>
            </a:solidFill>
            <a:miter/>
            <a:tailEnd len="lg" type="triangle" w="lg"/>
          </a:ln>
        </p:spPr>
      </p:cxnSp>
      <p:sp>
        <p:nvSpPr>
          <p:cNvPr id="444" name=""/>
          <p:cNvSpPr/>
          <p:nvPr/>
        </p:nvSpPr>
        <p:spPr>
          <a:xfrm>
            <a:off x="6986520" y="2706840"/>
            <a:ext cx="1633680" cy="8334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86520" y="3681360"/>
            <a:ext cx="1633680" cy="83340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28" idx="3"/>
            <a:endCxn id="430" idx="3"/>
          </p:cNvCxnSpPr>
          <p:nvPr/>
        </p:nvCxnSpPr>
        <p:spPr>
          <a:xfrm>
            <a:off x="6429240" y="285120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ff0517"/>
            </a:solidFill>
            <a:miter/>
          </a:ln>
        </p:spPr>
      </p:cxnSp>
      <p:cxnSp>
        <p:nvCxnSpPr>
          <p:cNvPr id="447" name=""/>
          <p:cNvCxnSpPr>
            <a:stCxn id="434" idx="3"/>
            <a:endCxn id="432" idx="3"/>
          </p:cNvCxnSpPr>
          <p:nvPr/>
        </p:nvCxnSpPr>
        <p:spPr>
          <a:xfrm flipH="1" flipV="1">
            <a:off x="6428880" y="3820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ff0517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602400" y="3057480"/>
            <a:ext cx="384120" cy="0"/>
          </a:xfrm>
          <a:prstGeom prst="line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4029120"/>
            <a:ext cx="384120" cy="0"/>
          </a:xfrm>
          <a:prstGeom prst="line">
            <a:avLst/>
          </a:prstGeom>
          <a:ln w="9360">
            <a:solidFill>
              <a:srgbClr val="ff0517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75360" y="2709720"/>
            <a:ext cx="164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75360" y="3691080"/>
            <a:ext cx="1644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7852-49B2-462D-802D-6E47A105A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31" descr=""/>
          <p:cNvPicPr/>
          <p:nvPr/>
        </p:nvPicPr>
        <p:blipFill>
          <a:blip r:embed="rId1"/>
          <a:stretch/>
        </p:blipFill>
        <p:spPr>
          <a:xfrm>
            <a:off x="469800" y="1469880"/>
            <a:ext cx="4471920" cy="4175280"/>
          </a:xfrm>
          <a:prstGeom prst="rect">
            <a:avLst/>
          </a:prstGeom>
          <a:ln w="0">
            <a:noFill/>
          </a:ln>
        </p:spPr>
      </p:pic>
      <p:sp>
        <p:nvSpPr>
          <p:cNvPr id="453" name="未知"/>
          <p:cNvSpPr/>
          <p:nvPr/>
        </p:nvSpPr>
        <p:spPr>
          <a:xfrm>
            <a:off x="1243080" y="1913040"/>
            <a:ext cx="2227320" cy="9651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292760" y="4307400"/>
            <a:ext cx="2265480" cy="953640"/>
            <a:chOff x="1292760" y="4307400"/>
            <a:chExt cx="2265480" cy="953640"/>
          </a:xfrm>
        </p:grpSpPr>
        <p:grpSp>
          <p:nvGrpSpPr>
            <p:cNvPr id="455" name=""/>
            <p:cNvGrpSpPr/>
            <p:nvPr/>
          </p:nvGrpSpPr>
          <p:grpSpPr>
            <a:xfrm>
              <a:off x="1292760" y="4412520"/>
              <a:ext cx="1891080" cy="782640"/>
              <a:chOff x="1292760" y="4412520"/>
              <a:chExt cx="1891080" cy="782640"/>
            </a:xfrm>
          </p:grpSpPr>
          <p:sp>
            <p:nvSpPr>
              <p:cNvPr id="456" name=""/>
              <p:cNvSpPr/>
              <p:nvPr/>
            </p:nvSpPr>
            <p:spPr>
              <a:xfrm flipH="1" rot="6630600">
                <a:off x="1823040" y="4123440"/>
                <a:ext cx="32652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5815200">
                <a:off x="2038680" y="4194720"/>
                <a:ext cx="32616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5520000">
                <a:off x="2169000" y="4204080"/>
                <a:ext cx="32616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rot="4987800">
                <a:off x="2325960" y="4210560"/>
                <a:ext cx="32580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702080" y="4307400"/>
              <a:ext cx="1856160" cy="953640"/>
              <a:chOff x="1702080" y="4307400"/>
              <a:chExt cx="1856160" cy="953640"/>
            </a:xfrm>
          </p:grpSpPr>
          <p:sp>
            <p:nvSpPr>
              <p:cNvPr id="461" name=""/>
              <p:cNvSpPr/>
              <p:nvPr/>
            </p:nvSpPr>
            <p:spPr>
              <a:xfrm flipH="1" rot="5278200">
                <a:off x="2223720" y="421668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4462800">
                <a:off x="2450880" y="419976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4167000">
                <a:off x="2574360" y="415836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3634800">
                <a:off x="2720520" y="410364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670280" y="2143080"/>
            <a:ext cx="3286440" cy="371520"/>
          </a:xfrm>
          <a:prstGeom prst="rect">
            <a:avLst/>
          </a:prstGeom>
          <a:gradFill rotWithShape="0">
            <a:gsLst>
              <a:gs pos="0">
                <a:srgbClr val="3a0004"/>
              </a:gs>
              <a:gs pos="100000">
                <a:srgbClr val="24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70280" y="2577960"/>
            <a:ext cx="3286440" cy="2478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4669920" y="1895040"/>
            <a:ext cx="3286440" cy="247680"/>
          </a:xfrm>
          <a:custGeom>
            <a:avLst/>
            <a:gdLst>
              <a:gd name="textAreaLeft" fmla="*/ 730080 w 3286440"/>
              <a:gd name="textAreaRight" fmla="*/ 2556360 w 3286440"/>
              <a:gd name="textAreaTop" fmla="*/ 55080 h 247680"/>
              <a:gd name="textAreaBottom" fmla="*/ 1926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3b3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4669920" y="5073480"/>
            <a:ext cx="3286440" cy="246240"/>
          </a:xfrm>
          <a:custGeom>
            <a:avLst/>
            <a:gdLst>
              <a:gd name="textAreaLeft" fmla="*/ 266040 w 3286440"/>
              <a:gd name="textAreaRight" fmla="*/ 3020400 w 3286440"/>
              <a:gd name="textAreaTop" fmla="*/ 19800 h 246240"/>
              <a:gd name="textAreaBottom" fmla="*/ 22644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ededed"/>
              </a:gs>
              <a:gs pos="50000">
                <a:srgbClr val="b2b2b2"/>
              </a:gs>
              <a:gs pos="100000">
                <a:srgbClr val="ededed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743920" y="4775400"/>
            <a:ext cx="1130400" cy="1126440"/>
            <a:chOff x="2743920" y="4775400"/>
            <a:chExt cx="1130400" cy="1126440"/>
          </a:xfrm>
        </p:grpSpPr>
        <p:grpSp>
          <p:nvGrpSpPr>
            <p:cNvPr id="475" name=""/>
            <p:cNvGrpSpPr/>
            <p:nvPr/>
          </p:nvGrpSpPr>
          <p:grpSpPr>
            <a:xfrm>
              <a:off x="2743920" y="4775400"/>
              <a:ext cx="1130400" cy="1126440"/>
              <a:chOff x="2743920" y="4775400"/>
              <a:chExt cx="1130400" cy="1126440"/>
            </a:xfrm>
          </p:grpSpPr>
          <p:sp>
            <p:nvSpPr>
              <p:cNvPr id="476" name=""/>
              <p:cNvSpPr/>
              <p:nvPr/>
            </p:nvSpPr>
            <p:spPr>
              <a:xfrm rot="649800">
                <a:off x="282564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649800">
                <a:off x="288000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020a"/>
                  </a:gs>
                  <a:gs pos="100000">
                    <a:srgbClr val="ff0517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未知"/>
            <p:cNvSpPr/>
            <p:nvPr/>
          </p:nvSpPr>
          <p:spPr>
            <a:xfrm rot="16200000">
              <a:off x="3059280" y="514908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 rot="5400000">
              <a:off x="318024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807560" y="3169080"/>
            <a:ext cx="1130040" cy="1126440"/>
            <a:chOff x="1807560" y="3169080"/>
            <a:chExt cx="1130040" cy="1126440"/>
          </a:xfrm>
        </p:grpSpPr>
        <p:grpSp>
          <p:nvGrpSpPr>
            <p:cNvPr id="481" name=""/>
            <p:cNvGrpSpPr/>
            <p:nvPr/>
          </p:nvGrpSpPr>
          <p:grpSpPr>
            <a:xfrm>
              <a:off x="1807560" y="3169080"/>
              <a:ext cx="1130040" cy="1126440"/>
              <a:chOff x="1807560" y="3169080"/>
              <a:chExt cx="1130040" cy="1126440"/>
            </a:xfrm>
          </p:grpSpPr>
          <p:sp>
            <p:nvSpPr>
              <p:cNvPr id="482" name=""/>
              <p:cNvSpPr/>
              <p:nvPr/>
            </p:nvSpPr>
            <p:spPr>
              <a:xfrm rot="649800">
                <a:off x="1889280" y="32511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649800">
                <a:off x="1943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560005"/>
                  </a:gs>
                  <a:gs pos="100000">
                    <a:srgbClr val="bc000d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未知"/>
            <p:cNvSpPr/>
            <p:nvPr/>
          </p:nvSpPr>
          <p:spPr>
            <a:xfrm rot="16200000">
              <a:off x="2122560" y="354240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 rot="5400000">
              <a:off x="2243160" y="318132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88600" y="4775400"/>
            <a:ext cx="1130400" cy="1126440"/>
            <a:chOff x="5088600" y="4775400"/>
            <a:chExt cx="1130400" cy="1126440"/>
          </a:xfrm>
        </p:grpSpPr>
        <p:grpSp>
          <p:nvGrpSpPr>
            <p:cNvPr id="487" name=""/>
            <p:cNvGrpSpPr/>
            <p:nvPr/>
          </p:nvGrpSpPr>
          <p:grpSpPr>
            <a:xfrm>
              <a:off x="5088600" y="4775400"/>
              <a:ext cx="1130400" cy="1126440"/>
              <a:chOff x="5088600" y="4775400"/>
              <a:chExt cx="1130400" cy="1126440"/>
            </a:xfrm>
          </p:grpSpPr>
          <p:sp>
            <p:nvSpPr>
              <p:cNvPr id="488" name=""/>
              <p:cNvSpPr/>
              <p:nvPr/>
            </p:nvSpPr>
            <p:spPr>
              <a:xfrm rot="649800">
                <a:off x="517032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49800">
                <a:off x="522468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a0001"/>
                  </a:gs>
                  <a:gs pos="100000">
                    <a:srgbClr val="3a0004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未知"/>
            <p:cNvSpPr/>
            <p:nvPr/>
          </p:nvSpPr>
          <p:spPr>
            <a:xfrm rot="16200000">
              <a:off x="5403960" y="514908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 rot="5400000">
              <a:off x="552492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743920" y="1560600"/>
            <a:ext cx="1130400" cy="1126440"/>
            <a:chOff x="2743920" y="1560600"/>
            <a:chExt cx="1130400" cy="1126440"/>
          </a:xfrm>
        </p:grpSpPr>
        <p:grpSp>
          <p:nvGrpSpPr>
            <p:cNvPr id="493" name=""/>
            <p:cNvGrpSpPr/>
            <p:nvPr/>
          </p:nvGrpSpPr>
          <p:grpSpPr>
            <a:xfrm>
              <a:off x="2743920" y="1560600"/>
              <a:ext cx="1130400" cy="1126440"/>
              <a:chOff x="2743920" y="1560600"/>
              <a:chExt cx="1130400" cy="1126440"/>
            </a:xfrm>
          </p:grpSpPr>
          <p:sp>
            <p:nvSpPr>
              <p:cNvPr id="494" name=""/>
              <p:cNvSpPr/>
              <p:nvPr/>
            </p:nvSpPr>
            <p:spPr>
              <a:xfrm rot="649800">
                <a:off x="282564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649800">
                <a:off x="288000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1a0001"/>
                  </a:gs>
                  <a:gs pos="100000">
                    <a:srgbClr val="3a0004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未知"/>
            <p:cNvSpPr/>
            <p:nvPr/>
          </p:nvSpPr>
          <p:spPr>
            <a:xfrm rot="16200000">
              <a:off x="3059280" y="193428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 rot="5400000">
              <a:off x="318024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088600" y="1560600"/>
            <a:ext cx="1130400" cy="1126440"/>
            <a:chOff x="5088600" y="1560600"/>
            <a:chExt cx="1130400" cy="1126440"/>
          </a:xfrm>
        </p:grpSpPr>
        <p:grpSp>
          <p:nvGrpSpPr>
            <p:cNvPr id="499" name=""/>
            <p:cNvGrpSpPr/>
            <p:nvPr/>
          </p:nvGrpSpPr>
          <p:grpSpPr>
            <a:xfrm>
              <a:off x="5088600" y="1560600"/>
              <a:ext cx="1130400" cy="1126440"/>
              <a:chOff x="5088600" y="1560600"/>
              <a:chExt cx="1130400" cy="1126440"/>
            </a:xfrm>
          </p:grpSpPr>
          <p:sp>
            <p:nvSpPr>
              <p:cNvPr id="500" name=""/>
              <p:cNvSpPr/>
              <p:nvPr/>
            </p:nvSpPr>
            <p:spPr>
              <a:xfrm rot="649800">
                <a:off x="517032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649800">
                <a:off x="522468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020a"/>
                  </a:gs>
                  <a:gs pos="100000">
                    <a:srgbClr val="ff0517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未知"/>
            <p:cNvSpPr/>
            <p:nvPr/>
          </p:nvSpPr>
          <p:spPr>
            <a:xfrm rot="16200000">
              <a:off x="5403960" y="193428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 rot="5400000">
              <a:off x="552492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55560" y="3168720"/>
            <a:ext cx="1130400" cy="1126440"/>
            <a:chOff x="6055560" y="3168720"/>
            <a:chExt cx="1130400" cy="1126440"/>
          </a:xfrm>
        </p:grpSpPr>
        <p:grpSp>
          <p:nvGrpSpPr>
            <p:cNvPr id="505" name=""/>
            <p:cNvGrpSpPr/>
            <p:nvPr/>
          </p:nvGrpSpPr>
          <p:grpSpPr>
            <a:xfrm>
              <a:off x="6055560" y="3168720"/>
              <a:ext cx="1130400" cy="1126440"/>
              <a:chOff x="6055560" y="3168720"/>
              <a:chExt cx="1130400" cy="1126440"/>
            </a:xfrm>
          </p:grpSpPr>
          <p:sp>
            <p:nvSpPr>
              <p:cNvPr id="506" name=""/>
              <p:cNvSpPr/>
              <p:nvPr/>
            </p:nvSpPr>
            <p:spPr>
              <a:xfrm rot="649800">
                <a:off x="6137280" y="32508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649800">
                <a:off x="6191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560005"/>
                  </a:gs>
                  <a:gs pos="100000">
                    <a:srgbClr val="bc000d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未知"/>
            <p:cNvSpPr/>
            <p:nvPr/>
          </p:nvSpPr>
          <p:spPr>
            <a:xfrm rot="16200000">
              <a:off x="6370920" y="35424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 rot="5400000">
              <a:off x="6491880" y="318132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bc00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033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856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4528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6856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4528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81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EDB4-60A4-4257-807A-C234EF236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13200 w 1852560"/>
              <a:gd name="textAreaRight" fmla="*/ 1539360 w 1852560"/>
              <a:gd name="textAreaTop" fmla="*/ 77040 h 455760"/>
              <a:gd name="textAreaBottom" fmla="*/ 3787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80240 w 2840040"/>
              <a:gd name="textAreaRight" fmla="*/ 2359800 w 2840040"/>
              <a:gd name="textAreaTop" fmla="*/ 118800 h 703080"/>
              <a:gd name="textAreaBottom" fmla="*/ 58428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38720 w 4367160"/>
              <a:gd name="textAreaRight" fmla="*/ 3628440 w 4367160"/>
              <a:gd name="textAreaTop" fmla="*/ 182520 h 1079280"/>
              <a:gd name="textAreaBottom" fmla="*/ 8967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56880 w 4351320"/>
              <a:gd name="textAreaRight" fmla="*/ 3394440 w 43513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62400 w 3013200"/>
              <a:gd name="textAreaRight" fmla="*/ 2350800 w 30132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624600 w 2840040"/>
              <a:gd name="textAreaRight" fmla="*/ 2215440 w 2840040"/>
              <a:gd name="textAreaTop" fmla="*/ 39240 h 179640"/>
              <a:gd name="textAreaBottom" fmla="*/ 1404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29880 h 136440"/>
              <a:gd name="textAreaBottom" fmla="*/ 10656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55080 h 250920"/>
              <a:gd name="textAreaBottom" fmla="*/ 1958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44440 w 1112760"/>
              <a:gd name="textAreaRight" fmla="*/ 868320 w 111276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8593-B6BE-450B-ACCA-F1EA569DEA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963800" y="1700280"/>
            <a:ext cx="1611360" cy="15858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981000" y="3263760"/>
            <a:ext cx="718524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8432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27440" y="3838680"/>
            <a:ext cx="1711080" cy="140472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3a0004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4500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00720" y="3838680"/>
            <a:ext cx="1709640" cy="1404720"/>
          </a:xfrm>
          <a:prstGeom prst="rightArrowCallout">
            <a:avLst>
              <a:gd name="adj1" fmla="val 50005"/>
              <a:gd name="adj2" fmla="val 25000"/>
              <a:gd name="adj3" fmla="val 12052"/>
              <a:gd name="adj4" fmla="val 90097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76600" y="33400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未知"/>
          <p:cNvSpPr/>
          <p:nvPr/>
        </p:nvSpPr>
        <p:spPr>
          <a:xfrm>
            <a:off x="10904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未知"/>
          <p:cNvSpPr/>
          <p:nvPr/>
        </p:nvSpPr>
        <p:spPr>
          <a:xfrm>
            <a:off x="2833560" y="3844800"/>
            <a:ext cx="139248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未知"/>
          <p:cNvSpPr/>
          <p:nvPr/>
        </p:nvSpPr>
        <p:spPr>
          <a:xfrm>
            <a:off x="45482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未知"/>
          <p:cNvSpPr/>
          <p:nvPr/>
        </p:nvSpPr>
        <p:spPr>
          <a:xfrm>
            <a:off x="630396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8252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160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032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9748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0800000">
            <a:off x="971640" y="5346360"/>
            <a:ext cx="7200720" cy="31896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73160" y="33400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8304-5311-4C61-8626-2972FBA4B1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29560 w 6537240"/>
              <a:gd name="textAreaRight" fmla="*/ 6007680 w 6537240"/>
              <a:gd name="textAreaTop" fmla="*/ 13320 h 166680"/>
              <a:gd name="textAreaBottom" fmla="*/ 15336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46B1-B9CB-4921-9402-470F7C4904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90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99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4" name="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108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3" name="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117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960"/>
              <a:gd name="textAreaBottom" fmla="*/ 15948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222F-3703-4F7C-951A-A6DDADF99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58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59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5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9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4" name="" descr="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59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5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ff0517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9" name="" descr="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5" name="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0000">
                  <a:alpha val="20000"/>
                </a:srgbClr>
              </a:gs>
              <a:gs pos="100000">
                <a:srgbClr val="99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0517">
                  <a:alpha val="20000"/>
                </a:srgbClr>
              </a:gs>
              <a:gs pos="100000">
                <a:srgbClr val="ff0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FAA7-C431-452A-8370-6D98D96CD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b2b2b2">
                  <a:alpha val="90196"/>
                </a:srgbClr>
              </a:gs>
              <a:gs pos="50000">
                <a:srgbClr val="ffffff"/>
              </a:gs>
              <a:gs pos="100000">
                <a:srgbClr val="b2b2b2">
                  <a:alpha val="90196"/>
                </a:srgbClr>
              </a:gs>
            </a:gsLst>
            <a:lin ang="135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b2b2b2">
                  <a:alpha val="90196"/>
                </a:srgbClr>
              </a:gs>
              <a:gs pos="50000">
                <a:srgbClr val="ffffff"/>
              </a:gs>
              <a:gs pos="100000">
                <a:srgbClr val="b2b2b2">
                  <a:alpha val="90196"/>
                </a:srgbClr>
              </a:gs>
            </a:gsLst>
            <a:lin ang="90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61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620" name="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5" name="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c6c6c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517"/>
              </a:gs>
              <a:gs pos="100000">
                <a:srgbClr val="fe495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c000d"/>
              </a:gs>
              <a:gs pos="100000">
                <a:srgbClr val="cd454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a0004"/>
              </a:gs>
              <a:gs pos="100000">
                <a:srgbClr val="6f45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3b3b"/>
              </a:gs>
              <a:gs pos="100000">
                <a:srgbClr val="fe70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eb4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F0E6-F087-4B04-8AAE-5FCAF9C9D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未知"/>
          <p:cNvSpPr/>
          <p:nvPr/>
        </p:nvSpPr>
        <p:spPr>
          <a:xfrm>
            <a:off x="2494080" y="-3833640"/>
            <a:ext cx="4103640" cy="1374120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55600 w 3157560"/>
              <a:gd name="textAreaRight" fmla="*/ 2901960 w 315756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1720 w 3230640"/>
              <a:gd name="textAreaRight" fmla="*/ 2968920 w 323064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FDF3-6B70-4491-A27A-9C78202150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3240"/>
            <a:ext cx="9144000" cy="31179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0" y="3111480"/>
            <a:ext cx="9144000" cy="3741840"/>
          </a:xfrm>
          <a:prstGeom prst="rect">
            <a:avLst/>
          </a:prstGeom>
          <a:gradFill rotWithShape="0">
            <a:gsLst>
              <a:gs pos="0">
                <a:srgbClr val="c02500"/>
              </a:gs>
              <a:gs pos="100000">
                <a:srgbClr val="460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1811160"/>
            <a:ext cx="9144000" cy="2283120"/>
          </a:xfrm>
          <a:prstGeom prst="rect">
            <a:avLst/>
          </a:prstGeom>
          <a:gradFill rotWithShape="0">
            <a:gsLst>
              <a:gs pos="0">
                <a:srgbClr val="ffffff">
                  <a:alpha val="34117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108240"/>
            <a:ext cx="91440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BC5C-E2B9-4989-9DFB-9FEC9FB848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CEE6-ED83-4382-A07A-9615949F8C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0" name="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68560"/>
              <a:gd name="textAreaBottom" fmla="*/ 23940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4" name="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2E13-DE36-452A-A43F-1EC9D47F0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1150560" y="2948040"/>
            <a:ext cx="2087640" cy="141120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1150560" y="2722680"/>
            <a:ext cx="2087640" cy="217440"/>
          </a:xfrm>
          <a:custGeom>
            <a:avLst/>
            <a:gdLst>
              <a:gd name="textAreaLeft" fmla="*/ 463680 w 2087640"/>
              <a:gd name="textAreaRight" fmla="*/ 1623960 w 2087640"/>
              <a:gd name="textAreaTop" fmla="*/ 48240 h 217440"/>
              <a:gd name="textAreaBottom" fmla="*/ 1692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2" idx="1"/>
          </p:cNvCxnSpPr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1" idx="0"/>
          </p:cNvCxnSpPr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endCxn id="15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bc000d"/>
            </a:solidFill>
            <a:miter/>
            <a:tailEnd len="med" type="triangle" w="med"/>
          </a:ln>
        </p:spPr>
      </p:cxn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B5EE-C89C-49CA-825D-625E2FC22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1800 w 2504880"/>
              <a:gd name="textAreaRight" fmla="*/ 2233080 w 250488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9" name="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051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3E6F-F335-49DE-9964-A088C35BD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971640" y="5460120"/>
            <a:ext cx="7200720" cy="31932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9320"/>
              <a:gd name="textAreaBottom" fmla="*/ 29376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2B05-3CE1-425A-BD82-C566E5B3D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600000">
            <a:off x="457020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600000">
            <a:off x="500220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600000">
            <a:off x="147456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3600000">
            <a:off x="190656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19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196" name="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未知"/>
            <p:cNvSpPr/>
            <p:nvPr/>
          </p:nvSpPr>
          <p:spPr>
            <a:xfrm rot="16200000">
              <a:off x="1170720" y="33516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 rot="5400000">
              <a:off x="1318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0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02" name="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未知"/>
            <p:cNvSpPr/>
            <p:nvPr/>
          </p:nvSpPr>
          <p:spPr>
            <a:xfrm rot="16200000">
              <a:off x="4161960" y="3273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 rot="5400000">
              <a:off x="435996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0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08" name="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b2b2b2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bc000d">
                      <a:alpha val="90196"/>
                    </a:srgbClr>
                  </a:gs>
                  <a:gs pos="100000">
                    <a:srgbClr val="ff0517"/>
                  </a:gs>
                </a:gsLst>
                <a:lin ang="13500000"/>
              </a:gra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未知"/>
            <p:cNvSpPr/>
            <p:nvPr/>
          </p:nvSpPr>
          <p:spPr>
            <a:xfrm rot="16200000">
              <a:off x="7362000" y="33516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 rot="5400000">
              <a:off x="750960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1" name="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3" name="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4" name="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674640" cy="3437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0" t="0" r="0" b="44387"/>
          <a:stretch/>
        </p:blipFill>
        <p:spPr>
          <a:xfrm>
            <a:off x="4427640" y="4341960"/>
            <a:ext cx="981000" cy="2516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9640" y="1341360"/>
            <a:ext cx="651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3a0004"/>
                </a:solidFill>
                <a:uFillTx/>
                <a:latin typeface="Arial"/>
                <a:hlinkClick r:id="rId3"/>
              </a:rPr>
              <a:t>商务ppt模板下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13D7-CD4D-47E4-82DD-79C08BDF2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2440" y="1832040"/>
            <a:ext cx="7542000" cy="36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60480" y="43750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60480" y="46609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0480" y="5241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003320" y="1950840"/>
            <a:ext cx="0" cy="32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60480" y="2070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0480" y="23558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60480" y="49561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0480" y="26510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60480" y="29368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60480" y="32227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60480" y="35082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60480" y="38037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60480" y="40892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5040" y="3297240"/>
            <a:ext cx="1209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94600" y="5343480"/>
            <a:ext cx="1761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53120" y="197496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1280" y="23558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840" y="5343480"/>
            <a:ext cx="1771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51400" y="4545000"/>
            <a:ext cx="190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6320" y="380196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864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19440" y="428292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84520" y="480204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7520" y="37940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24400" y="324180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53200" y="2940120"/>
            <a:ext cx="120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18280" y="415908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3240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80120" y="4307040"/>
            <a:ext cx="1908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44920" y="5740560"/>
            <a:ext cx="183528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5680" y="5850000"/>
            <a:ext cx="93600" cy="93600"/>
          </a:xfrm>
          <a:prstGeom prst="rect">
            <a:avLst/>
          </a:prstGeom>
          <a:solidFill>
            <a:srgbClr val="3a0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5837400"/>
            <a:ext cx="93600" cy="93600"/>
          </a:xfrm>
          <a:prstGeom prst="rect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67120" y="5837400"/>
            <a:ext cx="93960" cy="93600"/>
          </a:xfrm>
          <a:prstGeom prst="rect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3548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二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1184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三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0040" y="5826240"/>
            <a:ext cx="336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一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92AB-F186-460D-930F-159A5EB20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24120 h 299880"/>
              <a:gd name="textAreaBottom" fmla="*/ 27576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8d8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bc000d"/>
              </a:gs>
              <a:gs pos="100000">
                <a:srgbClr val="ff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1224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AFC3-2C83-42C2-A2F6-EE8E790620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ttp://www.eeppt.com</dc:creator>
  <dc:description>ppt模板下载网站 http://www.eeppt.com</dc:description>
  <dc:language>en-US</dc:language>
  <cp:lastModifiedBy/>
  <dcterms:modified xsi:type="dcterms:W3CDTF">2015-06-14T07:51:46Z</dcterms:modified>
  <cp:revision>2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