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DE1-1244-4128-B50F-D61874D6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E42-B9BB-4342-AF75-9AE6E0F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DB1-0838-4B85-BEF0-DA84BC55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B00-2936-4586-AD33-1C4F0572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FB5A-AB50-4847-B79A-52BE9D0E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FD92-119B-4D11-9C83-DC7FC9D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4495-6080-4DC1-B392-F8E0BDCB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D80-BDC4-4607-8172-1D937A3D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0CA-3349-4A79-B554-101A25B5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DE9-2556-4570-929D-54BD8FEB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1099-D1D1-464C-959A-71F3E31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490-D665-42C1-A93B-9383173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9B51-7158-4D6D-8435-9D042B0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BAD9-B682-460C-89E4-6C1D189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F4AF-45C8-46FC-8F7E-4C30A42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6298-849E-4265-B2BA-8CE965DD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31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7440" y="152388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95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31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7440" y="4089600"/>
            <a:ext cx="26053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4ED-5BFC-4AC9-9250-EB2199DD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7E3-6F89-4817-BBB1-03E4FB4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191-8E48-498F-871D-699E368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219-DA39-466F-A432-4477B83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0160" y="220680"/>
            <a:ext cx="6561000" cy="54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B8D-42A0-4AAF-B677-C025305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13F-3EFE-460D-B051-60CDA69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1560" y="408960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3C2-99DC-49C5-A58F-00A991A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44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1560" y="1523880"/>
            <a:ext cx="3948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5440" y="4089600"/>
            <a:ext cx="80913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F69-159B-4973-A33C-267CD4E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360" y="162000"/>
            <a:ext cx="9180000" cy="6696000"/>
            <a:chOff x="-36360" y="162000"/>
            <a:chExt cx="9180000" cy="6696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2880" y="162000"/>
              <a:ext cx="9140760" cy="159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-36360" y="181080"/>
              <a:ext cx="7947000" cy="6676920"/>
              <a:chOff x="-36360" y="181080"/>
              <a:chExt cx="7947000" cy="6676920"/>
            </a:xfrm>
          </p:grpSpPr>
          <p:pic>
            <p:nvPicPr>
              <p:cNvPr id="3" name="" descr="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-36360" y="5397480"/>
                <a:ext cx="1139040" cy="14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0680" y="181080"/>
                <a:ext cx="1119960" cy="113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618920" y="6576480"/>
            <a:ext cx="21337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739680" y="6566040"/>
            <a:ext cx="469116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527680" y="6568560"/>
            <a:ext cx="336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0231-F8F4-4FFD-B9FA-61C8610B8F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595440" y="1523880"/>
            <a:ext cx="80913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6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569360" y="236520"/>
            <a:ext cx="1428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5375160" y="6464160"/>
            <a:ext cx="2789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295200"/>
            <a:ext cx="212256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5"/>
          </p:nvPr>
        </p:nvSpPr>
        <p:spPr>
          <a:xfrm>
            <a:off x="3784320" y="6479640"/>
            <a:ext cx="1569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645040" y="6478560"/>
            <a:ext cx="4431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0C3-BFAA-4B2F-AC5D-A2E4B7AC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189080" y="2254320"/>
            <a:ext cx="74023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654d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1d654d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374760"/>
            <a:ext cx="8742240" cy="6483240"/>
            <a:chOff x="0" y="374760"/>
            <a:chExt cx="8742240" cy="648324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7223040" y="374760"/>
              <a:ext cx="1312920" cy="133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0" y="1121040"/>
              <a:ext cx="8742240" cy="5736960"/>
              <a:chOff x="0" y="1121040"/>
              <a:chExt cx="8742240" cy="5736960"/>
            </a:xfrm>
          </p:grpSpPr>
          <p:pic>
            <p:nvPicPr>
              <p:cNvPr id="55" name="" descr=""/>
              <p:cNvPicPr/>
              <p:nvPr/>
            </p:nvPicPr>
            <p:blipFill>
              <a:blip r:embed="rId4"/>
              <a:srcRect l="0" t="0" r="0" b="9247"/>
              <a:stretch/>
            </p:blipFill>
            <p:spPr>
              <a:xfrm>
                <a:off x="7526160" y="5298840"/>
                <a:ext cx="1216080" cy="15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121040"/>
                <a:ext cx="3325680" cy="57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191960"/>
                <a:ext cx="7758000" cy="477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54400" y="3914640"/>
                <a:ext cx="2384280" cy="29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44800" y="3728880"/>
            <a:ext cx="6199200" cy="362160"/>
          </a:xfrm>
          <a:prstGeom prst="rect">
            <a:avLst/>
          </a:prstGeom>
          <a:solidFill>
            <a:srgbClr val="94b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7440" y="2166840"/>
            <a:ext cx="7593120" cy="14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17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654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1d654d"/>
                </a:solidFill>
                <a:latin typeface="Times New Roman"/>
              </a:rPr>
              <a:t>向日葵</a:t>
            </a:r>
            <a:r>
              <a:rPr b="1" lang="zh-CN" sz="4400" spc="-1" strike="noStrike">
                <a:solidFill>
                  <a:srgbClr val="1d654d"/>
                </a:solidFill>
                <a:latin typeface="Times New Roman"/>
              </a:rPr>
              <a:t>PPT</a:t>
            </a:r>
            <a:r>
              <a:rPr b="1" lang="zh-CN" sz="4400" spc="-1" strike="noStrike">
                <a:solidFill>
                  <a:srgbClr val="1d654d"/>
                </a:solidFill>
                <a:latin typeface="Times New Roman"/>
              </a:rPr>
              <a:t>模板免费下载</a:t>
            </a:r>
            <a:endParaRPr b="1" lang="en-US" sz="44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9160" y="37321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www. WPS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>
            <a:off x="1042920" y="5603760"/>
            <a:ext cx="3306960" cy="48744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11600" y="5576760"/>
            <a:ext cx="3305160" cy="486000"/>
          </a:xfrm>
          <a:prstGeom prst="ellipse">
            <a:avLst/>
          </a:prstGeom>
          <a:solidFill>
            <a:srgbClr val="e45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0160" y="220680"/>
            <a:ext cx="65610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654d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7680" y="2655720"/>
            <a:ext cx="3106800" cy="3076560"/>
            <a:chOff x="1147680" y="2655720"/>
            <a:chExt cx="3106800" cy="3076560"/>
          </a:xfrm>
        </p:grpSpPr>
        <p:sp>
          <p:nvSpPr>
            <p:cNvPr id="104" name=""/>
            <p:cNvSpPr/>
            <p:nvPr/>
          </p:nvSpPr>
          <p:spPr>
            <a:xfrm>
              <a:off x="37576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5e5e5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92200" y="26557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5e5e5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7680" y="28540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888"/>
                </a:gs>
                <a:gs pos="50000">
                  <a:srgbClr val="19c5c5"/>
                </a:gs>
                <a:gs pos="100000">
                  <a:srgbClr val="11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7680" y="33876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e7474"/>
                </a:gs>
                <a:gs pos="50000">
                  <a:srgbClr val="19c5c5"/>
                </a:gs>
                <a:gs pos="100000">
                  <a:srgbClr val="0e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7680" y="39211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888"/>
                </a:gs>
                <a:gs pos="50000">
                  <a:srgbClr val="19c5c5"/>
                </a:gs>
                <a:gs pos="100000">
                  <a:srgbClr val="11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7680" y="44542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0e7474"/>
                </a:gs>
                <a:gs pos="50000">
                  <a:srgbClr val="19c5c5"/>
                </a:gs>
                <a:gs pos="100000">
                  <a:srgbClr val="0e74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7680" y="49878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18888"/>
                </a:gs>
                <a:gs pos="50000">
                  <a:srgbClr val="19c5c5"/>
                </a:gs>
                <a:gs pos="100000">
                  <a:srgbClr val="118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73320" y="153684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668840" y="2651040"/>
            <a:ext cx="3191040" cy="3081240"/>
            <a:chOff x="4668840" y="2651040"/>
            <a:chExt cx="3191040" cy="3081240"/>
          </a:xfrm>
        </p:grpSpPr>
        <p:sp>
          <p:nvSpPr>
            <p:cNvPr id="113" name=""/>
            <p:cNvSpPr/>
            <p:nvPr/>
          </p:nvSpPr>
          <p:spPr>
            <a:xfrm>
              <a:off x="7399440" y="2651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5e5e5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68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5e5e5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8840" y="28591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9a7"/>
                </a:gs>
                <a:gs pos="50000">
                  <a:srgbClr val="276af1"/>
                </a:gs>
                <a:gs pos="100000">
                  <a:srgbClr val="1b4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8840" y="33922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e8e"/>
                </a:gs>
                <a:gs pos="50000">
                  <a:srgbClr val="276af1"/>
                </a:gs>
                <a:gs pos="100000">
                  <a:srgbClr val="173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8840" y="392580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9a7"/>
                </a:gs>
                <a:gs pos="50000">
                  <a:srgbClr val="276af1"/>
                </a:gs>
                <a:gs pos="100000">
                  <a:srgbClr val="1b4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8840" y="44593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73e8e"/>
                </a:gs>
                <a:gs pos="50000">
                  <a:srgbClr val="276af1"/>
                </a:gs>
                <a:gs pos="100000">
                  <a:srgbClr val="173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8840" y="49924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1b49a7"/>
                </a:gs>
                <a:gs pos="50000">
                  <a:srgbClr val="276af1"/>
                </a:gs>
                <a:gs pos="100000">
                  <a:srgbClr val="1b4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009880" y="56624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75320" y="5622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654d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1d654d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4b62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2F8-20CE-443D-8C56-DFFAF02F5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37:58Z</dcterms:created>
  <dc:creator>http://www.eeppt.com</dc:creator>
  <dc:description>ppt模板下载网站 http://www.eeppt.com</dc:description>
  <dc:language>en-US</dc:language>
  <cp:lastModifiedBy/>
  <dcterms:modified xsi:type="dcterms:W3CDTF">2015-06-14T08:44:4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