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27.jpeg" ContentType="image/jpeg"/>
  <Override PartName="/ppt/media/image25.gif" ContentType="image/gif"/>
  <Override PartName="/ppt/media/image6.jpeg" ContentType="image/jpeg"/>
  <Override PartName="/ppt/media/image33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chimes.wav" ContentType="audio/x-wav"/>
  <Override PartName="/ppt/media/image16.jpeg" ContentType="image/jpeg"/>
  <Override PartName="/ppt/media/projctor.wav" ContentType="audio/x-wav"/>
  <Override PartName="/ppt/media/image3.gif" ContentType="image/gif"/>
  <Override PartName="/ppt/media/image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59E-186A-4318-B1FB-3F56DB6E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AE7-BB9A-4D9D-A72E-80AA067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242-14C0-47B0-BB49-6BAA9C7F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2F7-F182-48F1-A91B-2464CD3C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34B-5FC9-49A9-8173-B199EBE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5F7-A05D-4694-AB5F-CC26B40C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5D0-3351-482F-9324-F1C9D35A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4DF-AB59-4901-AC89-C63D0F8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85D-4C92-40A2-8A90-1923A50E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D16-5613-45D7-8382-022A1B7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B89-EB0D-43F2-9A29-CDF8AC4D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45D-99E2-4497-8520-5CDD56ED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E205-184D-4926-A478-DA8CF66CF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gif"/><Relationship Id="rId18" Type="http://schemas.openxmlformats.org/officeDocument/2006/relationships/image" Target="../media/image3.gif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ty115_jpg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01[3]"/>
          <p:cNvPicPr/>
          <p:nvPr/>
        </p:nvPicPr>
        <p:blipFill>
          <a:blip r:embed="rId17"/>
          <a:stretch/>
        </p:blipFill>
        <p:spPr>
          <a:xfrm>
            <a:off x="380880" y="5257800"/>
            <a:ext cx="26290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5">
            <a:hlinkClick r:id="" action="ppaction://hlinkshowjump?jump=nextslide"/>
          </p:cNvPr>
          <p:cNvPicPr/>
          <p:nvPr/>
        </p:nvPicPr>
        <p:blipFill>
          <a:blip r:embed="rId18"/>
          <a:stretch/>
        </p:blipFill>
        <p:spPr>
          <a:xfrm>
            <a:off x="8229600" y="624852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矩形 1" descr=""/>
          <p:cNvPicPr/>
          <p:nvPr/>
        </p:nvPicPr>
        <p:blipFill>
          <a:blip r:embed="rId19"/>
          <a:stretch/>
        </p:blipFill>
        <p:spPr>
          <a:xfrm>
            <a:off x="523800" y="244440"/>
            <a:ext cx="7888320" cy="33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000" y="6219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8380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它非常坚硬，受到猛击仍安然无恙；即使被打碎了，碎片仍然藕断丝连地粘在一起，不会伤人。有些国家规定，高层建筑必须采用这种安全可靠的玻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7.gif (3404 bytes)"/>
          <p:cNvPicPr/>
          <p:nvPr/>
        </p:nvPicPr>
        <p:blipFill>
          <a:blip r:embed="rId2"/>
          <a:stretch/>
        </p:blipFill>
        <p:spPr>
          <a:xfrm>
            <a:off x="8229600" y="59436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4552920"/>
            <a:ext cx="747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990720" y="10666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7621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还有一种“变色玻璃”，能够对阳光起反射作用。建筑物装上这种玻璃，从室内看外面很清楚，从外面看室内却什么也瞧不见。变色玻璃还会随着阳光的强弱而改变颜色的深浅，调节室内的光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7.gif (3404 bytes)"/>
          <p:cNvPicPr/>
          <p:nvPr/>
        </p:nvPicPr>
        <p:blipFill>
          <a:blip r:embed="rId2"/>
          <a:stretch/>
        </p:blipFill>
        <p:spPr>
          <a:xfrm>
            <a:off x="8153280" y="601992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600200" y="11430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在炎热的夏天，它能阻挡强烈的阳光，使室内比室外凉爽；在严寒的冬季，它把冷空气挡在室外，使室内保持温暖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7.gif (3404 bytes)"/>
          <p:cNvPicPr/>
          <p:nvPr/>
        </p:nvPicPr>
        <p:blipFill>
          <a:blip r:embed="rId2"/>
          <a:stretch/>
        </p:blipFill>
        <p:spPr>
          <a:xfrm>
            <a:off x="8001000" y="58672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1440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吃音玻璃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消除噪音的能手。临街的窗子上如果装上这种玻璃，街上的声音为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时，传到房间里就只剩下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19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91440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吃音玻璃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消除噪音的能手。临街的窗子上如果装上这种玻璃，街上的声音为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时，传到房间里就只剩下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990720" y="3733920"/>
            <a:ext cx="1218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819520" y="52578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7.gif (3404 bytes)"/>
          <p:cNvPicPr/>
          <p:nvPr/>
        </p:nvPicPr>
        <p:blipFill>
          <a:blip r:embed="rId2"/>
          <a:stretch/>
        </p:blipFill>
        <p:spPr>
          <a:xfrm>
            <a:off x="8001000" y="59436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00" y="6219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F:\边框\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838080" y="8380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推销方法启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205740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说话要有礼貌，态度诚恳，面带微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了解客户的需求，说清楚产品的特点和作用以及产品带给客户的好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根据客户的心理实施相应的价格优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留下自己的联系方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F:\素材\7[6].gif"/>
          <p:cNvPicPr/>
          <p:nvPr/>
        </p:nvPicPr>
        <p:blipFill>
          <a:blip r:embed="rId2"/>
          <a:stretch/>
        </p:blipFill>
        <p:spPr>
          <a:xfrm>
            <a:off x="6781680" y="4952880"/>
            <a:ext cx="1314720" cy="14065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http://www.mypcera.com/photo/326a/ty/images/ty196_jpg.jpg"/>
          <p:cNvPicPr/>
          <p:nvPr/>
        </p:nvPicPr>
        <p:blipFill>
          <a:blip r:embed="rId1"/>
          <a:stretch/>
        </p:blipFill>
        <p:spPr>
          <a:xfrm>
            <a:off x="7086600" y="4114800"/>
            <a:ext cx="148104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82880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21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世纪新型玻璃设计方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990720" y="2133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产品名称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838080" y="3352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特点和作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219320" y="44956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设计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4114800" y="2743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114800" y="51055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523880" y="55627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日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114800" y="6172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8534520" y="640080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D90-670B-45D9-95F1-9D413F02E4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http://www.jiayiglass.com/img/ltyz/04.jpg"/>
          <p:cNvPicPr/>
          <p:nvPr/>
        </p:nvPicPr>
        <p:blipFill>
          <a:blip r:embed="rId2"/>
          <a:stretch/>
        </p:blipFill>
        <p:spPr>
          <a:xfrm>
            <a:off x="228600" y="1600200"/>
            <a:ext cx="456084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jiayiglass.com/img/ltyz/09.jpg"/>
          <p:cNvPicPr/>
          <p:nvPr/>
        </p:nvPicPr>
        <p:blipFill>
          <a:blip r:embed="rId3"/>
          <a:stretch/>
        </p:blipFill>
        <p:spPr>
          <a:xfrm>
            <a:off x="5029200" y="1600200"/>
            <a:ext cx="3809880" cy="43210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ru"/>
    <p:sndAc>
      <p:stSnd>
        <p:snd r:embed="rId4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F:\边框\Fr4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http://www.jiayiglass.com/img/ltyz/42.jpg"/>
          <p:cNvPicPr/>
          <p:nvPr/>
        </p:nvPicPr>
        <p:blipFill>
          <a:blip r:embed="rId2"/>
          <a:stretch/>
        </p:blipFill>
        <p:spPr>
          <a:xfrm>
            <a:off x="1219320" y="2438280"/>
            <a:ext cx="6858000" cy="3733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ru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http://www.yxysbl.com/chanpin2/35.jpg"/>
          <p:cNvPicPr/>
          <p:nvPr/>
        </p:nvPicPr>
        <p:blipFill>
          <a:blip r:embed="rId2"/>
          <a:stretch/>
        </p:blipFill>
        <p:spPr>
          <a:xfrm>
            <a:off x="1600200" y="152280"/>
            <a:ext cx="1257480" cy="321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www.yxysbl.com/chanpin2/40.jpg"/>
          <p:cNvPicPr/>
          <p:nvPr/>
        </p:nvPicPr>
        <p:blipFill>
          <a:blip r:embed="rId3"/>
          <a:stretch/>
        </p:blipFill>
        <p:spPr>
          <a:xfrm>
            <a:off x="3962520" y="15228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ttp://www.yxysbl.com/chanpin2/36.jpg"/>
          <p:cNvPicPr/>
          <p:nvPr/>
        </p:nvPicPr>
        <p:blipFill>
          <a:blip r:embed="rId4"/>
          <a:stretch/>
        </p:blipFill>
        <p:spPr>
          <a:xfrm>
            <a:off x="6248520" y="15228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http://www.yxysbl.com/chanpin2/12.jpg"/>
          <p:cNvPicPr/>
          <p:nvPr/>
        </p:nvPicPr>
        <p:blipFill>
          <a:blip r:embed="rId5"/>
          <a:stretch/>
        </p:blipFill>
        <p:spPr>
          <a:xfrm>
            <a:off x="457200" y="3429000"/>
            <a:ext cx="1257480" cy="322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http://www.yxysbl.com/chanpin2/27.jpg"/>
          <p:cNvPicPr/>
          <p:nvPr/>
        </p:nvPicPr>
        <p:blipFill>
          <a:blip r:embed="rId6"/>
          <a:stretch/>
        </p:blipFill>
        <p:spPr>
          <a:xfrm>
            <a:off x="2819520" y="342900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http://www.yxysbl.com/chanpin2/38.jpg"/>
          <p:cNvPicPr/>
          <p:nvPr/>
        </p:nvPicPr>
        <p:blipFill>
          <a:blip r:embed="rId7"/>
          <a:stretch/>
        </p:blipFill>
        <p:spPr>
          <a:xfrm>
            <a:off x="5105520" y="342900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http://www.yxysbl.com/chanpin2/39.jpg"/>
          <p:cNvPicPr/>
          <p:nvPr/>
        </p:nvPicPr>
        <p:blipFill>
          <a:blip r:embed="rId8"/>
          <a:stretch/>
        </p:blipFill>
        <p:spPr>
          <a:xfrm>
            <a:off x="7467480" y="3429000"/>
            <a:ext cx="1257480" cy="3222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0" y="663480"/>
            <a:ext cx="9144000" cy="5349960"/>
            <a:chOff x="0" y="663480"/>
            <a:chExt cx="9144000" cy="5349960"/>
          </a:xfrm>
        </p:grpSpPr>
        <p:sp>
          <p:nvSpPr>
            <p:cNvPr id="59" name="Rectangle 2"/>
            <p:cNvSpPr/>
            <p:nvPr/>
          </p:nvSpPr>
          <p:spPr>
            <a:xfrm>
              <a:off x="0" y="663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3"/>
            <p:cNvSpPr/>
            <p:nvPr/>
          </p:nvSpPr>
          <p:spPr>
            <a:xfrm>
              <a:off x="0" y="663480"/>
              <a:ext cx="9144000" cy="53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4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Picture 4" descr="http://www.mypcera.com/photo/45/08/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2895480" y="1981080"/>
            <a:ext cx="3276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华文行楷"/>
              </a:rPr>
              <a:t>新型玻璃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华文行楷"/>
              <a:ea typeface="华文行楷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828800" y="4419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6765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种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8195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自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62485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1055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推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75248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http://www.mypcera.com/photo/45/04/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2133720" y="8380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夹丝网防盗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200400" y="2057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夹丝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20040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变色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00400" y="4419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吸热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00400" y="5486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吃音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8381880" y="640080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边框\Fr2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371600" y="1676520"/>
            <a:ext cx="5867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自读提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 </a:t>
            </a: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、自由读课文，读准字音，读通句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 </a:t>
            </a: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、你知道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 </a:t>
            </a: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、还有什么不明白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RACK07.WAV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8458200" y="64008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143000" y="3808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这种玻璃叫“夹丝网防盗玻璃”，博物馆可以采用，银行可以采用，珠宝店可以采用，存放重要图纸、文件的建筑物也可以采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ttp://www.mypcera.com/photo/an/03/19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43000" y="5335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这种玻璃叫“夹丝网防盗玻璃”，博物馆可以采用，银行可以采用，珠宝店可以采用，存放重要图纸、文件的建筑物也可以采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>
            <a:off x="1295280" y="30481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410080" y="556272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6095880" y="30481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>
            <a:off x="5486400" y="38862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1" descr="7.gif (3404 bytes)"/>
          <p:cNvPicPr/>
          <p:nvPr/>
        </p:nvPicPr>
        <p:blipFill>
          <a:blip r:embed="rId2"/>
          <a:stretch/>
        </p:blipFill>
        <p:spPr>
          <a:xfrm>
            <a:off x="8229600" y="601992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26Z</dcterms:created>
  <dc:creator>http://www.eeppt.com</dc:creator>
  <dc:description>ppt模板下载网站 http://www.eeppt.com</dc:description>
  <dc:language>en-US</dc:language>
  <cp:lastModifiedBy/>
  <dcterms:modified xsi:type="dcterms:W3CDTF">2015-06-15T01:10:45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