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8E8-1B24-492C-974F-5CF4424A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33D-C1BD-4C45-BDAE-9BDA5D3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AD5-3802-4588-A1A5-08AB06B9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A13-5BCE-40E3-9529-6AF96C2B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033-07D7-4424-9B7D-D3DB04CA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292-4386-4036-AB3D-B56B0BFE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F3A-C54D-454D-8591-B57DBA2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1E5-E44A-40D9-A495-C755A918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FFB-CC94-49F2-9B6C-6F8FE98A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A28-9066-4734-85D0-AA4B684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EFD-7582-4C3D-9D55-9885305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2A0-35A2-47BB-85E2-92823FC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02B-8B45-445F-AED7-FBB6C04C2EC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254-C9CD-4482-881E-9D569F558FE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43000" y="43578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143000" y="5143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-18000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2260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3696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15120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64B-496A-4718-8FF5-EED58906B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0836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2266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52999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497520" y="12859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643120" y="1928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0836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01212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01212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-394560" y="12859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831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2267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15496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01204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-25164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5712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86912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409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61920" y="62485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唯美风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322920" y="12859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64328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1154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726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-180000" y="13572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2266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260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79784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12859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7979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1548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44072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27979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10872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838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6548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22266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http://www.eeppt.com</dc:creator>
  <dc:description>ppt模板下载网站 http://www.eeppt.com</dc:description>
  <dc:language>en-US</dc:language>
  <cp:lastModifiedBy/>
  <dcterms:modified xsi:type="dcterms:W3CDTF">2015-06-15T01:06:3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