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0.png" ContentType="image/png"/>
  <Override PartName="/ppt/media/image12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62C07-AFE5-4D88-A4EA-2E95842BA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89cd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4560" y="38523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E14E8-4ACC-44C8-B0D0-B4B45140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89cd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0456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3860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00CED-3768-4A24-B8C2-71E97C621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89cd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164400" y="10663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4600" y="10663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04560" y="38523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164400" y="38523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4600" y="38523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B420D-852E-4631-8402-54245AC07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627C4-7DF8-4B7E-8CAC-0FCDB0DC2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89cd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2afd8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D7E80-2F3A-4364-A21C-60A6F3B8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89cd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293DF-3A2F-478B-BA1C-FCE8E153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89cd"/>
              </a:solidFill>
              <a:latin typeface="微软雅黑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D60F0-2C9D-44F7-9554-B9B75CFA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89c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47EE5-E5B3-4BB7-9C79-FB5EA736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6172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2afd8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9ABF2-2077-4054-9CE5-A3C1738D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89cd"/>
              </a:solidFill>
              <a:latin typeface="微软雅黑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56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BA7E0-D699-489C-9868-E27F820E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89cd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2afd8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40412-E0D5-452D-A979-D0DE8616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89cd"/>
              </a:solidFill>
              <a:latin typeface="微软雅黑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3860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749E5-F668-4FF8-9036-515D0809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89cd"/>
              </a:solidFill>
              <a:latin typeface="微软雅黑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560" y="38523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C30EA-2759-47B7-94B0-026ADD8B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89cd"/>
              </a:solidFill>
              <a:latin typeface="微软雅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560" y="38523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95341-F3B6-46D3-BFD2-63E4FF2D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89cd"/>
              </a:solidFill>
              <a:latin typeface="微软雅黑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56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3860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21637-C0E3-4720-8F8E-A7C60974D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89cd"/>
              </a:solidFill>
              <a:latin typeface="微软雅黑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164400" y="10663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4600" y="10663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560" y="38523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164400" y="38523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4600" y="38523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C1FF5-EDAD-4116-8911-677CF2F2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89cd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059AA-748B-4FD8-BE24-0AC53F2B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89cd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DCBF5-17CC-467C-97B0-80D9CA2C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89c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B370B-F907-4103-94FA-AD4BF7E6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6172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2afd8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E4562-C2EA-433E-BCD2-700F5B5A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89cd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56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880D2-97A1-44B0-8280-60CB399E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89cd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8600" y="38523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D210C-B0B1-4A7B-9C9A-90B2C039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89cd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8600" y="10663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560" y="38523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9AC9E-8916-4803-92E0-32F393FD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>
            <a:off x="-9360" y="343080"/>
            <a:ext cx="6029280" cy="679320"/>
          </a:xfrm>
          <a:custGeom>
            <a:avLst/>
            <a:gdLst/>
            <a:ahLst/>
            <a:rect l="l" t="t" r="r" b="b"/>
            <a:pathLst>
              <a:path w="3800" h="428">
                <a:moveTo>
                  <a:pt x="0" y="0"/>
                </a:moveTo>
                <a:lnTo>
                  <a:pt x="3800" y="0"/>
                </a:lnTo>
                <a:lnTo>
                  <a:pt x="3456" y="42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5714640" y="6482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7924320" y="6476760"/>
            <a:ext cx="83844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CB30-4261-4E87-AAAC-4E19BFAEAA8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3"/>
          </p:nvPr>
        </p:nvSpPr>
        <p:spPr>
          <a:xfrm>
            <a:off x="3733560" y="6476760"/>
            <a:ext cx="190476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889c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c88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c889c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04920" y="800280"/>
            <a:ext cx="8377200" cy="131400"/>
            <a:chOff x="304920" y="800280"/>
            <a:chExt cx="8377200" cy="131400"/>
          </a:xfrm>
        </p:grpSpPr>
        <p:grpSp>
          <p:nvGrpSpPr>
            <p:cNvPr id="6" name=""/>
            <p:cNvGrpSpPr/>
            <p:nvPr/>
          </p:nvGrpSpPr>
          <p:grpSpPr>
            <a:xfrm>
              <a:off x="304920" y="800280"/>
              <a:ext cx="8377200" cy="131040"/>
              <a:chOff x="304920" y="800280"/>
              <a:chExt cx="8377200" cy="131040"/>
            </a:xfrm>
          </p:grpSpPr>
          <p:sp>
            <p:nvSpPr>
              <p:cNvPr id="7" name=""/>
              <p:cNvSpPr/>
              <p:nvPr/>
            </p:nvSpPr>
            <p:spPr>
              <a:xfrm>
                <a:off x="304920" y="800280"/>
                <a:ext cx="2318760" cy="131040"/>
              </a:xfrm>
              <a:prstGeom prst="rect">
                <a:avLst/>
              </a:prstGeom>
              <a:solidFill>
                <a:srgbClr val="c889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4920" y="931320"/>
                <a:ext cx="8377200" cy="0"/>
              </a:xfrm>
              <a:prstGeom prst="line">
                <a:avLst/>
              </a:prstGeom>
              <a:ln w="19080">
                <a:solidFill>
                  <a:srgbClr val="c889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" name="" descr=""/>
            <p:cNvPicPr/>
            <p:nvPr/>
          </p:nvPicPr>
          <p:blipFill>
            <a:blip r:embed="rId2"/>
            <a:stretch/>
          </p:blipFill>
          <p:spPr>
            <a:xfrm>
              <a:off x="473040" y="810000"/>
              <a:ext cx="112320" cy="12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"/>
          <p:cNvSpPr/>
          <p:nvPr/>
        </p:nvSpPr>
        <p:spPr>
          <a:xfrm>
            <a:off x="7763040" y="463680"/>
            <a:ext cx="450720" cy="444240"/>
          </a:xfrm>
          <a:prstGeom prst="rect">
            <a:avLst/>
          </a:prstGeom>
          <a:solidFill>
            <a:srgbClr val="80ca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229600" y="0"/>
            <a:ext cx="450720" cy="444600"/>
          </a:xfrm>
          <a:prstGeom prst="rect">
            <a:avLst/>
          </a:prstGeom>
          <a:solidFill>
            <a:srgbClr val="c88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7763040" y="0"/>
            <a:ext cx="450720" cy="444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6831000" y="463680"/>
            <a:ext cx="450720" cy="4442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7297560" y="463680"/>
            <a:ext cx="451080" cy="4442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8229600" y="463680"/>
            <a:ext cx="450720" cy="44424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89cd"/>
                </a:solidFill>
                <a:latin typeface="微软雅黑"/>
              </a:rPr>
              <a:t>Click to edit the title text format</a:t>
            </a:r>
            <a:endParaRPr b="0" lang="en-US" sz="2800" spc="-1" strike="noStrike">
              <a:solidFill>
                <a:srgbClr val="c889cd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813280" y="2043000"/>
            <a:ext cx="1460520" cy="1462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289640" y="2043000"/>
            <a:ext cx="1460520" cy="1462320"/>
          </a:xfrm>
          <a:prstGeom prst="rect">
            <a:avLst/>
          </a:prstGeom>
          <a:solidFill>
            <a:srgbClr val="c88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30800" y="2043000"/>
            <a:ext cx="1460520" cy="1462320"/>
          </a:xfrm>
          <a:prstGeom prst="rect">
            <a:avLst/>
          </a:prstGeom>
          <a:solidFill>
            <a:srgbClr val="72a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04720" y="3424320"/>
            <a:ext cx="8258400" cy="119160"/>
            <a:chOff x="504720" y="3424320"/>
            <a:chExt cx="8258400" cy="119160"/>
          </a:xfrm>
        </p:grpSpPr>
        <p:grpSp>
          <p:nvGrpSpPr>
            <p:cNvPr id="57" name=""/>
            <p:cNvGrpSpPr/>
            <p:nvPr/>
          </p:nvGrpSpPr>
          <p:grpSpPr>
            <a:xfrm>
              <a:off x="504720" y="3424320"/>
              <a:ext cx="8258400" cy="119160"/>
              <a:chOff x="504720" y="3424320"/>
              <a:chExt cx="8258400" cy="119160"/>
            </a:xfrm>
          </p:grpSpPr>
          <p:sp>
            <p:nvSpPr>
              <p:cNvPr id="58" name=""/>
              <p:cNvSpPr/>
              <p:nvPr/>
            </p:nvSpPr>
            <p:spPr>
              <a:xfrm>
                <a:off x="504720" y="3424320"/>
                <a:ext cx="2285640" cy="119160"/>
              </a:xfrm>
              <a:prstGeom prst="rect">
                <a:avLst/>
              </a:prstGeom>
              <a:solidFill>
                <a:srgbClr val="c889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04720" y="3543480"/>
                <a:ext cx="8258400" cy="0"/>
              </a:xfrm>
              <a:prstGeom prst="line">
                <a:avLst/>
              </a:prstGeom>
              <a:ln w="19080">
                <a:solidFill>
                  <a:srgbClr val="c889c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596160" y="3431520"/>
              <a:ext cx="111960" cy="9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ftr" idx="4"/>
          </p:nvPr>
        </p:nvSpPr>
        <p:spPr>
          <a:xfrm>
            <a:off x="7162920" y="6400440"/>
            <a:ext cx="89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ldNum" idx="5"/>
          </p:nvPr>
        </p:nvSpPr>
        <p:spPr>
          <a:xfrm>
            <a:off x="8152920" y="6400800"/>
            <a:ext cx="83844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0973-56B6-466E-8E30-EDB3F08008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6"/>
          </p:nvPr>
        </p:nvSpPr>
        <p:spPr>
          <a:xfrm>
            <a:off x="5105160" y="6400800"/>
            <a:ext cx="190476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title"/>
          </p:nvPr>
        </p:nvSpPr>
        <p:spPr>
          <a:xfrm>
            <a:off x="837720" y="3657240"/>
            <a:ext cx="8001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c8fca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3c8fca"/>
              </a:solidFill>
              <a:latin typeface="微软雅黑"/>
            </a:endParaRPr>
          </a:p>
        </p:txBody>
      </p:sp>
      <p:sp>
        <p:nvSpPr>
          <p:cNvPr id="65" name=""/>
          <p:cNvSpPr/>
          <p:nvPr/>
        </p:nvSpPr>
        <p:spPr>
          <a:xfrm>
            <a:off x="5813280" y="557280"/>
            <a:ext cx="1460520" cy="1461960"/>
          </a:xfrm>
          <a:prstGeom prst="rect">
            <a:avLst/>
          </a:prstGeom>
          <a:solidFill>
            <a:srgbClr val="80ca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46520" y="2043000"/>
            <a:ext cx="1460520" cy="14623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30800" y="547560"/>
            <a:ext cx="1454040" cy="14702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380880" y="3860640"/>
            <a:ext cx="4496040" cy="29973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afd8"/>
                </a:solidFill>
                <a:latin typeface="微软雅黑"/>
              </a:rPr>
              <a:t>Click to edit the outline text format</a:t>
            </a:r>
            <a:endParaRPr b="1" lang="en-US" sz="2000" spc="-1" strike="noStrike">
              <a:solidFill>
                <a:srgbClr val="72afd8"/>
              </a:solidFill>
              <a:latin typeface="微软雅黑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c889cd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algn="ctr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algn="ctr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11.png"/><Relationship Id="rId10" Type="http://schemas.openxmlformats.org/officeDocument/2006/relationships/image" Target="../media/image9.png"/><Relationship Id="rId11" Type="http://schemas.openxmlformats.org/officeDocument/2006/relationships/image" Target="../media/image11.png"/><Relationship Id="rId12" Type="http://schemas.openxmlformats.org/officeDocument/2006/relationships/image" Target="../media/image9.png"/><Relationship Id="rId13" Type="http://schemas.openxmlformats.org/officeDocument/2006/relationships/image" Target="../media/image11.png"/><Relationship Id="rId14" Type="http://schemas.openxmlformats.org/officeDocument/2006/relationships/image" Target="../media/image9.png"/><Relationship Id="rId15" Type="http://schemas.openxmlformats.org/officeDocument/2006/relationships/image" Target="../media/image11.png"/><Relationship Id="rId16" Type="http://schemas.openxmlformats.org/officeDocument/2006/relationships/image" Target="../media/image9.png"/><Relationship Id="rId17" Type="http://schemas.openxmlformats.org/officeDocument/2006/relationships/image" Target="../media/image11.pn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7.wmf"/><Relationship Id="rId4" Type="http://schemas.openxmlformats.org/officeDocument/2006/relationships/image" Target="../media/image9.png"/><Relationship Id="rId5" Type="http://schemas.openxmlformats.org/officeDocument/2006/relationships/image" Target="../media/image7.wmf"/><Relationship Id="rId6" Type="http://schemas.openxmlformats.org/officeDocument/2006/relationships/image" Target="../media/image9.png"/><Relationship Id="rId7" Type="http://schemas.openxmlformats.org/officeDocument/2006/relationships/image" Target="../media/image7.wmf"/><Relationship Id="rId8" Type="http://schemas.openxmlformats.org/officeDocument/2006/relationships/image" Target="../media/image9.png"/><Relationship Id="rId9" Type="http://schemas.openxmlformats.org/officeDocument/2006/relationships/image" Target="../media/image7.wmf"/><Relationship Id="rId10" Type="http://schemas.openxmlformats.org/officeDocument/2006/relationships/image" Target="../media/image9.png"/><Relationship Id="rId11" Type="http://schemas.openxmlformats.org/officeDocument/2006/relationships/image" Target="../media/image7.wmf"/><Relationship Id="rId12" Type="http://schemas.openxmlformats.org/officeDocument/2006/relationships/image" Target="../media/image9.png"/><Relationship Id="rId13" Type="http://schemas.openxmlformats.org/officeDocument/2006/relationships/image" Target="../media/image7.wmf"/><Relationship Id="rId14" Type="http://schemas.openxmlformats.org/officeDocument/2006/relationships/image" Target="../media/image9.png"/><Relationship Id="rId15" Type="http://schemas.openxmlformats.org/officeDocument/2006/relationships/image" Target="../media/image7.wmf"/><Relationship Id="rId1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yundong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9880" y="3580920"/>
            <a:ext cx="799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运动健康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PPT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模板在线下载</a:t>
            </a:r>
            <a:endParaRPr b="1" lang="en-US" sz="3600" spc="-1" strike="noStrike">
              <a:solidFill>
                <a:srgbClr val="3c8fca"/>
              </a:solidFill>
              <a:latin typeface="微软雅黑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52200" y="4419720"/>
            <a:ext cx="7854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2afd8"/>
              </a:solidFill>
              <a:latin typeface="微软雅黑"/>
            </a:endParaRPr>
          </a:p>
        </p:txBody>
      </p:sp>
      <p:sp>
        <p:nvSpPr>
          <p:cNvPr id="108" name=""/>
          <p:cNvSpPr/>
          <p:nvPr/>
        </p:nvSpPr>
        <p:spPr>
          <a:xfrm>
            <a:off x="399960" y="293364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889cd"/>
                </a:solidFill>
                <a:latin typeface="Impact"/>
                <a:ea typeface="宋体"/>
              </a:rPr>
              <a:t>【公司名称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8660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609480" y="4343400"/>
            <a:ext cx="2543400" cy="1600200"/>
          </a:xfrm>
          <a:prstGeom prst="roundRect">
            <a:avLst>
              <a:gd name="adj" fmla="val 12699"/>
            </a:avLst>
          </a:prstGeom>
          <a:gradFill rotWithShape="0">
            <a:gsLst>
              <a:gs pos="0">
                <a:srgbClr val="598aaa"/>
              </a:gs>
              <a:gs pos="100000">
                <a:srgbClr val="72af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584520" y="37148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63480" y="4772160"/>
            <a:ext cx="240840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8"/>
          <p:cNvSpPr/>
          <p:nvPr/>
        </p:nvSpPr>
        <p:spPr>
          <a:xfrm>
            <a:off x="1065240" y="43671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9"/>
          <p:cNvSpPr/>
          <p:nvPr/>
        </p:nvSpPr>
        <p:spPr>
          <a:xfrm>
            <a:off x="704880" y="4849920"/>
            <a:ext cx="2316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981080"/>
            <a:ext cx="2543400" cy="1600200"/>
          </a:xfrm>
          <a:prstGeom prst="roundRect">
            <a:avLst>
              <a:gd name="adj" fmla="val 12699"/>
            </a:avLst>
          </a:prstGeom>
          <a:gradFill rotWithShape="0">
            <a:gsLst>
              <a:gs pos="0">
                <a:srgbClr val="9f5d64"/>
              </a:gs>
              <a:gs pos="100000">
                <a:srgbClr val="e587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63480" y="2409840"/>
            <a:ext cx="240840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8"/>
          <p:cNvSpPr/>
          <p:nvPr/>
        </p:nvSpPr>
        <p:spPr>
          <a:xfrm>
            <a:off x="1065240" y="2004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9"/>
          <p:cNvSpPr/>
          <p:nvPr/>
        </p:nvSpPr>
        <p:spPr>
          <a:xfrm>
            <a:off x="704880" y="2487600"/>
            <a:ext cx="2316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943600" y="4343400"/>
            <a:ext cx="2543040" cy="1600200"/>
          </a:xfrm>
          <a:prstGeom prst="roundRect">
            <a:avLst>
              <a:gd name="adj" fmla="val 12699"/>
            </a:avLst>
          </a:prstGeom>
          <a:gradFill rotWithShape="0">
            <a:gsLst>
              <a:gs pos="0">
                <a:srgbClr val="b17849"/>
              </a:gs>
              <a:gs pos="100000">
                <a:srgbClr val="e1995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997600" y="47721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8"/>
          <p:cNvSpPr/>
          <p:nvPr/>
        </p:nvSpPr>
        <p:spPr>
          <a:xfrm>
            <a:off x="6399360" y="43671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9"/>
          <p:cNvSpPr/>
          <p:nvPr/>
        </p:nvSpPr>
        <p:spPr>
          <a:xfrm>
            <a:off x="6039000" y="484992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943600" y="1981080"/>
            <a:ext cx="2543040" cy="1600200"/>
          </a:xfrm>
          <a:prstGeom prst="roundRect">
            <a:avLst>
              <a:gd name="adj" fmla="val 12699"/>
            </a:avLst>
          </a:prstGeom>
          <a:gradFill rotWithShape="0">
            <a:gsLst>
              <a:gs pos="0">
                <a:srgbClr val="659f8b"/>
              </a:gs>
              <a:gs pos="100000">
                <a:srgbClr val="80ca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997600" y="240984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8"/>
          <p:cNvSpPr/>
          <p:nvPr/>
        </p:nvSpPr>
        <p:spPr>
          <a:xfrm>
            <a:off x="6399360" y="2004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9"/>
          <p:cNvSpPr/>
          <p:nvPr/>
        </p:nvSpPr>
        <p:spPr>
          <a:xfrm>
            <a:off x="6039000" y="248760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2687400" y="2182320"/>
            <a:ext cx="3636000" cy="3619800"/>
            <a:chOff x="2687400" y="2182320"/>
            <a:chExt cx="3636000" cy="3619800"/>
          </a:xfrm>
        </p:grpSpPr>
        <p:sp>
          <p:nvSpPr>
            <p:cNvPr id="452" name=""/>
            <p:cNvSpPr/>
            <p:nvPr/>
          </p:nvSpPr>
          <p:spPr>
            <a:xfrm rot="6774000">
              <a:off x="3152520" y="2733480"/>
              <a:ext cx="2679480" cy="2641320"/>
            </a:xfrm>
            <a:custGeom>
              <a:avLst/>
              <a:gdLst>
                <a:gd name="textAreaLeft" fmla="*/ 0 w 2679480"/>
                <a:gd name="textAreaRight" fmla="*/ 2679840 w 2679480"/>
                <a:gd name="textAreaTop" fmla="*/ 0 h 2641320"/>
                <a:gd name="textAreaBottom" fmla="*/ 2641680 h 264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06" y="13902"/>
                  </a:moveTo>
                  <a:arcTo wR="-7926" hR="-7926" stAng="9417652" swAng="-4070034"/>
                  <a:lnTo>
                    <a:pt x="10635" y="1"/>
                  </a:lnTo>
                  <a:arcTo wR="10800" hR="10800" stAng="-5452382" swAng="4070034"/>
                  <a:lnTo>
                    <a:pt x="23223" y="5517"/>
                  </a:lnTo>
                  <a:lnTo>
                    <a:pt x="21035" y="10943"/>
                  </a:lnTo>
                  <a:lnTo>
                    <a:pt x="15609" y="8755"/>
                  </a:lnTo>
                  <a:close/>
                </a:path>
              </a:pathLst>
            </a:custGeom>
            <a:gradFill rotWithShape="0">
              <a:gsLst>
                <a:gs pos="0">
                  <a:srgbClr val="e1995d"/>
                </a:gs>
                <a:gs pos="100000">
                  <a:srgbClr val="000000"/>
                </a:gs>
              </a:gsLst>
              <a:lin ang="67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2174000">
              <a:off x="3095280" y="2715120"/>
              <a:ext cx="2679840" cy="2641320"/>
            </a:xfrm>
            <a:custGeom>
              <a:avLst/>
              <a:gdLst>
                <a:gd name="textAreaLeft" fmla="*/ 0 w 2679840"/>
                <a:gd name="textAreaRight" fmla="*/ 2680200 w 2679840"/>
                <a:gd name="textAreaTop" fmla="*/ 0 h 2641320"/>
                <a:gd name="textAreaBottom" fmla="*/ 2641680 h 264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06" y="13902"/>
                  </a:moveTo>
                  <a:arcTo wR="-7926" hR="-7926" stAng="9417652" swAng="-4070034"/>
                  <a:lnTo>
                    <a:pt x="10635" y="1"/>
                  </a:lnTo>
                  <a:arcTo wR="10800" hR="10800" stAng="-5452382" swAng="4070034"/>
                  <a:lnTo>
                    <a:pt x="23223" y="5517"/>
                  </a:lnTo>
                  <a:lnTo>
                    <a:pt x="21035" y="10943"/>
                  </a:lnTo>
                  <a:lnTo>
                    <a:pt x="15609" y="8755"/>
                  </a:lnTo>
                  <a:close/>
                </a:path>
              </a:pathLst>
            </a:custGeom>
            <a:gradFill rotWithShape="0">
              <a:gsLst>
                <a:gs pos="0">
                  <a:srgbClr val="72afd8"/>
                </a:gs>
                <a:gs pos="100000">
                  <a:srgbClr val="000000"/>
                </a:gs>
              </a:gsLst>
              <a:lin ang="13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7574600">
              <a:off x="3192480" y="2609280"/>
              <a:ext cx="2679480" cy="2641680"/>
            </a:xfrm>
            <a:custGeom>
              <a:avLst/>
              <a:gdLst>
                <a:gd name="textAreaLeft" fmla="*/ 0 w 2679480"/>
                <a:gd name="textAreaRight" fmla="*/ 2679840 w 2679480"/>
                <a:gd name="textAreaTop" fmla="*/ 0 h 2641680"/>
                <a:gd name="textAreaBottom" fmla="*/ 264204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06" y="13902"/>
                  </a:moveTo>
                  <a:arcTo wR="-7926" hR="-7926" stAng="9417652" swAng="-4070034"/>
                  <a:lnTo>
                    <a:pt x="10635" y="1"/>
                  </a:lnTo>
                  <a:arcTo wR="10800" hR="10800" stAng="-5452382" swAng="4070034"/>
                  <a:lnTo>
                    <a:pt x="23223" y="5517"/>
                  </a:lnTo>
                  <a:lnTo>
                    <a:pt x="21035" y="10943"/>
                  </a:lnTo>
                  <a:lnTo>
                    <a:pt x="15609" y="8755"/>
                  </a:lnTo>
                  <a:close/>
                </a:path>
              </a:pathLst>
            </a:custGeom>
            <a:gradFill rotWithShape="0">
              <a:gsLst>
                <a:gs pos="0">
                  <a:srgbClr val="e58790"/>
                </a:gs>
                <a:gs pos="100000">
                  <a:srgbClr val="0e0809"/>
                </a:gs>
              </a:gsLst>
              <a:lin ang="175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1374000">
              <a:off x="3235320" y="2666880"/>
              <a:ext cx="2679840" cy="2640960"/>
            </a:xfrm>
            <a:custGeom>
              <a:avLst/>
              <a:gdLst>
                <a:gd name="textAreaLeft" fmla="*/ 0 w 2679840"/>
                <a:gd name="textAreaRight" fmla="*/ 2680200 w 2679840"/>
                <a:gd name="textAreaTop" fmla="*/ 0 h 2640960"/>
                <a:gd name="textAreaBottom" fmla="*/ 2641320 h 264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06" y="13902"/>
                  </a:moveTo>
                  <a:arcTo wR="-7926" hR="-7926" stAng="9417652" swAng="-4070034"/>
                  <a:lnTo>
                    <a:pt x="10635" y="1"/>
                  </a:lnTo>
                  <a:arcTo wR="10800" hR="10800" stAng="-5452382" swAng="4070034"/>
                  <a:lnTo>
                    <a:pt x="23223" y="5517"/>
                  </a:lnTo>
                  <a:lnTo>
                    <a:pt x="21035" y="10943"/>
                  </a:lnTo>
                  <a:lnTo>
                    <a:pt x="15609" y="8755"/>
                  </a:lnTo>
                  <a:close/>
                </a:path>
              </a:pathLst>
            </a:custGeom>
            <a:gradFill rotWithShape="0">
              <a:gsLst>
                <a:gs pos="0">
                  <a:srgbClr val="80cab1"/>
                </a:gs>
                <a:gs pos="100000">
                  <a:srgbClr val="000000"/>
                </a:gs>
              </a:gsLst>
              <a:lin ang="121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89cd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990720" y="2523960"/>
            <a:ext cx="7061040" cy="3733920"/>
          </a:xfrm>
          <a:prstGeom prst="roundRect">
            <a:avLst>
              <a:gd name="adj" fmla="val 8097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134040" y="288432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e1995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19440" y="288432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e5879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908440" y="288432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80cab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293840" y="288432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72afd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219320" y="1752480"/>
            <a:ext cx="66294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1298520" y="5232240"/>
            <a:ext cx="1553760" cy="704880"/>
            <a:chOff x="1298520" y="5232240"/>
            <a:chExt cx="1553760" cy="704880"/>
          </a:xfrm>
        </p:grpSpPr>
        <p:sp>
          <p:nvSpPr>
            <p:cNvPr id="464" name=""/>
            <p:cNvSpPr/>
            <p:nvPr/>
          </p:nvSpPr>
          <p:spPr>
            <a:xfrm>
              <a:off x="1298520" y="523224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6195b8"/>
                </a:gs>
                <a:gs pos="100000">
                  <a:srgbClr val="72afd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299600" y="523332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72afd8"/>
                </a:gs>
                <a:gs pos="100000">
                  <a:srgbClr val="9cc6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917800" y="5232240"/>
            <a:ext cx="1553760" cy="704880"/>
            <a:chOff x="2917800" y="5232240"/>
            <a:chExt cx="1553760" cy="704880"/>
          </a:xfrm>
        </p:grpSpPr>
        <p:sp>
          <p:nvSpPr>
            <p:cNvPr id="467" name=""/>
            <p:cNvSpPr/>
            <p:nvPr/>
          </p:nvSpPr>
          <p:spPr>
            <a:xfrm>
              <a:off x="2917800" y="523224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6dac97"/>
                </a:gs>
                <a:gs pos="100000">
                  <a:srgbClr val="80cab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18880" y="523332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80cab1"/>
                </a:gs>
                <a:gs pos="100000">
                  <a:srgbClr val="b3de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535640" y="5232240"/>
            <a:ext cx="1553760" cy="704880"/>
            <a:chOff x="4535640" y="5232240"/>
            <a:chExt cx="1553760" cy="704880"/>
          </a:xfrm>
        </p:grpSpPr>
        <p:sp>
          <p:nvSpPr>
            <p:cNvPr id="470" name=""/>
            <p:cNvSpPr/>
            <p:nvPr/>
          </p:nvSpPr>
          <p:spPr>
            <a:xfrm>
              <a:off x="4535640" y="523224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c3737b"/>
                </a:gs>
                <a:gs pos="100000">
                  <a:srgbClr val="e5879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536720" y="523332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e58790"/>
                </a:gs>
                <a:gs pos="100000">
                  <a:srgbClr val="eeb7b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6151680" y="5232240"/>
            <a:ext cx="1553760" cy="704880"/>
            <a:chOff x="6151680" y="5232240"/>
            <a:chExt cx="1553760" cy="704880"/>
          </a:xfrm>
        </p:grpSpPr>
        <p:sp>
          <p:nvSpPr>
            <p:cNvPr id="473" name=""/>
            <p:cNvSpPr/>
            <p:nvPr/>
          </p:nvSpPr>
          <p:spPr>
            <a:xfrm>
              <a:off x="6151680" y="523224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c0824f"/>
                </a:gs>
                <a:gs pos="100000">
                  <a:srgbClr val="e1995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52760" y="523332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e1995d"/>
                </a:gs>
                <a:gs pos="100000">
                  <a:srgbClr val="ebbe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1386000" y="304632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000240" y="304632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621320" y="304632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222960" y="304632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316160" y="522432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33640" y="522432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556160" y="522432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154560" y="5224320"/>
            <a:ext cx="36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1301760" y="5038560"/>
            <a:ext cx="1550520" cy="154080"/>
            <a:chOff x="1301760" y="5038560"/>
            <a:chExt cx="1550520" cy="154080"/>
          </a:xfrm>
        </p:grpSpPr>
        <p:sp>
          <p:nvSpPr>
            <p:cNvPr id="484" name=""/>
            <p:cNvSpPr/>
            <p:nvPr/>
          </p:nvSpPr>
          <p:spPr>
            <a:xfrm>
              <a:off x="1301760" y="50385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195b8"/>
                </a:gs>
                <a:gs pos="100000">
                  <a:srgbClr val="72afd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302840" y="50385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afd8"/>
                </a:gs>
                <a:gs pos="100000">
                  <a:srgbClr val="9cc6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1301760" y="4884840"/>
            <a:ext cx="1550520" cy="152280"/>
            <a:chOff x="1301760" y="4884840"/>
            <a:chExt cx="1550520" cy="152280"/>
          </a:xfrm>
        </p:grpSpPr>
        <p:sp>
          <p:nvSpPr>
            <p:cNvPr id="487" name=""/>
            <p:cNvSpPr/>
            <p:nvPr/>
          </p:nvSpPr>
          <p:spPr>
            <a:xfrm>
              <a:off x="1301760" y="488484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195b8"/>
                </a:gs>
                <a:gs pos="100000">
                  <a:srgbClr val="72afd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302840" y="48848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afd8"/>
                </a:gs>
                <a:gs pos="100000">
                  <a:srgbClr val="9cc6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1301760" y="4697280"/>
            <a:ext cx="1550520" cy="154080"/>
            <a:chOff x="1301760" y="4697280"/>
            <a:chExt cx="1550520" cy="154080"/>
          </a:xfrm>
        </p:grpSpPr>
        <p:sp>
          <p:nvSpPr>
            <p:cNvPr id="490" name=""/>
            <p:cNvSpPr/>
            <p:nvPr/>
          </p:nvSpPr>
          <p:spPr>
            <a:xfrm>
              <a:off x="1301760" y="46972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195b8"/>
                </a:gs>
                <a:gs pos="100000">
                  <a:srgbClr val="72afd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02840" y="46972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afd8"/>
                </a:gs>
                <a:gs pos="100000">
                  <a:srgbClr val="9cc6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1301760" y="4510080"/>
            <a:ext cx="1550520" cy="154080"/>
            <a:chOff x="1301760" y="4510080"/>
            <a:chExt cx="1550520" cy="154080"/>
          </a:xfrm>
        </p:grpSpPr>
        <p:sp>
          <p:nvSpPr>
            <p:cNvPr id="493" name=""/>
            <p:cNvSpPr/>
            <p:nvPr/>
          </p:nvSpPr>
          <p:spPr>
            <a:xfrm>
              <a:off x="1301760" y="45100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195b8"/>
                </a:gs>
                <a:gs pos="100000">
                  <a:srgbClr val="72afd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02840" y="45100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afd8"/>
                </a:gs>
                <a:gs pos="100000">
                  <a:srgbClr val="9cc6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1301760" y="4327560"/>
            <a:ext cx="1550520" cy="154080"/>
            <a:chOff x="1301760" y="4327560"/>
            <a:chExt cx="1550520" cy="154080"/>
          </a:xfrm>
        </p:grpSpPr>
        <p:sp>
          <p:nvSpPr>
            <p:cNvPr id="496" name=""/>
            <p:cNvSpPr/>
            <p:nvPr/>
          </p:nvSpPr>
          <p:spPr>
            <a:xfrm>
              <a:off x="1301760" y="43275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195b8"/>
                </a:gs>
                <a:gs pos="100000">
                  <a:srgbClr val="72afd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02840" y="43275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afd8"/>
                </a:gs>
                <a:gs pos="100000">
                  <a:srgbClr val="9cc6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1301760" y="4140360"/>
            <a:ext cx="1550520" cy="153720"/>
            <a:chOff x="1301760" y="4140360"/>
            <a:chExt cx="1550520" cy="153720"/>
          </a:xfrm>
        </p:grpSpPr>
        <p:sp>
          <p:nvSpPr>
            <p:cNvPr id="499" name=""/>
            <p:cNvSpPr/>
            <p:nvPr/>
          </p:nvSpPr>
          <p:spPr>
            <a:xfrm>
              <a:off x="1301760" y="414036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195b8"/>
                </a:gs>
                <a:gs pos="100000">
                  <a:srgbClr val="72afd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02840" y="414036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afd8"/>
                </a:gs>
                <a:gs pos="100000">
                  <a:srgbClr val="9cc6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1301760" y="3952800"/>
            <a:ext cx="1550520" cy="154080"/>
            <a:chOff x="1301760" y="3952800"/>
            <a:chExt cx="1550520" cy="154080"/>
          </a:xfrm>
        </p:grpSpPr>
        <p:sp>
          <p:nvSpPr>
            <p:cNvPr id="502" name=""/>
            <p:cNvSpPr/>
            <p:nvPr/>
          </p:nvSpPr>
          <p:spPr>
            <a:xfrm>
              <a:off x="1301760" y="39528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195b8"/>
                </a:gs>
                <a:gs pos="100000">
                  <a:srgbClr val="72afd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02840" y="39528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afd8"/>
                </a:gs>
                <a:gs pos="100000">
                  <a:srgbClr val="9cc6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1301760" y="3767040"/>
            <a:ext cx="1550520" cy="154080"/>
            <a:chOff x="1301760" y="3767040"/>
            <a:chExt cx="1550520" cy="154080"/>
          </a:xfrm>
        </p:grpSpPr>
        <p:sp>
          <p:nvSpPr>
            <p:cNvPr id="505" name=""/>
            <p:cNvSpPr/>
            <p:nvPr/>
          </p:nvSpPr>
          <p:spPr>
            <a:xfrm>
              <a:off x="1301760" y="376704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195b8"/>
                </a:gs>
                <a:gs pos="100000">
                  <a:srgbClr val="72afd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302840" y="376704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afd8"/>
                </a:gs>
                <a:gs pos="100000">
                  <a:srgbClr val="9cc6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2925720" y="5038560"/>
            <a:ext cx="1550520" cy="154080"/>
            <a:chOff x="2925720" y="5038560"/>
            <a:chExt cx="1550520" cy="154080"/>
          </a:xfrm>
        </p:grpSpPr>
        <p:sp>
          <p:nvSpPr>
            <p:cNvPr id="508" name=""/>
            <p:cNvSpPr/>
            <p:nvPr/>
          </p:nvSpPr>
          <p:spPr>
            <a:xfrm>
              <a:off x="2925720" y="5038560"/>
              <a:ext cx="1549080" cy="154080"/>
            </a:xfrm>
            <a:prstGeom prst="roundRect">
              <a:avLst>
                <a:gd name="adj" fmla="val 20588"/>
              </a:avLst>
            </a:prstGeom>
            <a:solidFill>
              <a:srgbClr val="80cab1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926800" y="50385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ab1"/>
                </a:gs>
                <a:gs pos="100000">
                  <a:srgbClr val="a6d9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2925720" y="4884840"/>
            <a:ext cx="1550520" cy="152280"/>
            <a:chOff x="2925720" y="4884840"/>
            <a:chExt cx="1550520" cy="152280"/>
          </a:xfrm>
        </p:grpSpPr>
        <p:sp>
          <p:nvSpPr>
            <p:cNvPr id="511" name=""/>
            <p:cNvSpPr/>
            <p:nvPr/>
          </p:nvSpPr>
          <p:spPr>
            <a:xfrm>
              <a:off x="2925720" y="488484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dac97"/>
                </a:gs>
                <a:gs pos="100000">
                  <a:srgbClr val="80cab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926800" y="48848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ab1"/>
                </a:gs>
                <a:gs pos="100000">
                  <a:srgbClr val="a6d9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4527720" y="5038560"/>
            <a:ext cx="1548720" cy="154080"/>
            <a:chOff x="4527720" y="5038560"/>
            <a:chExt cx="1548720" cy="154080"/>
          </a:xfrm>
        </p:grpSpPr>
        <p:sp>
          <p:nvSpPr>
            <p:cNvPr id="514" name=""/>
            <p:cNvSpPr/>
            <p:nvPr/>
          </p:nvSpPr>
          <p:spPr>
            <a:xfrm>
              <a:off x="4527720" y="5038560"/>
              <a:ext cx="1547280" cy="154080"/>
            </a:xfrm>
            <a:prstGeom prst="roundRect">
              <a:avLst>
                <a:gd name="adj" fmla="val 20588"/>
              </a:avLst>
            </a:prstGeom>
            <a:solidFill>
              <a:srgbClr val="e5879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528800" y="5038560"/>
              <a:ext cx="15476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58790"/>
                </a:gs>
                <a:gs pos="100000">
                  <a:srgbClr val="ecab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6148440" y="5038560"/>
            <a:ext cx="1549080" cy="154080"/>
            <a:chOff x="6148440" y="5038560"/>
            <a:chExt cx="1549080" cy="154080"/>
          </a:xfrm>
        </p:grpSpPr>
        <p:sp>
          <p:nvSpPr>
            <p:cNvPr id="517" name=""/>
            <p:cNvSpPr/>
            <p:nvPr/>
          </p:nvSpPr>
          <p:spPr>
            <a:xfrm>
              <a:off x="6148440" y="503856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0824f"/>
                </a:gs>
                <a:gs pos="100000">
                  <a:srgbClr val="e1995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149520" y="50385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1995d"/>
                </a:gs>
                <a:gs pos="100000">
                  <a:srgbClr val="e9b7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2925720" y="4699080"/>
            <a:ext cx="1550520" cy="152280"/>
            <a:chOff x="2925720" y="4699080"/>
            <a:chExt cx="1550520" cy="152280"/>
          </a:xfrm>
        </p:grpSpPr>
        <p:sp>
          <p:nvSpPr>
            <p:cNvPr id="520" name=""/>
            <p:cNvSpPr/>
            <p:nvPr/>
          </p:nvSpPr>
          <p:spPr>
            <a:xfrm>
              <a:off x="2925720" y="469908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dac97"/>
                </a:gs>
                <a:gs pos="100000">
                  <a:srgbClr val="80cab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926800" y="469908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ab1"/>
                </a:gs>
                <a:gs pos="100000">
                  <a:srgbClr val="a6d9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2925720" y="4521240"/>
            <a:ext cx="1550520" cy="152280"/>
            <a:chOff x="2925720" y="4521240"/>
            <a:chExt cx="1550520" cy="152280"/>
          </a:xfrm>
        </p:grpSpPr>
        <p:sp>
          <p:nvSpPr>
            <p:cNvPr id="523" name=""/>
            <p:cNvSpPr/>
            <p:nvPr/>
          </p:nvSpPr>
          <p:spPr>
            <a:xfrm>
              <a:off x="2925720" y="452124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dac97"/>
                </a:gs>
                <a:gs pos="100000">
                  <a:srgbClr val="80cab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926800" y="45212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ab1"/>
                </a:gs>
                <a:gs pos="100000">
                  <a:srgbClr val="a6d9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2925720" y="4335480"/>
            <a:ext cx="1550520" cy="152280"/>
            <a:chOff x="2925720" y="4335480"/>
            <a:chExt cx="1550520" cy="152280"/>
          </a:xfrm>
        </p:grpSpPr>
        <p:sp>
          <p:nvSpPr>
            <p:cNvPr id="526" name=""/>
            <p:cNvSpPr/>
            <p:nvPr/>
          </p:nvSpPr>
          <p:spPr>
            <a:xfrm>
              <a:off x="2925720" y="433548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dac97"/>
                </a:gs>
                <a:gs pos="100000">
                  <a:srgbClr val="80cab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926800" y="433548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cab1"/>
                </a:gs>
                <a:gs pos="100000">
                  <a:srgbClr val="a6d9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4527720" y="4883040"/>
            <a:ext cx="1548720" cy="154080"/>
            <a:chOff x="4527720" y="4883040"/>
            <a:chExt cx="1548720" cy="154080"/>
          </a:xfrm>
        </p:grpSpPr>
        <p:sp>
          <p:nvSpPr>
            <p:cNvPr id="529" name=""/>
            <p:cNvSpPr/>
            <p:nvPr/>
          </p:nvSpPr>
          <p:spPr>
            <a:xfrm>
              <a:off x="4527720" y="4883040"/>
              <a:ext cx="1547280" cy="154080"/>
            </a:xfrm>
            <a:prstGeom prst="roundRect">
              <a:avLst>
                <a:gd name="adj" fmla="val 20588"/>
              </a:avLst>
            </a:prstGeom>
            <a:solidFill>
              <a:srgbClr val="e5879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28800" y="4883040"/>
              <a:ext cx="15476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58790"/>
                </a:gs>
                <a:gs pos="100000">
                  <a:srgbClr val="ecab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4527720" y="4697280"/>
            <a:ext cx="1548720" cy="154080"/>
            <a:chOff x="4527720" y="4697280"/>
            <a:chExt cx="1548720" cy="154080"/>
          </a:xfrm>
        </p:grpSpPr>
        <p:sp>
          <p:nvSpPr>
            <p:cNvPr id="532" name=""/>
            <p:cNvSpPr/>
            <p:nvPr/>
          </p:nvSpPr>
          <p:spPr>
            <a:xfrm>
              <a:off x="4527720" y="4697280"/>
              <a:ext cx="1547280" cy="154080"/>
            </a:xfrm>
            <a:prstGeom prst="roundRect">
              <a:avLst>
                <a:gd name="adj" fmla="val 20588"/>
              </a:avLst>
            </a:prstGeom>
            <a:solidFill>
              <a:srgbClr val="e5879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528800" y="4697280"/>
              <a:ext cx="15476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58790"/>
                </a:gs>
                <a:gs pos="100000">
                  <a:srgbClr val="ecab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6148440" y="4875120"/>
            <a:ext cx="1549080" cy="154080"/>
            <a:chOff x="6148440" y="4875120"/>
            <a:chExt cx="1549080" cy="154080"/>
          </a:xfrm>
        </p:grpSpPr>
        <p:sp>
          <p:nvSpPr>
            <p:cNvPr id="535" name=""/>
            <p:cNvSpPr/>
            <p:nvPr/>
          </p:nvSpPr>
          <p:spPr>
            <a:xfrm>
              <a:off x="6148440" y="487512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0824f"/>
                </a:gs>
                <a:gs pos="100000">
                  <a:srgbClr val="e1995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149520" y="487512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1995d"/>
                </a:gs>
                <a:gs pos="100000">
                  <a:srgbClr val="e9b7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89cd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76320" y="5435640"/>
            <a:ext cx="2133360" cy="142236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 flipV="1">
            <a:off x="2087640" y="3859920"/>
            <a:ext cx="2282760" cy="1575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24d2f"/>
              </a:gs>
              <a:gs pos="100000">
                <a:srgbClr val="e1995d"/>
              </a:gs>
            </a:gsLst>
            <a:lin ang="81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ed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489560" y="2246400"/>
            <a:ext cx="2284200" cy="1574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58790"/>
              </a:gs>
              <a:gs pos="100000">
                <a:srgbClr val="bb6e76"/>
              </a:gs>
            </a:gsLst>
            <a:lin ang="81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ed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087640" y="2246400"/>
            <a:ext cx="2284200" cy="1574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d666d"/>
              </a:gs>
              <a:gs pos="100000">
                <a:srgbClr val="e58790"/>
              </a:gs>
            </a:gsLst>
            <a:lin ang="135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ed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3290760" y="2244600"/>
            <a:ext cx="2284560" cy="1573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95156"/>
              </a:gs>
              <a:gs pos="100000">
                <a:srgbClr val="e58790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286080" y="3857760"/>
            <a:ext cx="2284560" cy="1574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a7346"/>
              </a:gs>
              <a:gs pos="100000">
                <a:srgbClr val="e1995d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ed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4486320" y="3859920"/>
            <a:ext cx="2282760" cy="1575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1995d"/>
              </a:gs>
              <a:gs pos="100000">
                <a:srgbClr val="a36f43"/>
              </a:gs>
            </a:gsLst>
            <a:lin ang="135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ed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809880" y="2335320"/>
            <a:ext cx="123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614680" y="4089240"/>
            <a:ext cx="123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971960" y="4089240"/>
            <a:ext cx="123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09880" y="4678200"/>
            <a:ext cx="123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57160" y="2629080"/>
            <a:ext cx="17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296040" y="2646360"/>
            <a:ext cx="17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38080" y="4464000"/>
            <a:ext cx="17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343560" y="4481640"/>
            <a:ext cx="17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943360" y="1523880"/>
            <a:ext cx="30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213000" y="5530680"/>
            <a:ext cx="24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614680" y="2919240"/>
            <a:ext cx="123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971960" y="2919240"/>
            <a:ext cx="123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3581280" y="3276720"/>
            <a:ext cx="1652760" cy="1108080"/>
            <a:chOff x="3581280" y="3276720"/>
            <a:chExt cx="1652760" cy="1108080"/>
          </a:xfrm>
        </p:grpSpPr>
        <p:sp>
          <p:nvSpPr>
            <p:cNvPr id="558" name=""/>
            <p:cNvSpPr/>
            <p:nvPr/>
          </p:nvSpPr>
          <p:spPr>
            <a:xfrm>
              <a:off x="3581280" y="3276720"/>
              <a:ext cx="1652760" cy="1108080"/>
            </a:xfrm>
            <a:prstGeom prst="hexagon">
              <a:avLst>
                <a:gd name="adj" fmla="val 37289"/>
                <a:gd name="vf" fmla="val 115470"/>
              </a:avLst>
            </a:prstGeom>
            <a:solidFill>
              <a:srgbClr val="f8f8f8">
                <a:alpha val="50000"/>
              </a:srgbClr>
            </a:soli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624840" y="3303720"/>
              <a:ext cx="1554120" cy="1042200"/>
            </a:xfrm>
            <a:prstGeom prst="hexagon">
              <a:avLst>
                <a:gd name="adj" fmla="val 37280"/>
                <a:gd name="vf" fmla="val 115470"/>
              </a:avLst>
            </a:prstGeom>
            <a:solidFill>
              <a:srgbClr val="f8f8f8"/>
            </a:soli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3781440" y="344484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89cd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 flipH="1">
            <a:off x="0" y="6400800"/>
            <a:ext cx="2819520" cy="228600"/>
          </a:xfrm>
          <a:prstGeom prst="line">
            <a:avLst/>
          </a:prstGeom>
          <a:ln w="9360">
            <a:solidFill>
              <a:srgbClr val="000000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-360" y="3962520"/>
            <a:ext cx="609480" cy="2666880"/>
          </a:xfrm>
          <a:prstGeom prst="line">
            <a:avLst/>
          </a:prstGeom>
          <a:ln w="9360">
            <a:solidFill>
              <a:srgbClr val="000000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614600" y="3543480"/>
            <a:ext cx="228600" cy="228600"/>
          </a:xfrm>
          <a:prstGeom prst="donut">
            <a:avLst>
              <a:gd name="adj" fmla="val 25000"/>
            </a:avLst>
          </a:prstGeom>
          <a:solidFill>
            <a:srgbClr val="ffffff">
              <a:alpha val="60000"/>
            </a:srgbClr>
          </a:solidFill>
          <a:ln w="9360">
            <a:solidFill>
              <a:srgbClr val="72af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506680" y="4032360"/>
            <a:ext cx="228600" cy="228600"/>
          </a:xfrm>
          <a:prstGeom prst="donut">
            <a:avLst>
              <a:gd name="adj" fmla="val 25000"/>
            </a:avLst>
          </a:prstGeom>
          <a:solidFill>
            <a:srgbClr val="ffffff">
              <a:alpha val="60000"/>
            </a:srgbClr>
          </a:solidFill>
          <a:ln w="9360">
            <a:solidFill>
              <a:srgbClr val="72af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884320" y="5334120"/>
            <a:ext cx="228600" cy="228600"/>
          </a:xfrm>
          <a:prstGeom prst="donut">
            <a:avLst>
              <a:gd name="adj" fmla="val 25000"/>
            </a:avLst>
          </a:prstGeom>
          <a:solidFill>
            <a:srgbClr val="ffffff">
              <a:alpha val="60000"/>
            </a:srgbClr>
          </a:solidFill>
          <a:ln w="9360">
            <a:solidFill>
              <a:srgbClr val="72af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0" y="3751200"/>
            <a:ext cx="1665360" cy="2878200"/>
          </a:xfrm>
          <a:prstGeom prst="line">
            <a:avLst/>
          </a:prstGeom>
          <a:ln w="9360">
            <a:solidFill>
              <a:srgbClr val="000000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-360" y="5481720"/>
            <a:ext cx="2895480" cy="1147680"/>
          </a:xfrm>
          <a:prstGeom prst="line">
            <a:avLst/>
          </a:prstGeom>
          <a:ln w="9360">
            <a:solidFill>
              <a:srgbClr val="000000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0" y="2243160"/>
            <a:ext cx="1866960" cy="4386240"/>
          </a:xfrm>
          <a:prstGeom prst="line">
            <a:avLst/>
          </a:prstGeom>
          <a:ln w="19080">
            <a:solidFill>
              <a:srgbClr val="e1995d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0" y="3570120"/>
            <a:ext cx="2309760" cy="3059280"/>
          </a:xfrm>
          <a:prstGeom prst="line">
            <a:avLst/>
          </a:prstGeom>
          <a:ln w="19080">
            <a:solidFill>
              <a:srgbClr val="72afd8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-360" y="4836960"/>
            <a:ext cx="2846520" cy="1792440"/>
          </a:xfrm>
          <a:prstGeom prst="line">
            <a:avLst/>
          </a:prstGeom>
          <a:ln w="19080">
            <a:solidFill>
              <a:srgbClr val="e58790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0" y="5883120"/>
            <a:ext cx="3867120" cy="746280"/>
          </a:xfrm>
          <a:prstGeom prst="line">
            <a:avLst/>
          </a:prstGeom>
          <a:ln w="19080">
            <a:solidFill>
              <a:srgbClr val="80cab1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-2285640" y="4567320"/>
            <a:ext cx="4571280" cy="4580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080808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0" y="4232160"/>
            <a:ext cx="2532240" cy="2625840"/>
          </a:xfrm>
          <a:prstGeom prst="line">
            <a:avLst/>
          </a:prstGeom>
          <a:ln w="9360">
            <a:solidFill>
              <a:srgbClr val="000000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-2193480" y="4667400"/>
            <a:ext cx="4386960" cy="438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889cd"/>
              </a:gs>
              <a:gs pos="100000">
                <a:srgbClr val="e4c6e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-2138040" y="4722840"/>
            <a:ext cx="4276080" cy="426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dbb3de"/>
              </a:gs>
              <a:gs pos="100000">
                <a:srgbClr val="c889cd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3080" y="5583240"/>
            <a:ext cx="1644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Verdana"/>
              </a:rPr>
              <a:t>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368440" y="1719360"/>
            <a:ext cx="14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2008.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908440" y="311796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</a:rPr>
              <a:t>2006 ~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424320" y="439272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</a:rPr>
              <a:t>2005 ~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479840" y="5483160"/>
            <a:ext cx="189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</a:rPr>
              <a:t>2004 ~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2637000" y="2120760"/>
            <a:ext cx="128520" cy="128880"/>
            <a:chOff x="2637000" y="2120760"/>
            <a:chExt cx="128520" cy="128880"/>
          </a:xfrm>
        </p:grpSpPr>
        <p:sp>
          <p:nvSpPr>
            <p:cNvPr id="583" name=""/>
            <p:cNvSpPr/>
            <p:nvPr/>
          </p:nvSpPr>
          <p:spPr>
            <a:xfrm>
              <a:off x="2637000" y="2120760"/>
              <a:ext cx="128520" cy="128880"/>
            </a:xfrm>
            <a:custGeom>
              <a:avLst/>
              <a:gdLst>
                <a:gd name="textAreaLeft" fmla="*/ 6120 w 128520"/>
                <a:gd name="textAreaRight" fmla="*/ 122400 w 128520"/>
                <a:gd name="textAreaTop" fmla="*/ 6120 h 128880"/>
                <a:gd name="textAreaBottom" fmla="*/ 122760 h 128880"/>
              </a:gdLst>
              <a:ahLst/>
              <a:rect l="textAreaLeft" t="textAreaTop" r="textAreaRight" b="textAreaBottom"/>
              <a:pathLst>
                <a:path w="21600" h="21660">
                  <a:moveTo>
                    <a:pt x="3600" y="0"/>
                  </a:moveTo>
                  <a:arcTo wR="3600" hR="3600" stAng="16200000" swAng="-5400000"/>
                  <a:lnTo>
                    <a:pt x="0" y="18060"/>
                  </a:lnTo>
                  <a:arcTo wR="3600" hR="3600" stAng="10800000" swAng="-5400000"/>
                  <a:lnTo>
                    <a:pt x="18000" y="216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c889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675880" y="213768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889cd"/>
            </a:solidFill>
            <a:ln w="9360">
              <a:solidFill>
                <a:srgbClr val="c889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2774880" y="2033640"/>
            <a:ext cx="40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3273480" y="3508200"/>
            <a:ext cx="128520" cy="128880"/>
            <a:chOff x="3273480" y="3508200"/>
            <a:chExt cx="128520" cy="128880"/>
          </a:xfrm>
        </p:grpSpPr>
        <p:sp>
          <p:nvSpPr>
            <p:cNvPr id="587" name=""/>
            <p:cNvSpPr/>
            <p:nvPr/>
          </p:nvSpPr>
          <p:spPr>
            <a:xfrm>
              <a:off x="3273480" y="3508200"/>
              <a:ext cx="128520" cy="128880"/>
            </a:xfrm>
            <a:custGeom>
              <a:avLst/>
              <a:gdLst>
                <a:gd name="textAreaLeft" fmla="*/ 6120 w 128520"/>
                <a:gd name="textAreaRight" fmla="*/ 122400 w 128520"/>
                <a:gd name="textAreaTop" fmla="*/ 6120 h 128880"/>
                <a:gd name="textAreaBottom" fmla="*/ 122760 h 128880"/>
              </a:gdLst>
              <a:ahLst/>
              <a:rect l="textAreaLeft" t="textAreaTop" r="textAreaRight" b="textAreaBottom"/>
              <a:pathLst>
                <a:path w="21600" h="21660">
                  <a:moveTo>
                    <a:pt x="3600" y="0"/>
                  </a:moveTo>
                  <a:arcTo wR="3600" hR="3600" stAng="16200000" swAng="-5400000"/>
                  <a:lnTo>
                    <a:pt x="0" y="18060"/>
                  </a:lnTo>
                  <a:arcTo wR="3600" hR="3600" stAng="10800000" swAng="-5400000"/>
                  <a:lnTo>
                    <a:pt x="18000" y="216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c889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12360" y="352512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889cd"/>
            </a:solidFill>
            <a:ln w="9360">
              <a:solidFill>
                <a:srgbClr val="c889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3411360" y="3421080"/>
            <a:ext cx="40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3857760" y="4786200"/>
            <a:ext cx="128520" cy="128880"/>
            <a:chOff x="3857760" y="4786200"/>
            <a:chExt cx="128520" cy="128880"/>
          </a:xfrm>
        </p:grpSpPr>
        <p:sp>
          <p:nvSpPr>
            <p:cNvPr id="591" name=""/>
            <p:cNvSpPr/>
            <p:nvPr/>
          </p:nvSpPr>
          <p:spPr>
            <a:xfrm>
              <a:off x="3857760" y="4786200"/>
              <a:ext cx="128520" cy="128880"/>
            </a:xfrm>
            <a:custGeom>
              <a:avLst/>
              <a:gdLst>
                <a:gd name="textAreaLeft" fmla="*/ 6120 w 128520"/>
                <a:gd name="textAreaRight" fmla="*/ 122400 w 128520"/>
                <a:gd name="textAreaTop" fmla="*/ 6120 h 128880"/>
                <a:gd name="textAreaBottom" fmla="*/ 122760 h 128880"/>
              </a:gdLst>
              <a:ahLst/>
              <a:rect l="textAreaLeft" t="textAreaTop" r="textAreaRight" b="textAreaBottom"/>
              <a:pathLst>
                <a:path w="21600" h="21660">
                  <a:moveTo>
                    <a:pt x="3600" y="0"/>
                  </a:moveTo>
                  <a:arcTo wR="3600" hR="3600" stAng="16200000" swAng="-5400000"/>
                  <a:lnTo>
                    <a:pt x="0" y="18060"/>
                  </a:lnTo>
                  <a:arcTo wR="3600" hR="3600" stAng="10800000" swAng="-5400000"/>
                  <a:lnTo>
                    <a:pt x="18000" y="216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c889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896640" y="480312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889cd"/>
            </a:solidFill>
            <a:ln w="9360">
              <a:solidFill>
                <a:srgbClr val="c889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3995640" y="4699080"/>
            <a:ext cx="40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4726080" y="5878440"/>
            <a:ext cx="128520" cy="128520"/>
            <a:chOff x="4726080" y="5878440"/>
            <a:chExt cx="128520" cy="128520"/>
          </a:xfrm>
        </p:grpSpPr>
        <p:sp>
          <p:nvSpPr>
            <p:cNvPr id="595" name=""/>
            <p:cNvSpPr/>
            <p:nvPr/>
          </p:nvSpPr>
          <p:spPr>
            <a:xfrm>
              <a:off x="4726080" y="587844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c889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764960" y="589536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889cd"/>
            </a:solidFill>
            <a:ln w="9360">
              <a:solidFill>
                <a:srgbClr val="c889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4863960" y="5791320"/>
            <a:ext cx="40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34960" y="3732120"/>
            <a:ext cx="228600" cy="228600"/>
          </a:xfrm>
          <a:prstGeom prst="donut">
            <a:avLst>
              <a:gd name="adj" fmla="val 25000"/>
            </a:avLst>
          </a:prstGeom>
          <a:solidFill>
            <a:srgbClr val="ffffff">
              <a:alpha val="60000"/>
            </a:srgbClr>
          </a:solidFill>
          <a:ln w="9360">
            <a:solidFill>
              <a:srgbClr val="72af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819520" y="6302520"/>
            <a:ext cx="228600" cy="228600"/>
          </a:xfrm>
          <a:prstGeom prst="donut">
            <a:avLst>
              <a:gd name="adj" fmla="val 25000"/>
            </a:avLst>
          </a:prstGeom>
          <a:solidFill>
            <a:srgbClr val="ffffff">
              <a:alpha val="60000"/>
            </a:srgbClr>
          </a:solidFill>
          <a:ln w="9360">
            <a:solidFill>
              <a:srgbClr val="72af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rot="20226600">
            <a:off x="3521160" y="5398560"/>
            <a:ext cx="514440" cy="514440"/>
          </a:xfrm>
          <a:custGeom>
            <a:avLst/>
            <a:gdLst>
              <a:gd name="textAreaLeft" fmla="*/ 120960 w 514440"/>
              <a:gd name="textAreaRight" fmla="*/ 393120 w 514440"/>
              <a:gd name="textAreaTop" fmla="*/ 60480 h 514440"/>
              <a:gd name="textAreaBottom" fmla="*/ 322560 h 514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80cab1"/>
              </a:gs>
              <a:gs pos="100000">
                <a:srgbClr val="416659"/>
              </a:gs>
            </a:gsLst>
            <a:lin ang="6774000"/>
          </a:gra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523880" y="1752480"/>
            <a:ext cx="657360" cy="657360"/>
          </a:xfrm>
          <a:custGeom>
            <a:avLst/>
            <a:gdLst>
              <a:gd name="textAreaLeft" fmla="*/ 154440 w 657360"/>
              <a:gd name="textAreaRight" fmla="*/ 502560 w 657360"/>
              <a:gd name="textAreaTop" fmla="*/ 77040 h 657360"/>
              <a:gd name="textAreaBottom" fmla="*/ 412200 h 657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8e9dd"/>
              </a:gs>
              <a:gs pos="100000">
                <a:srgbClr val="e1995d"/>
              </a:gs>
            </a:gsLst>
            <a:lin ang="5400000"/>
          </a:gra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rot="801600">
            <a:off x="2041560" y="2952720"/>
            <a:ext cx="657360" cy="657360"/>
          </a:xfrm>
          <a:custGeom>
            <a:avLst/>
            <a:gdLst>
              <a:gd name="textAreaLeft" fmla="*/ 154440 w 657360"/>
              <a:gd name="textAreaRight" fmla="*/ 502560 w 657360"/>
              <a:gd name="textAreaTop" fmla="*/ 77040 h 657360"/>
              <a:gd name="textAreaBottom" fmla="*/ 412200 h 657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5e7f2"/>
              </a:gs>
              <a:gs pos="100000">
                <a:srgbClr val="72afd8"/>
              </a:gs>
            </a:gsLst>
            <a:lin ang="4596000"/>
          </a:gra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rot="1833000">
            <a:off x="2705040" y="4292640"/>
            <a:ext cx="604800" cy="604800"/>
          </a:xfrm>
          <a:custGeom>
            <a:avLst/>
            <a:gdLst>
              <a:gd name="textAreaLeft" fmla="*/ 142200 w 604800"/>
              <a:gd name="textAreaRight" fmla="*/ 462240 w 604800"/>
              <a:gd name="textAreaTop" fmla="*/ 70920 h 604800"/>
              <a:gd name="textAreaBottom" fmla="*/ 379440 h 6048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e58790"/>
              </a:gs>
              <a:gs pos="100000">
                <a:srgbClr val="b46a71"/>
              </a:gs>
            </a:gsLst>
            <a:lin ang="3570000"/>
          </a:gra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89cd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76320" y="5435640"/>
            <a:ext cx="2133360" cy="142236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 rot="18243000">
            <a:off x="5595120" y="2694600"/>
            <a:ext cx="1520640" cy="1322280"/>
          </a:xfrm>
          <a:prstGeom prst="blockArc">
            <a:avLst>
              <a:gd name="adj1" fmla="val 11415256"/>
              <a:gd name="adj2" fmla="val 20984744"/>
              <a:gd name="adj3" fmla="val 4958"/>
            </a:avLst>
          </a:pr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H="1" flipV="1" rot="12822000">
            <a:off x="2363040" y="3609720"/>
            <a:ext cx="1589040" cy="1555560"/>
          </a:xfrm>
          <a:prstGeom prst="blockArc">
            <a:avLst>
              <a:gd name="adj1" fmla="val 11415256"/>
              <a:gd name="adj2" fmla="val 20984744"/>
              <a:gd name="adj3" fmla="val 4958"/>
            </a:avLst>
          </a:pr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1741320" y="3340080"/>
            <a:ext cx="939960" cy="993960"/>
            <a:chOff x="1741320" y="3340080"/>
            <a:chExt cx="939960" cy="993960"/>
          </a:xfrm>
        </p:grpSpPr>
        <p:pic>
          <p:nvPicPr>
            <p:cNvPr id="609" name="" descr=""/>
            <p:cNvPicPr/>
            <p:nvPr/>
          </p:nvPicPr>
          <p:blipFill>
            <a:blip r:embed="rId2"/>
            <a:stretch/>
          </p:blipFill>
          <p:spPr>
            <a:xfrm>
              <a:off x="1830600" y="411948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" descr=""/>
            <p:cNvPicPr/>
            <p:nvPr/>
          </p:nvPicPr>
          <p:blipFill>
            <a:blip r:embed="rId3"/>
            <a:stretch/>
          </p:blipFill>
          <p:spPr>
            <a:xfrm>
              <a:off x="1741320" y="3340080"/>
              <a:ext cx="93996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1741320" y="3340080"/>
              <a:ext cx="933480" cy="919080"/>
            </a:xfrm>
            <a:prstGeom prst="ellipse">
              <a:avLst/>
            </a:prstGeom>
            <a:gradFill rotWithShape="0">
              <a:gsLst>
                <a:gs pos="0">
                  <a:srgbClr val="6b601d">
                    <a:alpha val="90196"/>
                  </a:srgbClr>
                </a:gs>
                <a:gs pos="50000">
                  <a:srgbClr val="e9d13f">
                    <a:alpha val="55294"/>
                  </a:srgbClr>
                </a:gs>
                <a:gs pos="100000">
                  <a:srgbClr val="6b601d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未知"/>
            <p:cNvSpPr/>
            <p:nvPr/>
          </p:nvSpPr>
          <p:spPr>
            <a:xfrm>
              <a:off x="1837440" y="3358440"/>
              <a:ext cx="734040" cy="317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"/>
          <p:cNvSpPr/>
          <p:nvPr/>
        </p:nvSpPr>
        <p:spPr>
          <a:xfrm rot="19693200">
            <a:off x="3641400" y="2430360"/>
            <a:ext cx="1520640" cy="1322640"/>
          </a:xfrm>
          <a:prstGeom prst="blockArc">
            <a:avLst>
              <a:gd name="adj1" fmla="val 11415256"/>
              <a:gd name="adj2" fmla="val 20984744"/>
              <a:gd name="adj3" fmla="val 4958"/>
            </a:avLst>
          </a:pr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2862360" y="3213000"/>
            <a:ext cx="1216080" cy="1285560"/>
            <a:chOff x="2862360" y="3213000"/>
            <a:chExt cx="1216080" cy="1285560"/>
          </a:xfrm>
        </p:grpSpPr>
        <p:pic>
          <p:nvPicPr>
            <p:cNvPr id="615" name="" descr=""/>
            <p:cNvPicPr/>
            <p:nvPr/>
          </p:nvPicPr>
          <p:blipFill>
            <a:blip r:embed="rId4"/>
            <a:stretch/>
          </p:blipFill>
          <p:spPr>
            <a:xfrm>
              <a:off x="2977560" y="4221000"/>
              <a:ext cx="10008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" descr=""/>
            <p:cNvPicPr/>
            <p:nvPr/>
          </p:nvPicPr>
          <p:blipFill>
            <a:blip r:embed="rId5"/>
            <a:stretch/>
          </p:blipFill>
          <p:spPr>
            <a:xfrm>
              <a:off x="2862360" y="3213000"/>
              <a:ext cx="121608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2862360" y="3213000"/>
              <a:ext cx="1207800" cy="1189080"/>
            </a:xfrm>
            <a:prstGeom prst="ellipse">
              <a:avLst/>
            </a:prstGeom>
            <a:gradFill rotWithShape="0">
              <a:gsLst>
                <a:gs pos="0">
                  <a:srgbClr val="693e42">
                    <a:alpha val="90196"/>
                  </a:srgbClr>
                </a:gs>
                <a:gs pos="50000">
                  <a:srgbClr val="e58790">
                    <a:alpha val="55294"/>
                  </a:srgbClr>
                </a:gs>
                <a:gs pos="100000">
                  <a:srgbClr val="693e42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未知"/>
            <p:cNvSpPr/>
            <p:nvPr/>
          </p:nvSpPr>
          <p:spPr>
            <a:xfrm>
              <a:off x="2986920" y="3237120"/>
              <a:ext cx="949680" cy="4111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5334120" y="5181480"/>
            <a:ext cx="3352680" cy="1295640"/>
          </a:xfrm>
          <a:prstGeom prst="roundRect">
            <a:avLst>
              <a:gd name="adj" fmla="val 50000"/>
            </a:avLst>
          </a:pr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5564160" y="5421240"/>
            <a:ext cx="2914560" cy="835200"/>
            <a:chOff x="5564160" y="5421240"/>
            <a:chExt cx="2914560" cy="835200"/>
          </a:xfrm>
        </p:grpSpPr>
        <p:sp>
          <p:nvSpPr>
            <p:cNvPr id="621" name=""/>
            <p:cNvSpPr/>
            <p:nvPr/>
          </p:nvSpPr>
          <p:spPr>
            <a:xfrm>
              <a:off x="5564160" y="5421240"/>
              <a:ext cx="835200" cy="8352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619680" y="5421240"/>
              <a:ext cx="835200" cy="8352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643880" y="5421240"/>
              <a:ext cx="834840" cy="8352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402240" y="5846760"/>
              <a:ext cx="2048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456320" y="5846760"/>
              <a:ext cx="1810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6337800" y="4965840"/>
            <a:ext cx="1434240" cy="353520"/>
            <a:chOff x="6337800" y="4965840"/>
            <a:chExt cx="1434240" cy="353520"/>
          </a:xfrm>
        </p:grpSpPr>
        <p:sp>
          <p:nvSpPr>
            <p:cNvPr id="627" name=""/>
            <p:cNvSpPr/>
            <p:nvPr/>
          </p:nvSpPr>
          <p:spPr>
            <a:xfrm>
              <a:off x="6342120" y="4965840"/>
              <a:ext cx="1416240" cy="353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f9f9f9"/>
                </a:gs>
              </a:gsLst>
              <a:lin ang="54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6337800" y="5016240"/>
              <a:ext cx="78120" cy="277920"/>
              <a:chOff x="6337800" y="5016240"/>
              <a:chExt cx="78120" cy="277920"/>
            </a:xfrm>
          </p:grpSpPr>
          <p:sp>
            <p:nvSpPr>
              <p:cNvPr id="629" name=""/>
              <p:cNvSpPr/>
              <p:nvPr/>
            </p:nvSpPr>
            <p:spPr>
              <a:xfrm flipV="1" rot="21333000">
                <a:off x="6347520" y="5017680"/>
                <a:ext cx="57960" cy="274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V="1" rot="21333000">
                <a:off x="6349680" y="5037480"/>
                <a:ext cx="35640" cy="231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V="1" rot="21333000">
                <a:off x="6348240" y="5068800"/>
                <a:ext cx="23040" cy="17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7686000" y="5012280"/>
              <a:ext cx="86040" cy="293040"/>
              <a:chOff x="7686000" y="5012280"/>
              <a:chExt cx="86040" cy="293040"/>
            </a:xfrm>
          </p:grpSpPr>
          <p:sp>
            <p:nvSpPr>
              <p:cNvPr id="633" name=""/>
              <p:cNvSpPr/>
              <p:nvPr/>
            </p:nvSpPr>
            <p:spPr>
              <a:xfrm flipH="1" flipV="1" rot="267000">
                <a:off x="7696800" y="5014080"/>
                <a:ext cx="63360" cy="289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 flipV="1" rot="267000">
                <a:off x="7716600" y="5036040"/>
                <a:ext cx="38880" cy="244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 flipV="1" rot="267000">
                <a:off x="7732440" y="5067360"/>
                <a:ext cx="24840" cy="180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36" name="" descr=""/>
            <p:cNvPicPr/>
            <p:nvPr/>
          </p:nvPicPr>
          <p:blipFill>
            <a:blip r:embed="rId6"/>
            <a:srcRect l="0" t="8894" r="58316" b="12321"/>
            <a:stretch/>
          </p:blipFill>
          <p:spPr>
            <a:xfrm rot="16200000">
              <a:off x="6933960" y="4434480"/>
              <a:ext cx="218880" cy="129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7" name=""/>
          <p:cNvGrpSpPr/>
          <p:nvPr/>
        </p:nvGrpSpPr>
        <p:grpSpPr>
          <a:xfrm>
            <a:off x="3435480" y="1814400"/>
            <a:ext cx="1136520" cy="1203120"/>
            <a:chOff x="3435480" y="1814400"/>
            <a:chExt cx="1136520" cy="1203120"/>
          </a:xfrm>
        </p:grpSpPr>
        <p:pic>
          <p:nvPicPr>
            <p:cNvPr id="638" name="" descr=""/>
            <p:cNvPicPr/>
            <p:nvPr/>
          </p:nvPicPr>
          <p:blipFill>
            <a:blip r:embed="rId7"/>
            <a:stretch/>
          </p:blipFill>
          <p:spPr>
            <a:xfrm>
              <a:off x="3543480" y="2757960"/>
              <a:ext cx="935280" cy="25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" descr=""/>
            <p:cNvPicPr/>
            <p:nvPr/>
          </p:nvPicPr>
          <p:blipFill>
            <a:blip r:embed="rId8"/>
            <a:stretch/>
          </p:blipFill>
          <p:spPr>
            <a:xfrm>
              <a:off x="3435480" y="1814400"/>
              <a:ext cx="1136520" cy="110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3435480" y="1814400"/>
              <a:ext cx="1128960" cy="1112760"/>
            </a:xfrm>
            <a:prstGeom prst="ellipse">
              <a:avLst/>
            </a:prstGeom>
            <a:gradFill rotWithShape="0">
              <a:gsLst>
                <a:gs pos="0">
                  <a:srgbClr val="72afd8">
                    <a:alpha val="90196"/>
                  </a:srgbClr>
                </a:gs>
                <a:gs pos="50000">
                  <a:srgbClr val="ffffff">
                    <a:alpha val="55294"/>
                  </a:srgbClr>
                </a:gs>
                <a:gs pos="100000">
                  <a:srgbClr val="72afd8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未知"/>
            <p:cNvSpPr/>
            <p:nvPr/>
          </p:nvSpPr>
          <p:spPr>
            <a:xfrm>
              <a:off x="3551760" y="1836720"/>
              <a:ext cx="887400" cy="3848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4826160" y="2209680"/>
            <a:ext cx="1215720" cy="1285560"/>
            <a:chOff x="4826160" y="2209680"/>
            <a:chExt cx="1215720" cy="1285560"/>
          </a:xfrm>
        </p:grpSpPr>
        <p:pic>
          <p:nvPicPr>
            <p:cNvPr id="643" name="" descr=""/>
            <p:cNvPicPr/>
            <p:nvPr/>
          </p:nvPicPr>
          <p:blipFill>
            <a:blip r:embed="rId9"/>
            <a:stretch/>
          </p:blipFill>
          <p:spPr>
            <a:xfrm>
              <a:off x="4941360" y="3217680"/>
              <a:ext cx="100044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" descr=""/>
            <p:cNvPicPr/>
            <p:nvPr/>
          </p:nvPicPr>
          <p:blipFill>
            <a:blip r:embed="rId10"/>
            <a:stretch/>
          </p:blipFill>
          <p:spPr>
            <a:xfrm>
              <a:off x="4826160" y="2209680"/>
              <a:ext cx="121572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4826160" y="2209680"/>
              <a:ext cx="1207440" cy="1189080"/>
            </a:xfrm>
            <a:prstGeom prst="ellipse">
              <a:avLst/>
            </a:prstGeom>
            <a:gradFill rotWithShape="0">
              <a:gsLst>
                <a:gs pos="0">
                  <a:srgbClr val="3b5d51">
                    <a:alpha val="90196"/>
                  </a:srgbClr>
                </a:gs>
                <a:gs pos="50000">
                  <a:srgbClr val="80cab1">
                    <a:alpha val="55294"/>
                  </a:srgbClr>
                </a:gs>
                <a:gs pos="100000">
                  <a:srgbClr val="3b5d5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未知"/>
            <p:cNvSpPr/>
            <p:nvPr/>
          </p:nvSpPr>
          <p:spPr>
            <a:xfrm>
              <a:off x="4950720" y="2233800"/>
              <a:ext cx="949320" cy="4111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2394000" y="4367160"/>
            <a:ext cx="939600" cy="993960"/>
            <a:chOff x="2394000" y="4367160"/>
            <a:chExt cx="939600" cy="993960"/>
          </a:xfrm>
        </p:grpSpPr>
        <p:pic>
          <p:nvPicPr>
            <p:cNvPr id="648" name="" descr=""/>
            <p:cNvPicPr/>
            <p:nvPr/>
          </p:nvPicPr>
          <p:blipFill>
            <a:blip r:embed="rId11"/>
            <a:stretch/>
          </p:blipFill>
          <p:spPr>
            <a:xfrm>
              <a:off x="2483280" y="514656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9" name="" descr=""/>
            <p:cNvPicPr/>
            <p:nvPr/>
          </p:nvPicPr>
          <p:blipFill>
            <a:blip r:embed="rId12"/>
            <a:stretch/>
          </p:blipFill>
          <p:spPr>
            <a:xfrm>
              <a:off x="2394000" y="4367160"/>
              <a:ext cx="93960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"/>
            <p:cNvSpPr/>
            <p:nvPr/>
          </p:nvSpPr>
          <p:spPr>
            <a:xfrm>
              <a:off x="2394000" y="4367160"/>
              <a:ext cx="933120" cy="919080"/>
            </a:xfrm>
            <a:prstGeom prst="ellipse">
              <a:avLst/>
            </a:prstGeom>
            <a:gradFill rotWithShape="0">
              <a:gsLst>
                <a:gs pos="0">
                  <a:srgbClr val="6b601d">
                    <a:alpha val="90196"/>
                  </a:srgbClr>
                </a:gs>
                <a:gs pos="50000">
                  <a:srgbClr val="e9d13f">
                    <a:alpha val="55294"/>
                  </a:srgbClr>
                </a:gs>
                <a:gs pos="100000">
                  <a:srgbClr val="6b601d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未知"/>
            <p:cNvSpPr/>
            <p:nvPr/>
          </p:nvSpPr>
          <p:spPr>
            <a:xfrm>
              <a:off x="2490120" y="4385520"/>
              <a:ext cx="733680" cy="317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3703680" y="4346640"/>
            <a:ext cx="939600" cy="993600"/>
            <a:chOff x="3703680" y="4346640"/>
            <a:chExt cx="939600" cy="993600"/>
          </a:xfrm>
        </p:grpSpPr>
        <p:pic>
          <p:nvPicPr>
            <p:cNvPr id="653" name="" descr=""/>
            <p:cNvPicPr/>
            <p:nvPr/>
          </p:nvPicPr>
          <p:blipFill>
            <a:blip r:embed="rId13"/>
            <a:stretch/>
          </p:blipFill>
          <p:spPr>
            <a:xfrm>
              <a:off x="3792960" y="512568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" descr=""/>
            <p:cNvPicPr/>
            <p:nvPr/>
          </p:nvPicPr>
          <p:blipFill>
            <a:blip r:embed="rId14"/>
            <a:stretch/>
          </p:blipFill>
          <p:spPr>
            <a:xfrm>
              <a:off x="3703680" y="434664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3703680" y="4346640"/>
              <a:ext cx="933120" cy="918720"/>
            </a:xfrm>
            <a:prstGeom prst="ellipse">
              <a:avLst/>
            </a:prstGeom>
            <a:gradFill rotWithShape="0">
              <a:gsLst>
                <a:gs pos="0">
                  <a:srgbClr val="6b601d">
                    <a:alpha val="90196"/>
                  </a:srgbClr>
                </a:gs>
                <a:gs pos="50000">
                  <a:srgbClr val="e9d13f">
                    <a:alpha val="55294"/>
                  </a:srgbClr>
                </a:gs>
                <a:gs pos="100000">
                  <a:srgbClr val="6b601d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未知"/>
            <p:cNvSpPr/>
            <p:nvPr/>
          </p:nvSpPr>
          <p:spPr>
            <a:xfrm>
              <a:off x="3799800" y="4365000"/>
              <a:ext cx="733680" cy="317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5373720" y="3524400"/>
            <a:ext cx="939600" cy="993600"/>
            <a:chOff x="5373720" y="3524400"/>
            <a:chExt cx="939600" cy="993600"/>
          </a:xfrm>
        </p:grpSpPr>
        <p:pic>
          <p:nvPicPr>
            <p:cNvPr id="658" name="" descr=""/>
            <p:cNvPicPr/>
            <p:nvPr/>
          </p:nvPicPr>
          <p:blipFill>
            <a:blip r:embed="rId15"/>
            <a:stretch/>
          </p:blipFill>
          <p:spPr>
            <a:xfrm>
              <a:off x="5463000" y="430344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" descr=""/>
            <p:cNvPicPr/>
            <p:nvPr/>
          </p:nvPicPr>
          <p:blipFill>
            <a:blip r:embed="rId16"/>
            <a:stretch/>
          </p:blipFill>
          <p:spPr>
            <a:xfrm>
              <a:off x="5373720" y="352440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"/>
            <p:cNvSpPr/>
            <p:nvPr/>
          </p:nvSpPr>
          <p:spPr>
            <a:xfrm>
              <a:off x="5373720" y="3524400"/>
              <a:ext cx="933120" cy="918720"/>
            </a:xfrm>
            <a:prstGeom prst="ellipse">
              <a:avLst/>
            </a:prstGeom>
            <a:gradFill rotWithShape="0">
              <a:gsLst>
                <a:gs pos="0">
                  <a:srgbClr val="6b601d">
                    <a:alpha val="90196"/>
                  </a:srgbClr>
                </a:gs>
                <a:gs pos="50000">
                  <a:srgbClr val="e9d13f">
                    <a:alpha val="55294"/>
                  </a:srgbClr>
                </a:gs>
                <a:gs pos="100000">
                  <a:srgbClr val="6b601d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未知"/>
            <p:cNvSpPr/>
            <p:nvPr/>
          </p:nvSpPr>
          <p:spPr>
            <a:xfrm>
              <a:off x="5469840" y="3542760"/>
              <a:ext cx="733680" cy="317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6184800" y="2252520"/>
            <a:ext cx="939960" cy="993960"/>
            <a:chOff x="6184800" y="2252520"/>
            <a:chExt cx="939960" cy="993960"/>
          </a:xfrm>
        </p:grpSpPr>
        <p:pic>
          <p:nvPicPr>
            <p:cNvPr id="663" name="" descr=""/>
            <p:cNvPicPr/>
            <p:nvPr/>
          </p:nvPicPr>
          <p:blipFill>
            <a:blip r:embed="rId17"/>
            <a:stretch/>
          </p:blipFill>
          <p:spPr>
            <a:xfrm>
              <a:off x="6274080" y="303192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4" name="" descr=""/>
            <p:cNvPicPr/>
            <p:nvPr/>
          </p:nvPicPr>
          <p:blipFill>
            <a:blip r:embed="rId18"/>
            <a:stretch/>
          </p:blipFill>
          <p:spPr>
            <a:xfrm>
              <a:off x="6184800" y="2252520"/>
              <a:ext cx="93996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"/>
            <p:cNvSpPr/>
            <p:nvPr/>
          </p:nvSpPr>
          <p:spPr>
            <a:xfrm>
              <a:off x="6184800" y="2252520"/>
              <a:ext cx="933480" cy="919080"/>
            </a:xfrm>
            <a:prstGeom prst="ellipse">
              <a:avLst/>
            </a:prstGeom>
            <a:gradFill rotWithShape="0">
              <a:gsLst>
                <a:gs pos="0">
                  <a:srgbClr val="6b601d">
                    <a:alpha val="90196"/>
                  </a:srgbClr>
                </a:gs>
                <a:gs pos="50000">
                  <a:srgbClr val="e9d13f">
                    <a:alpha val="55294"/>
                  </a:srgbClr>
                </a:gs>
                <a:gs pos="100000">
                  <a:srgbClr val="6b601d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未知"/>
            <p:cNvSpPr/>
            <p:nvPr/>
          </p:nvSpPr>
          <p:spPr>
            <a:xfrm>
              <a:off x="6280920" y="2270880"/>
              <a:ext cx="734040" cy="317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"/>
          <p:cNvSpPr/>
          <p:nvPr/>
        </p:nvSpPr>
        <p:spPr>
          <a:xfrm>
            <a:off x="2968560" y="35053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946760" y="251604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164280" y="2462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354640" y="371808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738440" y="355932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389320" y="459900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703680" y="45720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568840" y="5607000"/>
            <a:ext cx="82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657840" y="5607000"/>
            <a:ext cx="82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667640" y="5616720"/>
            <a:ext cx="82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405480" y="5010120"/>
            <a:ext cx="13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659040" y="219564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394812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219320" y="5396040"/>
            <a:ext cx="182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429000" y="539604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302520" y="4179960"/>
            <a:ext cx="182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7086600" y="288144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89cd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7720" y="3657240"/>
            <a:ext cx="8001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8fca"/>
                </a:solidFill>
                <a:latin typeface="微软雅黑"/>
              </a:rPr>
              <a:t>Thank You!</a:t>
            </a:r>
            <a:endParaRPr b="1" lang="en-US" sz="4400" spc="-1" strike="noStrike">
              <a:solidFill>
                <a:srgbClr val="3c8fca"/>
              </a:solidFill>
              <a:latin typeface="微软雅黑"/>
            </a:endParaRPr>
          </a:p>
        </p:txBody>
      </p:sp>
      <p:sp>
        <p:nvSpPr>
          <p:cNvPr id="686" name=""/>
          <p:cNvSpPr/>
          <p:nvPr/>
        </p:nvSpPr>
        <p:spPr>
          <a:xfrm>
            <a:off x="1820880" y="563868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889cd"/>
                </a:solidFill>
                <a:latin typeface="微软雅黑"/>
              </a:rPr>
              <a:t>使用规范说明</a:t>
            </a:r>
            <a:endParaRPr b="0" lang="en-US" sz="2800" spc="-1" strike="noStrike">
              <a:solidFill>
                <a:srgbClr val="c889cd"/>
              </a:solidFill>
              <a:latin typeface="微软雅黑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微软雅黑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微软雅黑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微软雅黑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e1995d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e1995d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微软雅黑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1995d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e1995d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e1995d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1995d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e1995d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e1995d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1995d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e1995d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e1995d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1995d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e1995d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1995d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1995d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129EF-4B5A-4737-B3FA-C498DB8D62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78480" y="5369040"/>
            <a:ext cx="1547640" cy="1400040"/>
            <a:chOff x="78480" y="5369040"/>
            <a:chExt cx="1547640" cy="1400040"/>
          </a:xfrm>
        </p:grpSpPr>
        <p:grpSp>
          <p:nvGrpSpPr>
            <p:cNvPr id="111" name=""/>
            <p:cNvGrpSpPr/>
            <p:nvPr/>
          </p:nvGrpSpPr>
          <p:grpSpPr>
            <a:xfrm>
              <a:off x="543240" y="5942160"/>
              <a:ext cx="162360" cy="181080"/>
              <a:chOff x="543240" y="5942160"/>
              <a:chExt cx="162360" cy="181080"/>
            </a:xfrm>
          </p:grpSpPr>
          <p:grpSp>
            <p:nvGrpSpPr>
              <p:cNvPr id="112" name=""/>
              <p:cNvGrpSpPr/>
              <p:nvPr/>
            </p:nvGrpSpPr>
            <p:grpSpPr>
              <a:xfrm>
                <a:off x="590760" y="5964840"/>
                <a:ext cx="114840" cy="158400"/>
                <a:chOff x="590760" y="5964840"/>
                <a:chExt cx="114840" cy="158400"/>
              </a:xfrm>
            </p:grpSpPr>
            <p:sp>
              <p:nvSpPr>
                <p:cNvPr id="113" name="未知"/>
                <p:cNvSpPr/>
                <p:nvPr/>
              </p:nvSpPr>
              <p:spPr>
                <a:xfrm flipH="1" flipV="1" rot="1471200">
                  <a:off x="602640" y="6042960"/>
                  <a:ext cx="52920" cy="723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c889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未知"/>
                <p:cNvSpPr/>
                <p:nvPr/>
              </p:nvSpPr>
              <p:spPr>
                <a:xfrm flipH="1" flipV="1" rot="19629600">
                  <a:off x="637560" y="6013440"/>
                  <a:ext cx="52560" cy="7272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c889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未知"/>
                <p:cNvSpPr/>
                <p:nvPr/>
              </p:nvSpPr>
              <p:spPr>
                <a:xfrm flipH="1" rot="1471200">
                  <a:off x="635040" y="5972400"/>
                  <a:ext cx="52920" cy="723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c889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543240" y="5942160"/>
                <a:ext cx="113040" cy="158040"/>
                <a:chOff x="543240" y="5942160"/>
                <a:chExt cx="113040" cy="158040"/>
              </a:xfrm>
            </p:grpSpPr>
            <p:sp>
              <p:nvSpPr>
                <p:cNvPr id="117" name="未知"/>
                <p:cNvSpPr/>
                <p:nvPr/>
              </p:nvSpPr>
              <p:spPr>
                <a:xfrm flipV="1" rot="1568400">
                  <a:off x="556560" y="6019560"/>
                  <a:ext cx="52920" cy="7272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c889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未知"/>
                <p:cNvSpPr/>
                <p:nvPr/>
              </p:nvSpPr>
              <p:spPr>
                <a:xfrm flipV="1" rot="5010000">
                  <a:off x="556200" y="5974920"/>
                  <a:ext cx="52560" cy="723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c889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未知"/>
                <p:cNvSpPr/>
                <p:nvPr/>
              </p:nvSpPr>
              <p:spPr>
                <a:xfrm rot="1568400">
                  <a:off x="589680" y="5950080"/>
                  <a:ext cx="52920" cy="7272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c889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"/>
            <p:cNvGrpSpPr/>
            <p:nvPr/>
          </p:nvGrpSpPr>
          <p:grpSpPr>
            <a:xfrm>
              <a:off x="464400" y="5369040"/>
              <a:ext cx="216360" cy="239040"/>
              <a:chOff x="464400" y="5369040"/>
              <a:chExt cx="216360" cy="239040"/>
            </a:xfrm>
          </p:grpSpPr>
          <p:grpSp>
            <p:nvGrpSpPr>
              <p:cNvPr id="121" name=""/>
              <p:cNvGrpSpPr/>
              <p:nvPr/>
            </p:nvGrpSpPr>
            <p:grpSpPr>
              <a:xfrm>
                <a:off x="527760" y="5399280"/>
                <a:ext cx="153000" cy="208800"/>
                <a:chOff x="527760" y="5399280"/>
                <a:chExt cx="153000" cy="208800"/>
              </a:xfrm>
            </p:grpSpPr>
            <p:sp>
              <p:nvSpPr>
                <p:cNvPr id="122" name="未知"/>
                <p:cNvSpPr/>
                <p:nvPr/>
              </p:nvSpPr>
              <p:spPr>
                <a:xfrm flipH="1" flipV="1" rot="1471200">
                  <a:off x="543960" y="5502240"/>
                  <a:ext cx="70200" cy="954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c889cd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未知"/>
                <p:cNvSpPr/>
                <p:nvPr/>
              </p:nvSpPr>
              <p:spPr>
                <a:xfrm flipH="1" flipV="1" rot="19629600">
                  <a:off x="590400" y="5464080"/>
                  <a:ext cx="69120" cy="968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c889cd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未知"/>
                <p:cNvSpPr/>
                <p:nvPr/>
              </p:nvSpPr>
              <p:spPr>
                <a:xfrm flipH="1" rot="1471200">
                  <a:off x="586800" y="5409360"/>
                  <a:ext cx="70200" cy="954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c889cd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464400" y="5369040"/>
                <a:ext cx="149040" cy="208800"/>
                <a:chOff x="464400" y="5369040"/>
                <a:chExt cx="149040" cy="208800"/>
              </a:xfrm>
            </p:grpSpPr>
            <p:sp>
              <p:nvSpPr>
                <p:cNvPr id="126" name="未知"/>
                <p:cNvSpPr/>
                <p:nvPr/>
              </p:nvSpPr>
              <p:spPr>
                <a:xfrm flipV="1" rot="1568400">
                  <a:off x="481680" y="5471640"/>
                  <a:ext cx="70200" cy="954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c889cd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未知"/>
                <p:cNvSpPr/>
                <p:nvPr/>
              </p:nvSpPr>
              <p:spPr>
                <a:xfrm flipV="1" rot="5010000">
                  <a:off x="481680" y="5411160"/>
                  <a:ext cx="69120" cy="968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c889cd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未知"/>
                <p:cNvSpPr/>
                <p:nvPr/>
              </p:nvSpPr>
              <p:spPr>
                <a:xfrm rot="1568400">
                  <a:off x="525600" y="5379480"/>
                  <a:ext cx="70200" cy="954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c889cd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78480" y="5463720"/>
              <a:ext cx="635760" cy="660600"/>
              <a:chOff x="78480" y="5463720"/>
              <a:chExt cx="635760" cy="66060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227160" y="5463720"/>
                <a:ext cx="487080" cy="545040"/>
                <a:chOff x="227160" y="5463720"/>
                <a:chExt cx="487080" cy="545040"/>
              </a:xfrm>
            </p:grpSpPr>
            <p:sp>
              <p:nvSpPr>
                <p:cNvPr id="131" name="未知"/>
                <p:cNvSpPr/>
                <p:nvPr/>
              </p:nvSpPr>
              <p:spPr>
                <a:xfrm flipH="1" flipV="1" rot="19290000">
                  <a:off x="461520" y="5715360"/>
                  <a:ext cx="192240" cy="26172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c889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未知"/>
                <p:cNvSpPr/>
                <p:nvPr/>
              </p:nvSpPr>
              <p:spPr>
                <a:xfrm flipH="1" flipV="1" rot="15848400">
                  <a:off x="428400" y="5556240"/>
                  <a:ext cx="189720" cy="2649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c889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未知"/>
                <p:cNvSpPr/>
                <p:nvPr/>
              </p:nvSpPr>
              <p:spPr>
                <a:xfrm flipH="1" rot="19290000">
                  <a:off x="287280" y="5495040"/>
                  <a:ext cx="192240" cy="26172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c889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78480" y="5576040"/>
                <a:ext cx="480600" cy="548280"/>
                <a:chOff x="78480" y="5576040"/>
                <a:chExt cx="480600" cy="548280"/>
              </a:xfrm>
            </p:grpSpPr>
            <p:sp>
              <p:nvSpPr>
                <p:cNvPr id="135" name="未知"/>
                <p:cNvSpPr/>
                <p:nvPr/>
              </p:nvSpPr>
              <p:spPr>
                <a:xfrm flipV="1" rot="19387200">
                  <a:off x="307440" y="5830920"/>
                  <a:ext cx="192240" cy="2613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c889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未知"/>
                <p:cNvSpPr/>
                <p:nvPr/>
              </p:nvSpPr>
              <p:spPr>
                <a:xfrm flipV="1" rot="1228800">
                  <a:off x="164160" y="5756040"/>
                  <a:ext cx="189720" cy="2646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c889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未知"/>
                <p:cNvSpPr/>
                <p:nvPr/>
              </p:nvSpPr>
              <p:spPr>
                <a:xfrm rot="19387800">
                  <a:off x="137520" y="5607360"/>
                  <a:ext cx="192240" cy="2613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c889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960840" y="5497560"/>
              <a:ext cx="174960" cy="165240"/>
              <a:chOff x="960840" y="5497560"/>
              <a:chExt cx="174960" cy="16524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979200" y="5497560"/>
                <a:ext cx="156600" cy="110160"/>
                <a:chOff x="979200" y="5497560"/>
                <a:chExt cx="156600" cy="110160"/>
              </a:xfrm>
            </p:grpSpPr>
            <p:sp>
              <p:nvSpPr>
                <p:cNvPr id="140" name="未知"/>
                <p:cNvSpPr/>
                <p:nvPr/>
              </p:nvSpPr>
              <p:spPr>
                <a:xfrm flipH="1" flipV="1" rot="17395800">
                  <a:off x="1067040" y="5535000"/>
                  <a:ext cx="51840" cy="7128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c889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未知"/>
                <p:cNvSpPr/>
                <p:nvPr/>
              </p:nvSpPr>
              <p:spPr>
                <a:xfrm flipH="1" flipV="1" rot="13953600">
                  <a:off x="1036080" y="5504040"/>
                  <a:ext cx="51840" cy="716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c889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未知"/>
                <p:cNvSpPr/>
                <p:nvPr/>
              </p:nvSpPr>
              <p:spPr>
                <a:xfrm flipH="1" rot="17395200">
                  <a:off x="995040" y="5509080"/>
                  <a:ext cx="51840" cy="7128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c889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960840" y="5554080"/>
                <a:ext cx="156600" cy="108720"/>
                <a:chOff x="960840" y="5554080"/>
                <a:chExt cx="156600" cy="108720"/>
              </a:xfrm>
            </p:grpSpPr>
            <p:sp>
              <p:nvSpPr>
                <p:cNvPr id="144" name="未知"/>
                <p:cNvSpPr/>
                <p:nvPr/>
              </p:nvSpPr>
              <p:spPr>
                <a:xfrm flipV="1" rot="17492400">
                  <a:off x="1048680" y="5582520"/>
                  <a:ext cx="51840" cy="7128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c889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未知"/>
                <p:cNvSpPr/>
                <p:nvPr/>
              </p:nvSpPr>
              <p:spPr>
                <a:xfrm flipV="1" rot="20934000">
                  <a:off x="1005120" y="5586480"/>
                  <a:ext cx="51480" cy="716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c889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未知"/>
                <p:cNvSpPr/>
                <p:nvPr/>
              </p:nvSpPr>
              <p:spPr>
                <a:xfrm rot="17493000">
                  <a:off x="977400" y="5555520"/>
                  <a:ext cx="51840" cy="7128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c889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"/>
            <p:cNvGrpSpPr/>
            <p:nvPr/>
          </p:nvGrpSpPr>
          <p:grpSpPr>
            <a:xfrm>
              <a:off x="1109880" y="5553720"/>
              <a:ext cx="413280" cy="368640"/>
              <a:chOff x="1109880" y="5553720"/>
              <a:chExt cx="413280" cy="368640"/>
            </a:xfrm>
          </p:grpSpPr>
          <p:grpSp>
            <p:nvGrpSpPr>
              <p:cNvPr id="148" name=""/>
              <p:cNvGrpSpPr/>
              <p:nvPr/>
            </p:nvGrpSpPr>
            <p:grpSpPr>
              <a:xfrm>
                <a:off x="1109880" y="5553720"/>
                <a:ext cx="413280" cy="368640"/>
                <a:chOff x="1109880" y="5553720"/>
                <a:chExt cx="413280" cy="368640"/>
              </a:xfrm>
            </p:grpSpPr>
            <p:grpSp>
              <p:nvGrpSpPr>
                <p:cNvPr id="149" name=""/>
                <p:cNvGrpSpPr/>
                <p:nvPr/>
              </p:nvGrpSpPr>
              <p:grpSpPr>
                <a:xfrm>
                  <a:off x="1315080" y="5553720"/>
                  <a:ext cx="208080" cy="360360"/>
                  <a:chOff x="1315080" y="5553720"/>
                  <a:chExt cx="208080" cy="360360"/>
                </a:xfrm>
              </p:grpSpPr>
              <p:sp>
                <p:nvSpPr>
                  <p:cNvPr id="150" name="未知"/>
                  <p:cNvSpPr/>
                  <p:nvPr/>
                </p:nvSpPr>
                <p:spPr>
                  <a:xfrm flipH="1" rot="21555000">
                    <a:off x="1315800" y="5554440"/>
                    <a:ext cx="1180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c889cd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未知"/>
                  <p:cNvSpPr/>
                  <p:nvPr/>
                </p:nvSpPr>
                <p:spPr>
                  <a:xfrm flipH="1" rot="3396600">
                    <a:off x="1357200" y="5654520"/>
                    <a:ext cx="125280" cy="16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c889cd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未知"/>
                  <p:cNvSpPr/>
                  <p:nvPr/>
                </p:nvSpPr>
                <p:spPr>
                  <a:xfrm flipH="1" flipV="1" rot="21555000">
                    <a:off x="1319760" y="5740200"/>
                    <a:ext cx="1180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c889cd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"/>
                <p:cNvGrpSpPr/>
                <p:nvPr/>
              </p:nvGrpSpPr>
              <p:grpSpPr>
                <a:xfrm>
                  <a:off x="1109880" y="5560200"/>
                  <a:ext cx="209520" cy="362160"/>
                  <a:chOff x="1109880" y="5560200"/>
                  <a:chExt cx="209520" cy="362160"/>
                </a:xfrm>
              </p:grpSpPr>
              <p:sp>
                <p:nvSpPr>
                  <p:cNvPr id="154" name="未知"/>
                  <p:cNvSpPr/>
                  <p:nvPr/>
                </p:nvSpPr>
                <p:spPr>
                  <a:xfrm rot="21495000">
                    <a:off x="1194120" y="5561640"/>
                    <a:ext cx="1180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c889cd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未知"/>
                  <p:cNvSpPr/>
                  <p:nvPr/>
                </p:nvSpPr>
                <p:spPr>
                  <a:xfrm rot="18053400">
                    <a:off x="1149120" y="5664240"/>
                    <a:ext cx="125280" cy="1630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c889cd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未知"/>
                  <p:cNvSpPr/>
                  <p:nvPr/>
                </p:nvSpPr>
                <p:spPr>
                  <a:xfrm flipV="1" rot="21495000">
                    <a:off x="1198440" y="5747400"/>
                    <a:ext cx="1180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c889cd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7" name=""/>
              <p:cNvGrpSpPr/>
              <p:nvPr/>
            </p:nvGrpSpPr>
            <p:grpSpPr>
              <a:xfrm>
                <a:off x="1196280" y="5604840"/>
                <a:ext cx="240120" cy="266400"/>
                <a:chOff x="1196280" y="5604840"/>
                <a:chExt cx="240120" cy="266400"/>
              </a:xfrm>
            </p:grpSpPr>
            <p:grpSp>
              <p:nvGrpSpPr>
                <p:cNvPr id="158" name=""/>
                <p:cNvGrpSpPr/>
                <p:nvPr/>
              </p:nvGrpSpPr>
              <p:grpSpPr>
                <a:xfrm>
                  <a:off x="1265040" y="5637600"/>
                  <a:ext cx="171360" cy="233640"/>
                  <a:chOff x="1265040" y="5637600"/>
                  <a:chExt cx="171360" cy="233640"/>
                </a:xfrm>
              </p:grpSpPr>
              <p:sp>
                <p:nvSpPr>
                  <p:cNvPr id="159" name="未知"/>
                  <p:cNvSpPr/>
                  <p:nvPr/>
                </p:nvSpPr>
                <p:spPr>
                  <a:xfrm flipH="1" rot="1704600">
                    <a:off x="1341000" y="5648400"/>
                    <a:ext cx="741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c889cd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未知"/>
                  <p:cNvSpPr/>
                  <p:nvPr/>
                </p:nvSpPr>
                <p:spPr>
                  <a:xfrm flipH="1" rot="5146200">
                    <a:off x="1333800" y="5717160"/>
                    <a:ext cx="7848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c889cd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未知"/>
                  <p:cNvSpPr/>
                  <p:nvPr/>
                </p:nvSpPr>
                <p:spPr>
                  <a:xfrm flipH="1" flipV="1" rot="1705200">
                    <a:off x="1285920" y="5751000"/>
                    <a:ext cx="741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c889cd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1196280" y="5604840"/>
                  <a:ext cx="169920" cy="232920"/>
                  <a:chOff x="1196280" y="5604840"/>
                  <a:chExt cx="169920" cy="232920"/>
                </a:xfrm>
              </p:grpSpPr>
              <p:sp>
                <p:nvSpPr>
                  <p:cNvPr id="163" name="未知"/>
                  <p:cNvSpPr/>
                  <p:nvPr/>
                </p:nvSpPr>
                <p:spPr>
                  <a:xfrm rot="1645200">
                    <a:off x="1271160" y="5615640"/>
                    <a:ext cx="7416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c889cd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未知"/>
                  <p:cNvSpPr/>
                  <p:nvPr/>
                </p:nvSpPr>
                <p:spPr>
                  <a:xfrm rot="19803600">
                    <a:off x="1216440" y="5658840"/>
                    <a:ext cx="7848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c889cd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未知"/>
                  <p:cNvSpPr/>
                  <p:nvPr/>
                </p:nvSpPr>
                <p:spPr>
                  <a:xfrm flipV="1" rot="1644600">
                    <a:off x="1216800" y="5718240"/>
                    <a:ext cx="7416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c889cd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6" name=""/>
            <p:cNvGrpSpPr/>
            <p:nvPr/>
          </p:nvGrpSpPr>
          <p:grpSpPr>
            <a:xfrm>
              <a:off x="756720" y="5819760"/>
              <a:ext cx="869400" cy="949320"/>
              <a:chOff x="756720" y="5819760"/>
              <a:chExt cx="869400" cy="94932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756720" y="5819760"/>
                <a:ext cx="869400" cy="949320"/>
                <a:chOff x="756720" y="5819760"/>
                <a:chExt cx="869400" cy="94932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1015560" y="5819760"/>
                  <a:ext cx="610560" cy="828000"/>
                  <a:chOff x="1015560" y="5819760"/>
                  <a:chExt cx="610560" cy="828000"/>
                </a:xfrm>
              </p:grpSpPr>
              <p:sp>
                <p:nvSpPr>
                  <p:cNvPr id="169" name="未知"/>
                  <p:cNvSpPr/>
                  <p:nvPr/>
                </p:nvSpPr>
                <p:spPr>
                  <a:xfrm flipH="1" rot="20092200">
                    <a:off x="1082160" y="5861160"/>
                    <a:ext cx="28044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c889cd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未知"/>
                  <p:cNvSpPr/>
                  <p:nvPr/>
                </p:nvSpPr>
                <p:spPr>
                  <a:xfrm flipH="1" rot="1933800">
                    <a:off x="1269720" y="6003000"/>
                    <a:ext cx="274320" cy="38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c889cd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未知"/>
                  <p:cNvSpPr/>
                  <p:nvPr/>
                </p:nvSpPr>
                <p:spPr>
                  <a:xfrm flipH="1" flipV="1" rot="20092800">
                    <a:off x="1256760" y="6227640"/>
                    <a:ext cx="28044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c889cd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756720" y="5940000"/>
                  <a:ext cx="594720" cy="829080"/>
                  <a:chOff x="756720" y="5940000"/>
                  <a:chExt cx="594720" cy="829080"/>
                </a:xfrm>
              </p:grpSpPr>
              <p:sp>
                <p:nvSpPr>
                  <p:cNvPr id="173" name="未知"/>
                  <p:cNvSpPr/>
                  <p:nvPr/>
                </p:nvSpPr>
                <p:spPr>
                  <a:xfrm rot="20032200">
                    <a:off x="825480" y="5982480"/>
                    <a:ext cx="28008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c889cd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未知"/>
                  <p:cNvSpPr/>
                  <p:nvPr/>
                </p:nvSpPr>
                <p:spPr>
                  <a:xfrm rot="16590600">
                    <a:off x="826560" y="6213600"/>
                    <a:ext cx="274320" cy="38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c889cd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未知"/>
                  <p:cNvSpPr/>
                  <p:nvPr/>
                </p:nvSpPr>
                <p:spPr>
                  <a:xfrm flipV="1" rot="20032200">
                    <a:off x="1002600" y="6348240"/>
                    <a:ext cx="28008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c889cd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6" name=""/>
              <p:cNvGrpSpPr/>
              <p:nvPr/>
            </p:nvGrpSpPr>
            <p:grpSpPr>
              <a:xfrm>
                <a:off x="878400" y="6038640"/>
                <a:ext cx="601560" cy="513000"/>
                <a:chOff x="878400" y="6038640"/>
                <a:chExt cx="601560" cy="513000"/>
              </a:xfrm>
            </p:grpSpPr>
            <p:grpSp>
              <p:nvGrpSpPr>
                <p:cNvPr id="177" name=""/>
                <p:cNvGrpSpPr/>
                <p:nvPr/>
              </p:nvGrpSpPr>
              <p:grpSpPr>
                <a:xfrm>
                  <a:off x="1164600" y="6049440"/>
                  <a:ext cx="315360" cy="502200"/>
                  <a:chOff x="1164600" y="6049440"/>
                  <a:chExt cx="315360" cy="502200"/>
                </a:xfrm>
              </p:grpSpPr>
              <p:sp>
                <p:nvSpPr>
                  <p:cNvPr id="178" name="未知"/>
                  <p:cNvSpPr/>
                  <p:nvPr/>
                </p:nvSpPr>
                <p:spPr>
                  <a:xfrm flipH="1" rot="241800">
                    <a:off x="1188360" y="6055200"/>
                    <a:ext cx="17568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c889cd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未知"/>
                  <p:cNvSpPr/>
                  <p:nvPr/>
                </p:nvSpPr>
                <p:spPr>
                  <a:xfrm flipH="1" rot="3683400">
                    <a:off x="1246680" y="6188040"/>
                    <a:ext cx="17172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c889cd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未知"/>
                  <p:cNvSpPr/>
                  <p:nvPr/>
                </p:nvSpPr>
                <p:spPr>
                  <a:xfrm flipH="1" flipV="1" rot="241800">
                    <a:off x="1172160" y="6309000"/>
                    <a:ext cx="17568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c889cd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878400" y="6038640"/>
                  <a:ext cx="314640" cy="498600"/>
                  <a:chOff x="878400" y="6038640"/>
                  <a:chExt cx="314640" cy="498600"/>
                </a:xfrm>
              </p:grpSpPr>
              <p:sp>
                <p:nvSpPr>
                  <p:cNvPr id="182" name="未知"/>
                  <p:cNvSpPr/>
                  <p:nvPr/>
                </p:nvSpPr>
                <p:spPr>
                  <a:xfrm rot="181800">
                    <a:off x="1011240" y="6042960"/>
                    <a:ext cx="17568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c889cd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未知"/>
                  <p:cNvSpPr/>
                  <p:nvPr/>
                </p:nvSpPr>
                <p:spPr>
                  <a:xfrm rot="18340800">
                    <a:off x="940680" y="6167520"/>
                    <a:ext cx="17172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c889cd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未知"/>
                  <p:cNvSpPr/>
                  <p:nvPr/>
                </p:nvSpPr>
                <p:spPr>
                  <a:xfrm flipV="1" rot="181800">
                    <a:off x="996480" y="6296040"/>
                    <a:ext cx="17568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c889cd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5" name=""/>
            <p:cNvGrpSpPr/>
            <p:nvPr/>
          </p:nvGrpSpPr>
          <p:grpSpPr>
            <a:xfrm>
              <a:off x="709560" y="5630760"/>
              <a:ext cx="370800" cy="405360"/>
              <a:chOff x="709560" y="5630760"/>
              <a:chExt cx="370800" cy="40536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709560" y="5630760"/>
                <a:ext cx="370800" cy="405360"/>
                <a:chOff x="709560" y="5630760"/>
                <a:chExt cx="370800" cy="405360"/>
              </a:xfrm>
            </p:grpSpPr>
            <p:grpSp>
              <p:nvGrpSpPr>
                <p:cNvPr id="187" name=""/>
                <p:cNvGrpSpPr/>
                <p:nvPr/>
              </p:nvGrpSpPr>
              <p:grpSpPr>
                <a:xfrm>
                  <a:off x="819720" y="5630760"/>
                  <a:ext cx="260640" cy="353520"/>
                  <a:chOff x="819720" y="5630760"/>
                  <a:chExt cx="260640" cy="353520"/>
                </a:xfrm>
              </p:grpSpPr>
              <p:sp>
                <p:nvSpPr>
                  <p:cNvPr id="188" name="未知"/>
                  <p:cNvSpPr/>
                  <p:nvPr/>
                </p:nvSpPr>
                <p:spPr>
                  <a:xfrm flipH="1" rot="20092200">
                    <a:off x="847800" y="5648400"/>
                    <a:ext cx="119520" cy="16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c889cd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未知"/>
                  <p:cNvSpPr/>
                  <p:nvPr/>
                </p:nvSpPr>
                <p:spPr>
                  <a:xfrm flipH="1" rot="1933800">
                    <a:off x="928080" y="5709240"/>
                    <a:ext cx="117360" cy="164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c889cd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未知"/>
                  <p:cNvSpPr/>
                  <p:nvPr/>
                </p:nvSpPr>
                <p:spPr>
                  <a:xfrm flipH="1" flipV="1" rot="20092800">
                    <a:off x="922680" y="5804640"/>
                    <a:ext cx="119520" cy="16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c889cd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709560" y="5682600"/>
                  <a:ext cx="253800" cy="353520"/>
                  <a:chOff x="709560" y="5682600"/>
                  <a:chExt cx="253800" cy="353520"/>
                </a:xfrm>
              </p:grpSpPr>
              <p:sp>
                <p:nvSpPr>
                  <p:cNvPr id="192" name="未知"/>
                  <p:cNvSpPr/>
                  <p:nvPr/>
                </p:nvSpPr>
                <p:spPr>
                  <a:xfrm rot="20032200">
                    <a:off x="738720" y="5700240"/>
                    <a:ext cx="119520" cy="16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c889cd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未知"/>
                  <p:cNvSpPr/>
                  <p:nvPr/>
                </p:nvSpPr>
                <p:spPr>
                  <a:xfrm rot="16590600">
                    <a:off x="739440" y="5799240"/>
                    <a:ext cx="117360" cy="16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c889cd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未知"/>
                  <p:cNvSpPr/>
                  <p:nvPr/>
                </p:nvSpPr>
                <p:spPr>
                  <a:xfrm flipV="1" rot="20032200">
                    <a:off x="814320" y="5856120"/>
                    <a:ext cx="119520" cy="16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c889cd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5" name=""/>
              <p:cNvGrpSpPr/>
              <p:nvPr/>
            </p:nvGrpSpPr>
            <p:grpSpPr>
              <a:xfrm>
                <a:off x="761760" y="5724360"/>
                <a:ext cx="256320" cy="218880"/>
                <a:chOff x="761760" y="5724360"/>
                <a:chExt cx="256320" cy="218880"/>
              </a:xfrm>
            </p:grpSpPr>
            <p:grpSp>
              <p:nvGrpSpPr>
                <p:cNvPr id="196" name=""/>
                <p:cNvGrpSpPr/>
                <p:nvPr/>
              </p:nvGrpSpPr>
              <p:grpSpPr>
                <a:xfrm>
                  <a:off x="883800" y="5728680"/>
                  <a:ext cx="134280" cy="214560"/>
                  <a:chOff x="883800" y="5728680"/>
                  <a:chExt cx="134280" cy="214560"/>
                </a:xfrm>
              </p:grpSpPr>
              <p:sp>
                <p:nvSpPr>
                  <p:cNvPr id="197" name="未知"/>
                  <p:cNvSpPr/>
                  <p:nvPr/>
                </p:nvSpPr>
                <p:spPr>
                  <a:xfrm flipH="1" rot="241800">
                    <a:off x="893520" y="5731200"/>
                    <a:ext cx="7488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c889cd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未知"/>
                  <p:cNvSpPr/>
                  <p:nvPr/>
                </p:nvSpPr>
                <p:spPr>
                  <a:xfrm flipH="1" rot="3683400">
                    <a:off x="918000" y="5788080"/>
                    <a:ext cx="7344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c889cd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未知"/>
                  <p:cNvSpPr/>
                  <p:nvPr/>
                </p:nvSpPr>
                <p:spPr>
                  <a:xfrm flipH="1" flipV="1" rot="241800">
                    <a:off x="886680" y="5838840"/>
                    <a:ext cx="7488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c889cd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761760" y="5724360"/>
                  <a:ext cx="134280" cy="213120"/>
                  <a:chOff x="761760" y="5724360"/>
                  <a:chExt cx="134280" cy="213120"/>
                </a:xfrm>
              </p:grpSpPr>
              <p:sp>
                <p:nvSpPr>
                  <p:cNvPr id="201" name="未知"/>
                  <p:cNvSpPr/>
                  <p:nvPr/>
                </p:nvSpPr>
                <p:spPr>
                  <a:xfrm rot="181800">
                    <a:off x="818280" y="5726160"/>
                    <a:ext cx="7488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c889cd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未知"/>
                  <p:cNvSpPr/>
                  <p:nvPr/>
                </p:nvSpPr>
                <p:spPr>
                  <a:xfrm rot="18340800">
                    <a:off x="788400" y="5779800"/>
                    <a:ext cx="7344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c889cd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未知"/>
                  <p:cNvSpPr/>
                  <p:nvPr/>
                </p:nvSpPr>
                <p:spPr>
                  <a:xfrm flipV="1" rot="181800">
                    <a:off x="812160" y="5834160"/>
                    <a:ext cx="7488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c889cd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afd8"/>
              </a:solidFill>
              <a:latin typeface="微软雅黑"/>
            </a:endParaRPr>
          </a:p>
        </p:txBody>
      </p:sp>
      <p:sp>
        <p:nvSpPr>
          <p:cNvPr id="205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47800" y="1523880"/>
            <a:ext cx="3895560" cy="3892680"/>
          </a:xfrm>
          <a:prstGeom prst="ellipse">
            <a:avLst/>
          </a:prstGeom>
          <a:solidFill>
            <a:srgbClr val="c889c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1044720" y="5683320"/>
            <a:ext cx="755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357800" y="1792440"/>
            <a:ext cx="32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397400" y="4700520"/>
            <a:ext cx="32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15000" y="4027320"/>
            <a:ext cx="32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749840" y="2522520"/>
            <a:ext cx="32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89600" y="3273480"/>
            <a:ext cx="32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949560" y="1758960"/>
            <a:ext cx="457200" cy="457200"/>
            <a:chOff x="3949560" y="1758960"/>
            <a:chExt cx="457200" cy="457200"/>
          </a:xfrm>
        </p:grpSpPr>
        <p:sp>
          <p:nvSpPr>
            <p:cNvPr id="214" name=""/>
            <p:cNvSpPr/>
            <p:nvPr/>
          </p:nvSpPr>
          <p:spPr>
            <a:xfrm>
              <a:off x="3949560" y="175896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eff5fa"/>
                </a:gs>
                <a:gs pos="50000">
                  <a:srgbClr val="72afd8"/>
                </a:gs>
                <a:gs pos="100000">
                  <a:srgbClr val="eff5fa"/>
                </a:gs>
              </a:gsLst>
              <a:lin ang="5400000"/>
            </a:gradFill>
            <a:ln w="12600">
              <a:solidFill>
                <a:srgbClr val="72afd8"/>
              </a:solidFill>
              <a:miter/>
            </a:ln>
            <a:effectLst>
              <a:outerShdw dist="50760" dir="5400000" blurRad="0" rotWithShape="0">
                <a:srgbClr val="ded9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956400" y="1765800"/>
              <a:ext cx="440640" cy="440640"/>
            </a:xfrm>
            <a:prstGeom prst="ellipse">
              <a:avLst/>
            </a:prstGeom>
            <a:gradFill rotWithShape="0">
              <a:gsLst>
                <a:gs pos="0">
                  <a:srgbClr val="cce2f0"/>
                </a:gs>
                <a:gs pos="50000">
                  <a:srgbClr val="72afd8"/>
                </a:gs>
                <a:gs pos="100000">
                  <a:srgbClr val="cce2f0"/>
                </a:gs>
              </a:gsLst>
              <a:lin ang="5400000"/>
            </a:gradFill>
            <a:ln w="19080">
              <a:solidFill>
                <a:srgbClr val="72afd8">
                  <a:alpha val="1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406760" y="2444760"/>
            <a:ext cx="457200" cy="457200"/>
            <a:chOff x="4406760" y="2444760"/>
            <a:chExt cx="457200" cy="457200"/>
          </a:xfrm>
        </p:grpSpPr>
        <p:sp>
          <p:nvSpPr>
            <p:cNvPr id="217" name=""/>
            <p:cNvSpPr/>
            <p:nvPr/>
          </p:nvSpPr>
          <p:spPr>
            <a:xfrm>
              <a:off x="4406760" y="244476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1f8f6"/>
                </a:gs>
                <a:gs pos="50000">
                  <a:srgbClr val="80cab1"/>
                </a:gs>
                <a:gs pos="100000">
                  <a:srgbClr val="f1f8f6"/>
                </a:gs>
              </a:gsLst>
              <a:lin ang="5400000"/>
            </a:gradFill>
            <a:ln w="12600">
              <a:solidFill>
                <a:srgbClr val="80cab1"/>
              </a:solidFill>
              <a:miter/>
            </a:ln>
            <a:effectLst>
              <a:outerShdw dist="50760" dir="5400000" blurRad="0" rotWithShape="0">
                <a:srgbClr val="ded9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413600" y="2451600"/>
              <a:ext cx="440640" cy="440640"/>
            </a:xfrm>
            <a:prstGeom prst="ellipse">
              <a:avLst/>
            </a:prstGeom>
            <a:gradFill rotWithShape="0">
              <a:gsLst>
                <a:gs pos="0">
                  <a:srgbClr val="d1ebe2"/>
                </a:gs>
                <a:gs pos="50000">
                  <a:srgbClr val="80cab1"/>
                </a:gs>
                <a:gs pos="100000">
                  <a:srgbClr val="d1ebe2"/>
                </a:gs>
              </a:gsLst>
              <a:lin ang="5400000"/>
            </a:gradFill>
            <a:ln w="19080">
              <a:solidFill>
                <a:srgbClr val="80cab1">
                  <a:alpha val="1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635360" y="3201840"/>
            <a:ext cx="457200" cy="457200"/>
            <a:chOff x="4635360" y="3201840"/>
            <a:chExt cx="457200" cy="457200"/>
          </a:xfrm>
        </p:grpSpPr>
        <p:sp>
          <p:nvSpPr>
            <p:cNvPr id="220" name=""/>
            <p:cNvSpPr/>
            <p:nvPr/>
          </p:nvSpPr>
          <p:spPr>
            <a:xfrm>
              <a:off x="4635360" y="320184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af3ed"/>
                </a:gs>
                <a:gs pos="50000">
                  <a:srgbClr val="e1995d"/>
                </a:gs>
                <a:gs pos="100000">
                  <a:srgbClr val="faf3ed"/>
                </a:gs>
              </a:gsLst>
              <a:lin ang="5400000"/>
            </a:gradFill>
            <a:ln w="12600">
              <a:solidFill>
                <a:srgbClr val="e1995d"/>
              </a:solidFill>
              <a:miter/>
            </a:ln>
            <a:effectLst>
              <a:outerShdw dist="50760" dir="5400000" blurRad="0" rotWithShape="0">
                <a:srgbClr val="ded9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642200" y="3208680"/>
              <a:ext cx="440640" cy="440640"/>
            </a:xfrm>
            <a:prstGeom prst="ellipse">
              <a:avLst/>
            </a:prstGeom>
            <a:gradFill rotWithShape="0">
              <a:gsLst>
                <a:gs pos="0">
                  <a:srgbClr val="f3dac5"/>
                </a:gs>
                <a:gs pos="50000">
                  <a:srgbClr val="e1995d"/>
                </a:gs>
                <a:gs pos="100000">
                  <a:srgbClr val="f3dac5"/>
                </a:gs>
              </a:gsLst>
              <a:lin ang="5400000"/>
            </a:gradFill>
            <a:ln w="19080">
              <a:solidFill>
                <a:srgbClr val="e1995d">
                  <a:alpha val="1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406760" y="3968640"/>
            <a:ext cx="457200" cy="457200"/>
            <a:chOff x="4406760" y="3968640"/>
            <a:chExt cx="457200" cy="457200"/>
          </a:xfrm>
        </p:grpSpPr>
        <p:sp>
          <p:nvSpPr>
            <p:cNvPr id="223" name=""/>
            <p:cNvSpPr/>
            <p:nvPr/>
          </p:nvSpPr>
          <p:spPr>
            <a:xfrm>
              <a:off x="4406760" y="396864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bf1f2"/>
                </a:gs>
                <a:gs pos="50000">
                  <a:srgbClr val="e58790"/>
                </a:gs>
                <a:gs pos="100000">
                  <a:srgbClr val="fbf1f2"/>
                </a:gs>
              </a:gsLst>
              <a:lin ang="5400000"/>
            </a:gradFill>
            <a:ln w="12600">
              <a:solidFill>
                <a:srgbClr val="e58790"/>
              </a:solidFill>
              <a:miter/>
            </a:ln>
            <a:effectLst>
              <a:outerShdw dist="50760" dir="5400000" blurRad="0" rotWithShape="0">
                <a:srgbClr val="ded9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13600" y="3975480"/>
              <a:ext cx="440640" cy="440640"/>
            </a:xfrm>
            <a:prstGeom prst="ellipse">
              <a:avLst/>
            </a:prstGeom>
            <a:gradFill rotWithShape="0">
              <a:gsLst>
                <a:gs pos="0">
                  <a:srgbClr val="f4d4d7"/>
                </a:gs>
                <a:gs pos="50000">
                  <a:srgbClr val="e58790"/>
                </a:gs>
                <a:gs pos="100000">
                  <a:srgbClr val="f4d4d7"/>
                </a:gs>
              </a:gsLst>
              <a:lin ang="5400000"/>
            </a:gradFill>
            <a:ln w="19080">
              <a:solidFill>
                <a:srgbClr val="e58790">
                  <a:alpha val="1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003560" y="4627440"/>
            <a:ext cx="457200" cy="457200"/>
            <a:chOff x="4003560" y="4627440"/>
            <a:chExt cx="457200" cy="457200"/>
          </a:xfrm>
        </p:grpSpPr>
        <p:sp>
          <p:nvSpPr>
            <p:cNvPr id="226" name=""/>
            <p:cNvSpPr/>
            <p:nvPr/>
          </p:nvSpPr>
          <p:spPr>
            <a:xfrm>
              <a:off x="4003560" y="462744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9ebf3"/>
                </a:gs>
                <a:gs pos="50000">
                  <a:srgbClr val="d04896"/>
                </a:gs>
                <a:gs pos="100000">
                  <a:srgbClr val="f9ebf3"/>
                </a:gs>
              </a:gsLst>
              <a:lin ang="5400000"/>
            </a:gradFill>
            <a:ln w="12600">
              <a:solidFill>
                <a:srgbClr val="d04896"/>
              </a:solidFill>
              <a:miter/>
            </a:ln>
            <a:effectLst>
              <a:outerShdw dist="50760" dir="5400000" blurRad="0" rotWithShape="0">
                <a:srgbClr val="ded9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010400" y="4634280"/>
              <a:ext cx="440640" cy="440640"/>
            </a:xfrm>
            <a:prstGeom prst="ellipse">
              <a:avLst/>
            </a:prstGeom>
            <a:gradFill rotWithShape="0">
              <a:gsLst>
                <a:gs pos="0">
                  <a:srgbClr val="edbed9"/>
                </a:gs>
                <a:gs pos="50000">
                  <a:srgbClr val="d04896"/>
                </a:gs>
                <a:gs pos="100000">
                  <a:srgbClr val="edbed9"/>
                </a:gs>
              </a:gsLst>
              <a:lin ang="5400000"/>
            </a:gradFill>
            <a:ln w="19080">
              <a:solidFill>
                <a:srgbClr val="d04896">
                  <a:alpha val="1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219320" y="1911240"/>
            <a:ext cx="3123720" cy="3124080"/>
            <a:chOff x="1219320" y="1911240"/>
            <a:chExt cx="3123720" cy="3124080"/>
          </a:xfrm>
        </p:grpSpPr>
        <p:sp>
          <p:nvSpPr>
            <p:cNvPr id="229" name=""/>
            <p:cNvSpPr/>
            <p:nvPr/>
          </p:nvSpPr>
          <p:spPr>
            <a:xfrm>
              <a:off x="1219320" y="1911240"/>
              <a:ext cx="3123720" cy="3124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c889cd"/>
                </a:gs>
                <a:gs pos="100000">
                  <a:srgbClr val="fefef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50760" dir="5400000" blurRad="0" rotWithShape="0">
                <a:srgbClr val="ded9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67200" y="1959120"/>
              <a:ext cx="3010320" cy="3010680"/>
            </a:xfrm>
            <a:prstGeom prst="ellipse">
              <a:avLst/>
            </a:prstGeom>
            <a:gradFill rotWithShape="0">
              <a:gsLst>
                <a:gs pos="0">
                  <a:srgbClr val="ead4ec"/>
                </a:gs>
                <a:gs pos="50000">
                  <a:srgbClr val="c889cd"/>
                </a:gs>
                <a:gs pos="100000">
                  <a:srgbClr val="ead4ec"/>
                </a:gs>
              </a:gsLst>
              <a:lin ang="5400000"/>
            </a:gradFill>
            <a:ln w="19080">
              <a:solidFill>
                <a:srgbClr val="ffffff">
                  <a:alpha val="1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1587600" y="3168720"/>
            <a:ext cx="2361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89cd"/>
              </a:solidFill>
              <a:latin typeface="微软雅黑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36480" y="1496520"/>
            <a:ext cx="7477200" cy="35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889c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550"/>
              </a:spcBef>
              <a:buClr>
                <a:srgbClr val="c88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On the </a:t>
            </a:r>
            <a:r>
              <a:rPr b="0" lang="en-US" sz="2200" spc="-1" strike="noStrike">
                <a:solidFill>
                  <a:srgbClr val="72afd8"/>
                </a:solidFill>
                <a:latin typeface="微软雅黑"/>
              </a:rPr>
              <a:t>[View]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menu, point to </a:t>
            </a:r>
            <a:r>
              <a:rPr b="0" lang="en-US" sz="2200" spc="-1" strike="noStrike">
                <a:solidFill>
                  <a:srgbClr val="72afd8"/>
                </a:solidFill>
                <a:latin typeface="微软雅黑"/>
              </a:rPr>
              <a:t>[Master],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and then click </a:t>
            </a:r>
            <a:r>
              <a:rPr b="0" lang="en-US" sz="2200" spc="-1" strike="noStrike">
                <a:solidFill>
                  <a:srgbClr val="72afd8"/>
                </a:solidFill>
                <a:latin typeface="微软雅黑"/>
              </a:rPr>
              <a:t>[Slide Master]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or </a:t>
            </a:r>
            <a:r>
              <a:rPr b="0" lang="en-US" sz="2200" spc="-1" strike="noStrike">
                <a:solidFill>
                  <a:srgbClr val="72afd8"/>
                </a:solidFill>
                <a:latin typeface="微软雅黑"/>
              </a:rPr>
              <a:t>[Notes Master].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</a:rPr>
              <a:t> Change images to the one you like, then it will apply to all the other slides. </a:t>
            </a:r>
            <a:endParaRPr b="0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4" name=""/>
          <p:cNvSpPr/>
          <p:nvPr/>
        </p:nvSpPr>
        <p:spPr>
          <a:xfrm>
            <a:off x="1371600" y="5137200"/>
            <a:ext cx="6400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6320" y="5435640"/>
            <a:ext cx="2133360" cy="1422360"/>
          </a:xfrm>
          <a:prstGeom prst="rect">
            <a:avLst/>
          </a:prstGeom>
          <a:ln w="0">
            <a:noFill/>
          </a:ln>
        </p:spPr>
      </p:pic>
      <p:grpSp>
        <p:nvGrpSpPr>
          <p:cNvPr id="236" name=""/>
          <p:cNvGrpSpPr/>
          <p:nvPr/>
        </p:nvGrpSpPr>
        <p:grpSpPr>
          <a:xfrm>
            <a:off x="5340240" y="2997360"/>
            <a:ext cx="1965600" cy="1963440"/>
            <a:chOff x="5340240" y="2997360"/>
            <a:chExt cx="1965600" cy="1963440"/>
          </a:xfrm>
        </p:grpSpPr>
        <p:sp>
          <p:nvSpPr>
            <p:cNvPr id="237" name=""/>
            <p:cNvSpPr/>
            <p:nvPr/>
          </p:nvSpPr>
          <p:spPr>
            <a:xfrm>
              <a:off x="5340240" y="2997360"/>
              <a:ext cx="1965600" cy="1963440"/>
            </a:xfrm>
            <a:prstGeom prst="ellipse">
              <a:avLst/>
            </a:prstGeom>
            <a:gradFill rotWithShape="0">
              <a:gsLst>
                <a:gs pos="0">
                  <a:srgbClr val="321e20">
                    <a:alpha val="71372"/>
                  </a:srgbClr>
                </a:gs>
                <a:gs pos="50000">
                  <a:srgbClr val="e58790">
                    <a:alpha val="80000"/>
                  </a:srgbClr>
                </a:gs>
                <a:gs pos="100000">
                  <a:srgbClr val="321e20">
                    <a:alpha val="71372"/>
                  </a:srgbClr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ded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" descr=""/>
            <p:cNvPicPr/>
            <p:nvPr/>
          </p:nvPicPr>
          <p:blipFill>
            <a:blip r:embed="rId2"/>
            <a:stretch/>
          </p:blipFill>
          <p:spPr>
            <a:xfrm>
              <a:off x="5418360" y="3004560"/>
              <a:ext cx="1812600" cy="9540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239" name="" descr=""/>
            <p:cNvPicPr/>
            <p:nvPr/>
          </p:nvPicPr>
          <p:blipFill>
            <a:blip r:embed="rId3"/>
            <a:stretch/>
          </p:blipFill>
          <p:spPr>
            <a:xfrm flipH="1" rot="10800000">
              <a:off x="5419440" y="3990600"/>
              <a:ext cx="1812600" cy="9540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240" name=""/>
          <p:cNvGrpSpPr/>
          <p:nvPr/>
        </p:nvGrpSpPr>
        <p:grpSpPr>
          <a:xfrm>
            <a:off x="3479760" y="3755880"/>
            <a:ext cx="2185920" cy="2186280"/>
            <a:chOff x="3479760" y="3755880"/>
            <a:chExt cx="2185920" cy="2186280"/>
          </a:xfrm>
        </p:grpSpPr>
        <p:sp>
          <p:nvSpPr>
            <p:cNvPr id="241" name=""/>
            <p:cNvSpPr/>
            <p:nvPr/>
          </p:nvSpPr>
          <p:spPr>
            <a:xfrm>
              <a:off x="3479760" y="3755880"/>
              <a:ext cx="2185920" cy="2186280"/>
            </a:xfrm>
            <a:prstGeom prst="ellipse">
              <a:avLst/>
            </a:prstGeom>
            <a:gradFill rotWithShape="0">
              <a:gsLst>
                <a:gs pos="0">
                  <a:srgbClr val="47301d">
                    <a:alpha val="71372"/>
                  </a:srgbClr>
                </a:gs>
                <a:gs pos="50000">
                  <a:srgbClr val="e1995d">
                    <a:alpha val="80000"/>
                  </a:srgbClr>
                </a:gs>
                <a:gs pos="100000">
                  <a:srgbClr val="47301d">
                    <a:alpha val="71372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2" name="" descr=""/>
            <p:cNvPicPr/>
            <p:nvPr/>
          </p:nvPicPr>
          <p:blipFill>
            <a:blip r:embed="rId4"/>
            <a:stretch/>
          </p:blipFill>
          <p:spPr>
            <a:xfrm>
              <a:off x="3566880" y="3764160"/>
              <a:ext cx="2015640" cy="10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5"/>
            <a:stretch/>
          </p:blipFill>
          <p:spPr>
            <a:xfrm flipH="1" rot="10800000">
              <a:off x="3567600" y="4861800"/>
              <a:ext cx="2015640" cy="106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4" name=""/>
          <p:cNvGrpSpPr/>
          <p:nvPr/>
        </p:nvGrpSpPr>
        <p:grpSpPr>
          <a:xfrm>
            <a:off x="1201680" y="2151000"/>
            <a:ext cx="2901960" cy="2900520"/>
            <a:chOff x="1201680" y="2151000"/>
            <a:chExt cx="2901960" cy="2900520"/>
          </a:xfrm>
        </p:grpSpPr>
        <p:sp>
          <p:nvSpPr>
            <p:cNvPr id="245" name=""/>
            <p:cNvSpPr/>
            <p:nvPr/>
          </p:nvSpPr>
          <p:spPr>
            <a:xfrm>
              <a:off x="1201680" y="2151000"/>
              <a:ext cx="2901960" cy="2900520"/>
            </a:xfrm>
            <a:prstGeom prst="ellipse">
              <a:avLst/>
            </a:prstGeom>
            <a:gradFill rotWithShape="0">
              <a:gsLst>
                <a:gs pos="0">
                  <a:srgbClr val="243744"/>
                </a:gs>
                <a:gs pos="50000">
                  <a:srgbClr val="72afd8">
                    <a:alpha val="80000"/>
                  </a:srgbClr>
                </a:gs>
                <a:gs pos="100000">
                  <a:srgbClr val="24374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6" name="" descr=""/>
            <p:cNvPicPr/>
            <p:nvPr/>
          </p:nvPicPr>
          <p:blipFill>
            <a:blip r:embed="rId6"/>
            <a:stretch/>
          </p:blipFill>
          <p:spPr>
            <a:xfrm>
              <a:off x="1317240" y="2161800"/>
              <a:ext cx="2675880" cy="140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7"/>
            <a:stretch/>
          </p:blipFill>
          <p:spPr>
            <a:xfrm flipH="1" rot="10800000">
              <a:off x="1318680" y="3618360"/>
              <a:ext cx="2675880" cy="140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8" name="Text Box 4"/>
          <p:cNvSpPr/>
          <p:nvPr/>
        </p:nvSpPr>
        <p:spPr>
          <a:xfrm>
            <a:off x="1603440" y="2752560"/>
            <a:ext cx="207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33480" y="1882800"/>
            <a:ext cx="3416400" cy="3278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6514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Description of the contents</a:t>
            </a:r>
            <a:endParaRPr b="1" lang="en-US" sz="2800" spc="-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0" name=""/>
          <p:cNvSpPr txBox="1"/>
          <p:nvPr/>
        </p:nvSpPr>
        <p:spPr>
          <a:xfrm rot="724200">
            <a:off x="3355920" y="3971880"/>
            <a:ext cx="2425680" cy="2184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8462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Description of the contents</a:t>
            </a:r>
            <a:endParaRPr b="1" lang="en-US" sz="2000" spc="-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32200" y="4457880"/>
            <a:ext cx="154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73880" y="3556080"/>
            <a:ext cx="154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 rot="18528600">
            <a:off x="5172840" y="2935800"/>
            <a:ext cx="2398680" cy="2165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8462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889cd">
                      <a:alpha val="50000"/>
                    </a:srgbClr>
                  </a:outerShdw>
                </a:effectLst>
                <a:latin typeface="Arial"/>
              </a:rPr>
              <a:t>Description of the contents</a:t>
            </a:r>
            <a:endParaRPr b="1" lang="en-US" sz="20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889c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4400640" y="1752480"/>
            <a:ext cx="3905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89cd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89cd"/>
              </a:solidFill>
              <a:latin typeface="微软雅黑"/>
            </a:endParaRPr>
          </a:p>
        </p:txBody>
      </p:sp>
      <p:sp>
        <p:nvSpPr>
          <p:cNvPr id="257" name=""/>
          <p:cNvSpPr/>
          <p:nvPr/>
        </p:nvSpPr>
        <p:spPr>
          <a:xfrm rot="692400">
            <a:off x="2029320" y="2504520"/>
            <a:ext cx="4654800" cy="214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722" y="448"/>
                </a:moveTo>
                <a:arcTo wR="10800" hR="10800" stAng="-6393413" swAng="2073627"/>
                <a:lnTo>
                  <a:pt x="10800" y="10800"/>
                </a:lnTo>
                <a:close/>
              </a:path>
              <a:path fill="none" w="21600" h="21600">
                <a:moveTo>
                  <a:pt x="7722" y="448"/>
                </a:moveTo>
                <a:arcTo wR="10800" hR="10800" stAng="-6393413" swAng="2073627"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666880" y="5772240"/>
            <a:ext cx="3581280" cy="914400"/>
            <a:chOff x="2666880" y="5772240"/>
            <a:chExt cx="3581280" cy="914400"/>
          </a:xfrm>
        </p:grpSpPr>
        <p:pic>
          <p:nvPicPr>
            <p:cNvPr id="259" name="" descr=""/>
            <p:cNvPicPr/>
            <p:nvPr/>
          </p:nvPicPr>
          <p:blipFill>
            <a:blip r:embed="rId1">
              <a:lum bright="18000"/>
            </a:blip>
            <a:stretch/>
          </p:blipFill>
          <p:spPr>
            <a:xfrm>
              <a:off x="2666880" y="6358320"/>
              <a:ext cx="3581280" cy="32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0" name=""/>
            <p:cNvGrpSpPr/>
            <p:nvPr/>
          </p:nvGrpSpPr>
          <p:grpSpPr>
            <a:xfrm>
              <a:off x="2668320" y="5772240"/>
              <a:ext cx="3554640" cy="787320"/>
              <a:chOff x="2668320" y="5772240"/>
              <a:chExt cx="3554640" cy="787320"/>
            </a:xfrm>
          </p:grpSpPr>
          <p:sp>
            <p:nvSpPr>
              <p:cNvPr id="261" name=""/>
              <p:cNvSpPr/>
              <p:nvPr/>
            </p:nvSpPr>
            <p:spPr>
              <a:xfrm>
                <a:off x="2679120" y="5772240"/>
                <a:ext cx="3543840" cy="787320"/>
              </a:xfrm>
              <a:prstGeom prst="ellipse">
                <a:avLst/>
              </a:prstGeom>
              <a:gradFill rotWithShape="0">
                <a:gsLst>
                  <a:gs pos="0">
                    <a:srgbClr val="797979"/>
                  </a:gs>
                  <a:gs pos="50000">
                    <a:srgbClr val="c0c0c0"/>
                  </a:gs>
                  <a:gs pos="100000">
                    <a:srgbClr val="79797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668320" y="5772240"/>
                <a:ext cx="3554640" cy="67716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未知"/>
          <p:cNvSpPr/>
          <p:nvPr/>
        </p:nvSpPr>
        <p:spPr>
          <a:xfrm>
            <a:off x="3505320" y="1428840"/>
            <a:ext cx="2200320" cy="480060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889cd"/>
              </a:gs>
              <a:gs pos="100000">
                <a:srgbClr val="724e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324240" y="2190600"/>
            <a:ext cx="409680" cy="393840"/>
            <a:chOff x="3324240" y="2190600"/>
            <a:chExt cx="409680" cy="393840"/>
          </a:xfrm>
        </p:grpSpPr>
        <p:pic>
          <p:nvPicPr>
            <p:cNvPr id="265" name="" descr=""/>
            <p:cNvPicPr/>
            <p:nvPr/>
          </p:nvPicPr>
          <p:blipFill>
            <a:blip r:embed="rId2"/>
            <a:stretch/>
          </p:blipFill>
          <p:spPr>
            <a:xfrm>
              <a:off x="3324240" y="2190600"/>
              <a:ext cx="409680" cy="39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3324240" y="2190600"/>
              <a:ext cx="407160" cy="39384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55294"/>
                  </a:srgbClr>
                </a:gs>
                <a:gs pos="50000">
                  <a:srgbClr val="656565">
                    <a:alpha val="90196"/>
                  </a:srgbClr>
                </a:gs>
                <a:gs pos="100000">
                  <a:srgbClr val="dddddd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7" name="" descr=""/>
            <p:cNvPicPr/>
            <p:nvPr/>
          </p:nvPicPr>
          <p:blipFill>
            <a:blip r:embed="rId3"/>
            <a:stretch/>
          </p:blipFill>
          <p:spPr>
            <a:xfrm>
              <a:off x="3364200" y="2194920"/>
              <a:ext cx="323640" cy="13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8" name=""/>
          <p:cNvGrpSpPr/>
          <p:nvPr/>
        </p:nvGrpSpPr>
        <p:grpSpPr>
          <a:xfrm>
            <a:off x="5305320" y="2620800"/>
            <a:ext cx="333360" cy="320760"/>
            <a:chOff x="5305320" y="2620800"/>
            <a:chExt cx="333360" cy="320760"/>
          </a:xfrm>
        </p:grpSpPr>
        <p:pic>
          <p:nvPicPr>
            <p:cNvPr id="269" name="" descr=""/>
            <p:cNvPicPr/>
            <p:nvPr/>
          </p:nvPicPr>
          <p:blipFill>
            <a:blip r:embed="rId4"/>
            <a:stretch/>
          </p:blipFill>
          <p:spPr>
            <a:xfrm>
              <a:off x="5305320" y="2620800"/>
              <a:ext cx="333360" cy="31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305320" y="2620800"/>
              <a:ext cx="330840" cy="32076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55294"/>
                  </a:srgbClr>
                </a:gs>
                <a:gs pos="50000">
                  <a:srgbClr val="656565">
                    <a:alpha val="90196"/>
                  </a:srgbClr>
                </a:gs>
                <a:gs pos="100000">
                  <a:srgbClr val="dddddd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1" name="" descr=""/>
            <p:cNvPicPr/>
            <p:nvPr/>
          </p:nvPicPr>
          <p:blipFill>
            <a:blip r:embed="rId5"/>
            <a:stretch/>
          </p:blipFill>
          <p:spPr>
            <a:xfrm>
              <a:off x="5338800" y="2624040"/>
              <a:ext cx="263160" cy="113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2" name=""/>
          <p:cNvGrpSpPr/>
          <p:nvPr/>
        </p:nvGrpSpPr>
        <p:grpSpPr>
          <a:xfrm>
            <a:off x="6083640" y="3260880"/>
            <a:ext cx="1072800" cy="1049400"/>
            <a:chOff x="6083640" y="3260880"/>
            <a:chExt cx="1072800" cy="1049400"/>
          </a:xfrm>
        </p:grpSpPr>
        <p:pic>
          <p:nvPicPr>
            <p:cNvPr id="273" name="" descr=""/>
            <p:cNvPicPr/>
            <p:nvPr/>
          </p:nvPicPr>
          <p:blipFill>
            <a:blip r:embed="rId6"/>
            <a:stretch/>
          </p:blipFill>
          <p:spPr>
            <a:xfrm rot="692400">
              <a:off x="6163200" y="3343320"/>
              <a:ext cx="914040" cy="8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 rot="692400">
              <a:off x="6162840" y="3342600"/>
              <a:ext cx="907560" cy="885600"/>
            </a:xfrm>
            <a:prstGeom prst="ellipse">
              <a:avLst/>
            </a:prstGeom>
            <a:gradFill rotWithShape="0">
              <a:gsLst>
                <a:gs pos="0">
                  <a:srgbClr val="80cab1">
                    <a:alpha val="79215"/>
                  </a:srgbClr>
                </a:gs>
                <a:gs pos="50000">
                  <a:srgbClr val="3b5d51"/>
                </a:gs>
                <a:gs pos="100000">
                  <a:srgbClr val="80cab1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5" name="" descr=""/>
            <p:cNvPicPr/>
            <p:nvPr/>
          </p:nvPicPr>
          <p:blipFill>
            <a:blip r:embed="rId7"/>
            <a:stretch/>
          </p:blipFill>
          <p:spPr>
            <a:xfrm rot="692400">
              <a:off x="6308280" y="3355920"/>
              <a:ext cx="722880" cy="31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6" name=""/>
          <p:cNvGrpSpPr/>
          <p:nvPr/>
        </p:nvGrpSpPr>
        <p:grpSpPr>
          <a:xfrm>
            <a:off x="1762200" y="2278080"/>
            <a:ext cx="983880" cy="952200"/>
            <a:chOff x="1762200" y="2278080"/>
            <a:chExt cx="983880" cy="952200"/>
          </a:xfrm>
        </p:grpSpPr>
        <p:pic>
          <p:nvPicPr>
            <p:cNvPr id="277" name="" descr=""/>
            <p:cNvPicPr/>
            <p:nvPr/>
          </p:nvPicPr>
          <p:blipFill>
            <a:blip r:embed="rId8"/>
            <a:stretch/>
          </p:blipFill>
          <p:spPr>
            <a:xfrm>
              <a:off x="1762200" y="2278080"/>
              <a:ext cx="977040" cy="94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1762200" y="2278080"/>
              <a:ext cx="983880" cy="952200"/>
            </a:xfrm>
            <a:prstGeom prst="ellipse">
              <a:avLst/>
            </a:prstGeom>
            <a:gradFill rotWithShape="0">
              <a:gsLst>
                <a:gs pos="0">
                  <a:srgbClr val="e58790">
                    <a:alpha val="80000"/>
                  </a:srgbClr>
                </a:gs>
                <a:gs pos="50000">
                  <a:srgbClr val="693e42"/>
                </a:gs>
                <a:gs pos="100000">
                  <a:srgbClr val="e5879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9"/>
            <a:stretch/>
          </p:blipFill>
          <p:spPr>
            <a:xfrm>
              <a:off x="1860120" y="2287080"/>
              <a:ext cx="783720" cy="335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0" name=""/>
          <p:cNvGrpSpPr/>
          <p:nvPr/>
        </p:nvGrpSpPr>
        <p:grpSpPr>
          <a:xfrm>
            <a:off x="2147760" y="3551400"/>
            <a:ext cx="660600" cy="631800"/>
            <a:chOff x="2147760" y="3551400"/>
            <a:chExt cx="660600" cy="631800"/>
          </a:xfrm>
        </p:grpSpPr>
        <p:pic>
          <p:nvPicPr>
            <p:cNvPr id="281" name="" descr=""/>
            <p:cNvPicPr/>
            <p:nvPr/>
          </p:nvPicPr>
          <p:blipFill>
            <a:blip r:embed="rId10"/>
            <a:stretch/>
          </p:blipFill>
          <p:spPr>
            <a:xfrm>
              <a:off x="2147760" y="3551400"/>
              <a:ext cx="660600" cy="6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2147760" y="3551400"/>
              <a:ext cx="655560" cy="63180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55294"/>
                  </a:srgbClr>
                </a:gs>
                <a:gs pos="50000">
                  <a:srgbClr val="656565">
                    <a:alpha val="90196"/>
                  </a:srgbClr>
                </a:gs>
                <a:gs pos="100000">
                  <a:srgbClr val="dddddd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" descr=""/>
            <p:cNvPicPr/>
            <p:nvPr/>
          </p:nvPicPr>
          <p:blipFill>
            <a:blip r:embed="rId11"/>
            <a:stretch/>
          </p:blipFill>
          <p:spPr>
            <a:xfrm>
              <a:off x="2213640" y="3557520"/>
              <a:ext cx="522000" cy="22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4" name=""/>
          <p:cNvGrpSpPr/>
          <p:nvPr/>
        </p:nvGrpSpPr>
        <p:grpSpPr>
          <a:xfrm>
            <a:off x="3427560" y="3911760"/>
            <a:ext cx="1263240" cy="1221840"/>
            <a:chOff x="3427560" y="3911760"/>
            <a:chExt cx="1263240" cy="1221840"/>
          </a:xfrm>
        </p:grpSpPr>
        <p:pic>
          <p:nvPicPr>
            <p:cNvPr id="285" name="" descr=""/>
            <p:cNvPicPr/>
            <p:nvPr/>
          </p:nvPicPr>
          <p:blipFill>
            <a:blip r:embed="rId12"/>
            <a:stretch/>
          </p:blipFill>
          <p:spPr>
            <a:xfrm>
              <a:off x="3427560" y="3911760"/>
              <a:ext cx="1263240" cy="121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3427560" y="3911760"/>
              <a:ext cx="1255320" cy="1221840"/>
            </a:xfrm>
            <a:prstGeom prst="ellipse">
              <a:avLst/>
            </a:prstGeom>
            <a:gradFill rotWithShape="0">
              <a:gsLst>
                <a:gs pos="0">
                  <a:srgbClr val="72afd8">
                    <a:alpha val="80000"/>
                  </a:srgbClr>
                </a:gs>
                <a:gs pos="50000">
                  <a:srgbClr val="446881"/>
                </a:gs>
                <a:gs pos="100000">
                  <a:srgbClr val="72afd8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7" name="" descr=""/>
            <p:cNvPicPr/>
            <p:nvPr/>
          </p:nvPicPr>
          <p:blipFill>
            <a:blip r:embed="rId13"/>
            <a:stretch/>
          </p:blipFill>
          <p:spPr>
            <a:xfrm>
              <a:off x="3552480" y="3923280"/>
              <a:ext cx="999000" cy="43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8" name=""/>
          <p:cNvGrpSpPr/>
          <p:nvPr/>
        </p:nvGrpSpPr>
        <p:grpSpPr>
          <a:xfrm>
            <a:off x="5454720" y="4313160"/>
            <a:ext cx="660240" cy="635040"/>
            <a:chOff x="5454720" y="4313160"/>
            <a:chExt cx="660240" cy="635040"/>
          </a:xfrm>
        </p:grpSpPr>
        <p:pic>
          <p:nvPicPr>
            <p:cNvPr id="289" name="" descr=""/>
            <p:cNvPicPr/>
            <p:nvPr/>
          </p:nvPicPr>
          <p:blipFill>
            <a:blip r:embed="rId14"/>
            <a:stretch/>
          </p:blipFill>
          <p:spPr>
            <a:xfrm>
              <a:off x="5454720" y="4313160"/>
              <a:ext cx="66024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5454720" y="4313160"/>
              <a:ext cx="655200" cy="63504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55294"/>
                  </a:srgbClr>
                </a:gs>
                <a:gs pos="50000">
                  <a:srgbClr val="656565">
                    <a:alpha val="90196"/>
                  </a:srgbClr>
                </a:gs>
                <a:gs pos="100000">
                  <a:srgbClr val="dddddd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1" name="" descr=""/>
            <p:cNvPicPr/>
            <p:nvPr/>
          </p:nvPicPr>
          <p:blipFill>
            <a:blip r:embed="rId15"/>
            <a:stretch/>
          </p:blipFill>
          <p:spPr>
            <a:xfrm>
              <a:off x="5520600" y="4319280"/>
              <a:ext cx="521640" cy="22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2" name=""/>
          <p:cNvSpPr/>
          <p:nvPr/>
        </p:nvSpPr>
        <p:spPr>
          <a:xfrm rot="692400">
            <a:off x="2028960" y="2503800"/>
            <a:ext cx="4658760" cy="214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145" y="1416"/>
                </a:moveTo>
                <a:arcTo wR="10800" hR="10800" stAng="-3620089" swAng="1632255"/>
                <a:lnTo>
                  <a:pt x="10800" y="10800"/>
                </a:lnTo>
                <a:close/>
              </a:path>
              <a:path fill="none" w="21600" h="21600">
                <a:moveTo>
                  <a:pt x="16145" y="1416"/>
                </a:moveTo>
                <a:arcTo wR="10800" hR="10800" stAng="-3620089" swAng="1632255"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692400">
            <a:off x="2027880" y="2504880"/>
            <a:ext cx="4657320" cy="2147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7" y="10279"/>
                </a:moveTo>
                <a:arcTo wR="10800" hR="10800" stAng="-165862" swAng="2225620"/>
                <a:lnTo>
                  <a:pt x="10800" y="10800"/>
                </a:lnTo>
                <a:close/>
              </a:path>
              <a:path fill="none" w="21600" h="21600">
                <a:moveTo>
                  <a:pt x="21587" y="10279"/>
                </a:moveTo>
                <a:arcTo wR="10800" hR="10800" stAng="-165862" swAng="2225620"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692400">
            <a:off x="2025000" y="2489400"/>
            <a:ext cx="4665240" cy="214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863" y="19737"/>
                </a:moveTo>
                <a:arcTo wR="10800" hR="10800" stAng="3350772" swAng="1292840"/>
                <a:lnTo>
                  <a:pt x="10800" y="10800"/>
                </a:lnTo>
                <a:close/>
              </a:path>
              <a:path fill="none" w="21600" h="21600">
                <a:moveTo>
                  <a:pt x="16863" y="19737"/>
                </a:moveTo>
                <a:arcTo wR="10800" hR="10800" stAng="3350772" swAng="1292840"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692400">
            <a:off x="2034720" y="2476080"/>
            <a:ext cx="4662720" cy="214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204" y="20984"/>
                </a:moveTo>
                <a:arcTo wR="10800" hR="10800" stAng="6566969" swAng="1241914"/>
                <a:lnTo>
                  <a:pt x="10800" y="10800"/>
                </a:lnTo>
                <a:close/>
              </a:path>
              <a:path fill="none" w="21600" h="21600">
                <a:moveTo>
                  <a:pt x="7204" y="20984"/>
                </a:moveTo>
                <a:arcTo wR="10800" hR="10800" stAng="6566969" swAng="1241914"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692400">
            <a:off x="1990800" y="2471040"/>
            <a:ext cx="4663080" cy="214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8" y="15686"/>
                </a:moveTo>
                <a:arcTo wR="10800" hR="10800" stAng="9186116" swAng="2000789"/>
                <a:lnTo>
                  <a:pt x="10800" y="10800"/>
                </a:lnTo>
                <a:close/>
              </a:path>
              <a:path fill="none" w="21600" h="21600">
                <a:moveTo>
                  <a:pt x="1168" y="15686"/>
                </a:moveTo>
                <a:arcTo wR="10800" hR="10800" stAng="9186116" swAng="2000789"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692400">
            <a:off x="2000880" y="2468520"/>
            <a:ext cx="4661280" cy="214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22" y="3985"/>
                </a:moveTo>
                <a:arcTo wR="10800" hR="10800" stAng="-8452441" swAng="1099429"/>
                <a:lnTo>
                  <a:pt x="10800" y="10800"/>
                </a:lnTo>
                <a:close/>
              </a:path>
              <a:path fill="none" w="21600" h="21600">
                <a:moveTo>
                  <a:pt x="2422" y="3985"/>
                </a:moveTo>
                <a:arcTo wR="10800" hR="10800" stAng="-8452441" swAng="1099429"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99720" y="25686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640320" y="43275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82720" y="359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086600" y="2712960"/>
            <a:ext cx="1898640" cy="544680"/>
          </a:xfrm>
          <a:noFill/>
          <a:ln w="9360">
            <a:solidFill>
              <a:srgbClr val="80ca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cab1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029200" y="5151600"/>
            <a:ext cx="2371680" cy="544320"/>
          </a:xfrm>
          <a:noFill/>
          <a:ln w="9360">
            <a:solidFill>
              <a:srgbClr val="72af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2afd8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52280" y="1809720"/>
            <a:ext cx="1791000" cy="544680"/>
          </a:xfrm>
          <a:noFill/>
          <a:ln w="9360">
            <a:solidFill>
              <a:srgbClr val="e587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879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533520" y="4430880"/>
            <a:ext cx="8153280" cy="1936080"/>
            <a:chOff x="533520" y="4430880"/>
            <a:chExt cx="8153280" cy="1936080"/>
          </a:xfrm>
        </p:grpSpPr>
        <p:sp>
          <p:nvSpPr>
            <p:cNvPr id="305" name=""/>
            <p:cNvSpPr/>
            <p:nvPr/>
          </p:nvSpPr>
          <p:spPr>
            <a:xfrm>
              <a:off x="533520" y="4430880"/>
              <a:ext cx="8153280" cy="193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5c5c5"/>
                </a:gs>
                <a:gs pos="50000">
                  <a:srgbClr val="dddddd"/>
                </a:gs>
                <a:gs pos="100000">
                  <a:srgbClr val="c5c5c5"/>
                </a:gs>
              </a:gsLst>
              <a:lin ang="5400000"/>
            </a:gradFill>
            <a:ln w="12600">
              <a:solidFill>
                <a:srgbClr val="dddddd"/>
              </a:solidFill>
              <a:miter/>
            </a:ln>
            <a:effectLst>
              <a:outerShdw dist="50760" dir="5400000" blurRad="0" rotWithShape="0">
                <a:srgbClr val="ded9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63040" y="4469400"/>
              <a:ext cx="8096760" cy="1850760"/>
            </a:xfrm>
            <a:prstGeom prst="roundRect">
              <a:avLst>
                <a:gd name="adj" fmla="val 14810"/>
              </a:avLst>
            </a:prstGeom>
            <a:gradFill rotWithShape="0">
              <a:gsLst>
                <a:gs pos="0">
                  <a:srgbClr val="c5c5c5"/>
                </a:gs>
                <a:gs pos="50000">
                  <a:srgbClr val="dddddd"/>
                </a:gs>
                <a:gs pos="100000">
                  <a:srgbClr val="c5c5c5"/>
                </a:gs>
              </a:gsLst>
              <a:lin ang="5400000"/>
            </a:gradFill>
            <a:ln w="19080">
              <a:solidFill>
                <a:srgbClr val="dddddd">
                  <a:alpha val="1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812880" y="4038480"/>
            <a:ext cx="1854000" cy="816120"/>
            <a:chOff x="812880" y="4038480"/>
            <a:chExt cx="1854000" cy="816120"/>
          </a:xfrm>
        </p:grpSpPr>
        <p:sp>
          <p:nvSpPr>
            <p:cNvPr id="308" name=""/>
            <p:cNvSpPr/>
            <p:nvPr/>
          </p:nvSpPr>
          <p:spPr>
            <a:xfrm>
              <a:off x="812880" y="4038480"/>
              <a:ext cx="1854000" cy="816120"/>
            </a:xfrm>
            <a:custGeom>
              <a:avLst/>
              <a:gdLst>
                <a:gd name="textAreaLeft" fmla="*/ 0 w 1854000"/>
                <a:gd name="textAreaRight" fmla="*/ 1854360 w 1854000"/>
                <a:gd name="textAreaTop" fmla="*/ 0 h 816120"/>
                <a:gd name="textAreaBottom" fmla="*/ 816480 h 81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131" y="0"/>
                  </a:lnTo>
                  <a:lnTo>
                    <a:pt x="21600" y="10800"/>
                  </a:lnTo>
                  <a:lnTo>
                    <a:pt x="18131" y="21600"/>
                  </a:lnTo>
                  <a:lnTo>
                    <a:pt x="0" y="21600"/>
                  </a:lnTo>
                  <a:lnTo>
                    <a:pt x="346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eff5fa"/>
                </a:gs>
                <a:gs pos="50000">
                  <a:srgbClr val="72afd8"/>
                </a:gs>
                <a:gs pos="100000">
                  <a:srgbClr val="eff5fa"/>
                </a:gs>
              </a:gsLst>
              <a:lin ang="10800000"/>
            </a:gradFill>
            <a:ln w="12600">
              <a:solidFill>
                <a:srgbClr val="72afd8"/>
              </a:solidFill>
              <a:miter/>
            </a:ln>
            <a:effectLst>
              <a:outerShdw dist="50760" dir="5400000" blurRad="0" rotWithShape="0">
                <a:srgbClr val="ded9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44920" y="4060440"/>
              <a:ext cx="1802520" cy="774720"/>
            </a:xfrm>
            <a:custGeom>
              <a:avLst/>
              <a:gdLst>
                <a:gd name="textAreaLeft" fmla="*/ 0 w 1802520"/>
                <a:gd name="textAreaRight" fmla="*/ 1802880 w 180252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18" y="0"/>
                  </a:lnTo>
                  <a:lnTo>
                    <a:pt x="21600" y="10800"/>
                  </a:lnTo>
                  <a:lnTo>
                    <a:pt x="18018" y="21600"/>
                  </a:lnTo>
                  <a:lnTo>
                    <a:pt x="0" y="21600"/>
                  </a:lnTo>
                  <a:lnTo>
                    <a:pt x="3582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b6d5ea"/>
                </a:gs>
                <a:gs pos="50000">
                  <a:srgbClr val="72afd8"/>
                </a:gs>
                <a:gs pos="100000">
                  <a:srgbClr val="b6d5ea"/>
                </a:gs>
              </a:gsLst>
              <a:lin ang="5400000"/>
            </a:gradFill>
            <a:ln w="12600">
              <a:solidFill>
                <a:srgbClr val="72a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933480" y="4179960"/>
            <a:ext cx="15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689200" y="4038480"/>
            <a:ext cx="1854360" cy="816120"/>
            <a:chOff x="2689200" y="4038480"/>
            <a:chExt cx="1854360" cy="816120"/>
          </a:xfrm>
        </p:grpSpPr>
        <p:sp>
          <p:nvSpPr>
            <p:cNvPr id="312" name=""/>
            <p:cNvSpPr/>
            <p:nvPr/>
          </p:nvSpPr>
          <p:spPr>
            <a:xfrm>
              <a:off x="2689200" y="4038480"/>
              <a:ext cx="1854360" cy="81612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816120"/>
                <a:gd name="textAreaBottom" fmla="*/ 816480 h 81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131" y="0"/>
                  </a:lnTo>
                  <a:lnTo>
                    <a:pt x="21600" y="10800"/>
                  </a:lnTo>
                  <a:lnTo>
                    <a:pt x="18131" y="21600"/>
                  </a:lnTo>
                  <a:lnTo>
                    <a:pt x="0" y="21600"/>
                  </a:lnTo>
                  <a:lnTo>
                    <a:pt x="346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1f8f6"/>
                </a:gs>
                <a:gs pos="50000">
                  <a:srgbClr val="80cab1"/>
                </a:gs>
                <a:gs pos="100000">
                  <a:srgbClr val="f1f8f6"/>
                </a:gs>
              </a:gsLst>
              <a:lin ang="10800000"/>
            </a:gradFill>
            <a:ln w="12600">
              <a:solidFill>
                <a:srgbClr val="80cab1"/>
              </a:solidFill>
              <a:miter/>
            </a:ln>
            <a:effectLst>
              <a:outerShdw dist="50760" dir="5400000" blurRad="0" rotWithShape="0">
                <a:srgbClr val="ded9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21240" y="4060440"/>
              <a:ext cx="1802880" cy="774720"/>
            </a:xfrm>
            <a:custGeom>
              <a:avLst/>
              <a:gdLst>
                <a:gd name="textAreaLeft" fmla="*/ 0 w 1802880"/>
                <a:gd name="textAreaRight" fmla="*/ 1803240 w 18028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18" y="0"/>
                  </a:lnTo>
                  <a:lnTo>
                    <a:pt x="21600" y="10800"/>
                  </a:lnTo>
                  <a:lnTo>
                    <a:pt x="18018" y="21600"/>
                  </a:lnTo>
                  <a:lnTo>
                    <a:pt x="0" y="21600"/>
                  </a:lnTo>
                  <a:lnTo>
                    <a:pt x="3582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bde3d6"/>
                </a:gs>
                <a:gs pos="50000">
                  <a:srgbClr val="80cab1"/>
                </a:gs>
                <a:gs pos="100000">
                  <a:srgbClr val="bde3d6"/>
                </a:gs>
              </a:gsLst>
              <a:lin ang="5400000"/>
            </a:gradFill>
            <a:ln w="12600">
              <a:solidFill>
                <a:srgbClr val="80ca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4575240" y="4038480"/>
            <a:ext cx="1854000" cy="816120"/>
            <a:chOff x="4575240" y="4038480"/>
            <a:chExt cx="1854000" cy="816120"/>
          </a:xfrm>
        </p:grpSpPr>
        <p:sp>
          <p:nvSpPr>
            <p:cNvPr id="315" name=""/>
            <p:cNvSpPr/>
            <p:nvPr/>
          </p:nvSpPr>
          <p:spPr>
            <a:xfrm>
              <a:off x="4575240" y="4038480"/>
              <a:ext cx="1854000" cy="816120"/>
            </a:xfrm>
            <a:custGeom>
              <a:avLst/>
              <a:gdLst>
                <a:gd name="textAreaLeft" fmla="*/ 0 w 1854000"/>
                <a:gd name="textAreaRight" fmla="*/ 1854360 w 1854000"/>
                <a:gd name="textAreaTop" fmla="*/ 0 h 816120"/>
                <a:gd name="textAreaBottom" fmla="*/ 816480 h 81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131" y="0"/>
                  </a:lnTo>
                  <a:lnTo>
                    <a:pt x="21600" y="10800"/>
                  </a:lnTo>
                  <a:lnTo>
                    <a:pt x="18131" y="21600"/>
                  </a:lnTo>
                  <a:lnTo>
                    <a:pt x="0" y="21600"/>
                  </a:lnTo>
                  <a:lnTo>
                    <a:pt x="346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af3ed"/>
                </a:gs>
                <a:gs pos="50000">
                  <a:srgbClr val="e1995d"/>
                </a:gs>
                <a:gs pos="100000">
                  <a:srgbClr val="faf3ed"/>
                </a:gs>
              </a:gsLst>
              <a:lin ang="10800000"/>
            </a:gradFill>
            <a:ln w="12600">
              <a:solidFill>
                <a:srgbClr val="e1995d"/>
              </a:solidFill>
              <a:miter/>
            </a:ln>
            <a:effectLst>
              <a:outerShdw dist="50760" dir="5400000" blurRad="0" rotWithShape="0">
                <a:srgbClr val="ded9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607280" y="4060440"/>
              <a:ext cx="1802520" cy="774720"/>
            </a:xfrm>
            <a:custGeom>
              <a:avLst/>
              <a:gdLst>
                <a:gd name="textAreaLeft" fmla="*/ 0 w 1802520"/>
                <a:gd name="textAreaRight" fmla="*/ 1802880 w 180252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18" y="0"/>
                  </a:lnTo>
                  <a:lnTo>
                    <a:pt x="21600" y="10800"/>
                  </a:lnTo>
                  <a:lnTo>
                    <a:pt x="18018" y="21600"/>
                  </a:lnTo>
                  <a:lnTo>
                    <a:pt x="0" y="21600"/>
                  </a:lnTo>
                  <a:lnTo>
                    <a:pt x="3582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eecaab"/>
                </a:gs>
                <a:gs pos="50000">
                  <a:srgbClr val="e1995d"/>
                </a:gs>
                <a:gs pos="100000">
                  <a:srgbClr val="eecaab"/>
                </a:gs>
              </a:gsLst>
              <a:lin ang="5400000"/>
            </a:gradFill>
            <a:ln w="12600">
              <a:solidFill>
                <a:srgbClr val="e199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6451560" y="4038480"/>
            <a:ext cx="1854360" cy="816120"/>
            <a:chOff x="6451560" y="4038480"/>
            <a:chExt cx="1854360" cy="816120"/>
          </a:xfrm>
        </p:grpSpPr>
        <p:sp>
          <p:nvSpPr>
            <p:cNvPr id="318" name=""/>
            <p:cNvSpPr/>
            <p:nvPr/>
          </p:nvSpPr>
          <p:spPr>
            <a:xfrm>
              <a:off x="6451560" y="4038480"/>
              <a:ext cx="1854360" cy="81612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816120"/>
                <a:gd name="textAreaBottom" fmla="*/ 816480 h 81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131" y="0"/>
                  </a:lnTo>
                  <a:lnTo>
                    <a:pt x="21600" y="10800"/>
                  </a:lnTo>
                  <a:lnTo>
                    <a:pt x="18131" y="21600"/>
                  </a:lnTo>
                  <a:lnTo>
                    <a:pt x="0" y="21600"/>
                  </a:lnTo>
                  <a:lnTo>
                    <a:pt x="346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bf1f2"/>
                </a:gs>
                <a:gs pos="50000">
                  <a:srgbClr val="e58790"/>
                </a:gs>
                <a:gs pos="100000">
                  <a:srgbClr val="fbf1f2"/>
                </a:gs>
              </a:gsLst>
              <a:lin ang="10800000"/>
            </a:gradFill>
            <a:ln w="12600">
              <a:solidFill>
                <a:srgbClr val="e58790"/>
              </a:solidFill>
              <a:miter/>
            </a:ln>
            <a:effectLst>
              <a:outerShdw dist="50760" dir="5400000" blurRad="0" rotWithShape="0">
                <a:srgbClr val="ded9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483600" y="4060440"/>
              <a:ext cx="1802880" cy="774720"/>
            </a:xfrm>
            <a:custGeom>
              <a:avLst/>
              <a:gdLst>
                <a:gd name="textAreaLeft" fmla="*/ 0 w 1802880"/>
                <a:gd name="textAreaRight" fmla="*/ 1803240 w 18028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18" y="0"/>
                  </a:lnTo>
                  <a:lnTo>
                    <a:pt x="21600" y="10800"/>
                  </a:lnTo>
                  <a:lnTo>
                    <a:pt x="18018" y="21600"/>
                  </a:lnTo>
                  <a:lnTo>
                    <a:pt x="0" y="21600"/>
                  </a:lnTo>
                  <a:lnTo>
                    <a:pt x="3582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0c1c5"/>
                </a:gs>
                <a:gs pos="50000">
                  <a:srgbClr val="e58790"/>
                </a:gs>
                <a:gs pos="100000">
                  <a:srgbClr val="f0c1c5"/>
                </a:gs>
              </a:gsLst>
              <a:lin ang="5400000"/>
            </a:gradFill>
            <a:ln w="12600">
              <a:solidFill>
                <a:srgbClr val="e587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62120" y="501336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647800" y="5013360"/>
            <a:ext cx="17528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51480" y="501336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475320" y="5013360"/>
            <a:ext cx="17528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4116240" y="1843200"/>
            <a:ext cx="426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meGallery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Design Digital Content &amp; Contents ma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veloped by Guild Design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1089000" y="1600200"/>
            <a:ext cx="1873440" cy="21160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2847960" y="4179960"/>
            <a:ext cx="15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30760" y="4179960"/>
            <a:ext cx="15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622920" y="417996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89cd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847960" y="1969920"/>
            <a:ext cx="499104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72af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857680" y="334332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80ca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085840" y="1447920"/>
            <a:ext cx="2438640" cy="1785960"/>
          </a:xfrm>
          <a:prstGeom prst="upArrow">
            <a:avLst>
              <a:gd name="adj1" fmla="val 49093"/>
              <a:gd name="adj2" fmla="val 22310"/>
            </a:avLst>
          </a:prstGeom>
          <a:gradFill rotWithShape="0">
            <a:gsLst>
              <a:gs pos="0">
                <a:srgbClr val="72afd8"/>
              </a:gs>
              <a:gs pos="100000">
                <a:srgbClr val="4b738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447920" y="2828880"/>
            <a:ext cx="2476440" cy="1778040"/>
          </a:xfrm>
          <a:prstGeom prst="upArrow">
            <a:avLst>
              <a:gd name="adj1" fmla="val 51824"/>
              <a:gd name="adj2" fmla="val 23468"/>
            </a:avLst>
          </a:prstGeom>
          <a:gradFill rotWithShape="0">
            <a:gsLst>
              <a:gs pos="0">
                <a:srgbClr val="80cab1"/>
              </a:gs>
              <a:gs pos="100000">
                <a:srgbClr val="47706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76560" y="4738680"/>
            <a:ext cx="567036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e587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905040" y="4199040"/>
            <a:ext cx="2438280" cy="1805040"/>
          </a:xfrm>
          <a:prstGeom prst="upArrow">
            <a:avLst>
              <a:gd name="adj1" fmla="val 52602"/>
              <a:gd name="adj2" fmla="val 25245"/>
            </a:avLst>
          </a:prstGeom>
          <a:gradFill rotWithShape="0">
            <a:gsLst>
              <a:gs pos="0">
                <a:srgbClr val="e58790"/>
              </a:gs>
              <a:gs pos="100000">
                <a:srgbClr val="824c5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 rot="5400000">
            <a:off x="1829880" y="3570120"/>
            <a:ext cx="91440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0" lang="en-US" sz="18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7" name=""/>
          <p:cNvSpPr txBox="1"/>
          <p:nvPr/>
        </p:nvSpPr>
        <p:spPr>
          <a:xfrm rot="5400000">
            <a:off x="1354680" y="5159880"/>
            <a:ext cx="6843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0" lang="en-US" sz="18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8" name=""/>
          <p:cNvSpPr txBox="1"/>
          <p:nvPr/>
        </p:nvSpPr>
        <p:spPr>
          <a:xfrm rot="5400000">
            <a:off x="2463120" y="2185920"/>
            <a:ext cx="78912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0" lang="en-US" sz="20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200988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6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52760" y="330048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3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962000" y="477684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0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09760" y="4808520"/>
            <a:ext cx="358632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287960" y="2016000"/>
            <a:ext cx="323820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670200" y="3398760"/>
            <a:ext cx="358164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89cd"/>
              </a:solidFill>
              <a:latin typeface="微软雅黑"/>
            </a:endParaRPr>
          </a:p>
        </p:txBody>
      </p:sp>
      <p:sp>
        <p:nvSpPr>
          <p:cNvPr id="346" name=""/>
          <p:cNvSpPr/>
          <p:nvPr/>
        </p:nvSpPr>
        <p:spPr>
          <a:xfrm>
            <a:off x="1447920" y="6248520"/>
            <a:ext cx="66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体育运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e1995d"/>
                </a:solidFill>
                <a:uFillTx/>
                <a:latin typeface="Arial"/>
                <a:hlinkClick r:id="rId1"/>
              </a:rPr>
              <a:t>http://www.eeppt.com/moban/yundo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76320" y="5435640"/>
            <a:ext cx="2133360" cy="142236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3773520" y="2270160"/>
            <a:ext cx="4761000" cy="2414880"/>
            <a:chOff x="3773520" y="2270160"/>
            <a:chExt cx="4761000" cy="2414880"/>
          </a:xfrm>
        </p:grpSpPr>
        <p:sp>
          <p:nvSpPr>
            <p:cNvPr id="349" name=""/>
            <p:cNvSpPr/>
            <p:nvPr/>
          </p:nvSpPr>
          <p:spPr>
            <a:xfrm>
              <a:off x="3773520" y="227016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73520" y="267552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73520" y="306900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73520" y="347472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773520" y="386856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73520" y="427392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73520" y="468468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3348720" y="2011320"/>
            <a:ext cx="636480" cy="2670480"/>
            <a:chOff x="3348720" y="2011320"/>
            <a:chExt cx="636480" cy="2670480"/>
          </a:xfrm>
        </p:grpSpPr>
        <p:sp>
          <p:nvSpPr>
            <p:cNvPr id="357" name=""/>
            <p:cNvSpPr/>
            <p:nvPr/>
          </p:nvSpPr>
          <p:spPr>
            <a:xfrm>
              <a:off x="3378960" y="437472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372840" y="4000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72840" y="35740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348720" y="316836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348720" y="279252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348720" y="236628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48720" y="201132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2674800" y="533412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884240" y="4879800"/>
            <a:ext cx="6478560" cy="792000"/>
            <a:chOff x="1884240" y="4879800"/>
            <a:chExt cx="6478560" cy="792000"/>
          </a:xfrm>
        </p:grpSpPr>
        <p:sp>
          <p:nvSpPr>
            <p:cNvPr id="366" name=""/>
            <p:cNvSpPr/>
            <p:nvPr/>
          </p:nvSpPr>
          <p:spPr>
            <a:xfrm flipV="1">
              <a:off x="1884240" y="5421600"/>
              <a:ext cx="6281640" cy="74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3054240" y="4879800"/>
              <a:ext cx="5308560" cy="792000"/>
              <a:chOff x="3054240" y="4879800"/>
              <a:chExt cx="5308560" cy="792000"/>
            </a:xfrm>
          </p:grpSpPr>
          <p:sp>
            <p:nvSpPr>
              <p:cNvPr id="368" name=""/>
              <p:cNvSpPr/>
              <p:nvPr/>
            </p:nvSpPr>
            <p:spPr>
              <a:xfrm flipV="1">
                <a:off x="3054240" y="4898880"/>
                <a:ext cx="1351080" cy="333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4951440" y="4922640"/>
                <a:ext cx="857160" cy="496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5810040" y="5065200"/>
                <a:ext cx="757440" cy="43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6734160" y="5108040"/>
                <a:ext cx="730080" cy="4856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7650000" y="5135400"/>
                <a:ext cx="712800" cy="53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4019400" y="4879800"/>
                <a:ext cx="1009800" cy="4492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4" name="未知"/>
          <p:cNvSpPr/>
          <p:nvPr/>
        </p:nvSpPr>
        <p:spPr>
          <a:xfrm>
            <a:off x="3538440" y="2317680"/>
            <a:ext cx="4668840" cy="2808360"/>
          </a:xfrm>
          <a:custGeom>
            <a:avLst/>
            <a:gdLst/>
            <a:ahLst/>
            <a:rect l="l" t="t" r="r" b="b"/>
            <a:pathLst>
              <a:path w="3569" h="2147">
                <a:moveTo>
                  <a:pt x="430" y="1727"/>
                </a:moveTo>
                <a:cubicBezTo>
                  <a:pt x="609" y="1561"/>
                  <a:pt x="1114" y="1633"/>
                  <a:pt x="1569" y="1343"/>
                </a:cubicBezTo>
                <a:cubicBezTo>
                  <a:pt x="2024" y="1053"/>
                  <a:pt x="2485" y="236"/>
                  <a:pt x="2767" y="118"/>
                </a:cubicBezTo>
                <a:cubicBezTo>
                  <a:pt x="3049" y="0"/>
                  <a:pt x="3369" y="218"/>
                  <a:pt x="3547" y="531"/>
                </a:cubicBezTo>
                <a:cubicBezTo>
                  <a:pt x="3558" y="1339"/>
                  <a:pt x="3569" y="2147"/>
                  <a:pt x="3569" y="2147"/>
                </a:cubicBezTo>
                <a:lnTo>
                  <a:pt x="0" y="2141"/>
                </a:lnTo>
                <a:lnTo>
                  <a:pt x="430" y="1727"/>
                </a:lnTo>
                <a:close/>
              </a:path>
            </a:pathLst>
          </a:custGeom>
          <a:gradFill rotWithShape="0">
            <a:gsLst>
              <a:gs pos="0">
                <a:srgbClr val="f2f9f6">
                  <a:alpha val="80000"/>
                </a:srgbClr>
              </a:gs>
              <a:gs pos="100000">
                <a:srgbClr val="80cab1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未知"/>
          <p:cNvSpPr/>
          <p:nvPr/>
        </p:nvSpPr>
        <p:spPr>
          <a:xfrm>
            <a:off x="3354480" y="3565440"/>
            <a:ext cx="4640040" cy="1784520"/>
          </a:xfrm>
          <a:custGeom>
            <a:avLst/>
            <a:gdLst/>
            <a:ahLst/>
            <a:rect l="l" t="t" r="r" b="b"/>
            <a:pathLst>
              <a:path w="3136" h="1206">
                <a:moveTo>
                  <a:pt x="291" y="718"/>
                </a:moveTo>
                <a:cubicBezTo>
                  <a:pt x="388" y="615"/>
                  <a:pt x="759" y="0"/>
                  <a:pt x="1189" y="59"/>
                </a:cubicBezTo>
                <a:cubicBezTo>
                  <a:pt x="1619" y="118"/>
                  <a:pt x="1507" y="609"/>
                  <a:pt x="3136" y="880"/>
                </a:cubicBezTo>
                <a:lnTo>
                  <a:pt x="3135" y="1206"/>
                </a:lnTo>
                <a:lnTo>
                  <a:pt x="0" y="1082"/>
                </a:lnTo>
                <a:lnTo>
                  <a:pt x="291" y="718"/>
                </a:lnTo>
                <a:close/>
              </a:path>
            </a:pathLst>
          </a:custGeom>
          <a:gradFill rotWithShape="0">
            <a:gsLst>
              <a:gs pos="0">
                <a:srgbClr val="f5d8da">
                  <a:alpha val="90196"/>
                </a:srgbClr>
              </a:gs>
              <a:gs pos="100000">
                <a:srgbClr val="e58790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24120" y="541008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41760" y="55180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432400" y="5594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345360" y="567072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270920" y="57466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593040" y="3029040"/>
            <a:ext cx="135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178160" y="4235400"/>
            <a:ext cx="142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348080" y="2957400"/>
            <a:ext cx="1955880" cy="355680"/>
          </a:xfrm>
          <a:prstGeom prst="wedgeRectCallout">
            <a:avLst>
              <a:gd name="adj1" fmla="val -11768"/>
              <a:gd name="adj2" fmla="val 124555"/>
            </a:avLst>
          </a:prstGeom>
          <a:solidFill>
            <a:srgbClr val="e5879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227640" y="1828800"/>
            <a:ext cx="1981440" cy="387360"/>
          </a:xfrm>
          <a:prstGeom prst="wedgeRectCallout">
            <a:avLst>
              <a:gd name="adj1" fmla="val 3287"/>
              <a:gd name="adj2" fmla="val 106555"/>
            </a:avLst>
          </a:prstGeom>
          <a:solidFill>
            <a:srgbClr val="80cab1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55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306440" y="39243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06440" y="43401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65280" y="2095560"/>
            <a:ext cx="246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65280" y="3695760"/>
            <a:ext cx="25146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49320" y="4381560"/>
            <a:ext cx="314280" cy="330120"/>
          </a:xfrm>
          <a:prstGeom prst="ellipse">
            <a:avLst/>
          </a:prstGeom>
          <a:gradFill rotWithShape="0">
            <a:gsLst>
              <a:gs pos="0">
                <a:srgbClr val="80cab1"/>
              </a:gs>
              <a:gs pos="100000">
                <a:srgbClr val="558675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ed9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942840" y="3954600"/>
            <a:ext cx="314640" cy="330120"/>
          </a:xfrm>
          <a:prstGeom prst="ellipse">
            <a:avLst/>
          </a:prstGeom>
          <a:gradFill rotWithShape="0">
            <a:gsLst>
              <a:gs pos="0">
                <a:srgbClr val="e58790"/>
              </a:gs>
              <a:gs pos="100000">
                <a:srgbClr val="98595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ed9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89cd"/>
              </a:solidFill>
              <a:latin typeface="微软雅黑"/>
            </a:endParaRPr>
          </a:p>
        </p:txBody>
      </p:sp>
      <p:sp>
        <p:nvSpPr>
          <p:cNvPr id="392" name=""/>
          <p:cNvSpPr/>
          <p:nvPr/>
        </p:nvSpPr>
        <p:spPr>
          <a:xfrm>
            <a:off x="716292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"/>
          <p:cNvGrpSpPr/>
          <p:nvPr/>
        </p:nvGrpSpPr>
        <p:grpSpPr>
          <a:xfrm>
            <a:off x="2092320" y="4002120"/>
            <a:ext cx="5056200" cy="923760"/>
            <a:chOff x="2092320" y="4002120"/>
            <a:chExt cx="5056200" cy="923760"/>
          </a:xfrm>
        </p:grpSpPr>
        <p:sp>
          <p:nvSpPr>
            <p:cNvPr id="394" name=""/>
            <p:cNvSpPr/>
            <p:nvPr/>
          </p:nvSpPr>
          <p:spPr>
            <a:xfrm>
              <a:off x="2092320" y="4002120"/>
              <a:ext cx="505620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4653d"/>
                </a:gs>
                <a:gs pos="100000">
                  <a:srgbClr val="e199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22360" y="492120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32080" y="400212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2166840" y="5192640"/>
            <a:ext cx="5084640" cy="923760"/>
            <a:chOff x="2166840" y="5192640"/>
            <a:chExt cx="5084640" cy="923760"/>
          </a:xfrm>
        </p:grpSpPr>
        <p:sp>
          <p:nvSpPr>
            <p:cNvPr id="398" name=""/>
            <p:cNvSpPr/>
            <p:nvPr/>
          </p:nvSpPr>
          <p:spPr>
            <a:xfrm>
              <a:off x="2166840" y="5192640"/>
              <a:ext cx="508464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cab1"/>
                </a:gs>
                <a:gs pos="100000">
                  <a:srgbClr val="54857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90680" y="611172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314440" y="519264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2166840" y="2811600"/>
            <a:ext cx="5084640" cy="923760"/>
            <a:chOff x="2166840" y="2811600"/>
            <a:chExt cx="5084640" cy="923760"/>
          </a:xfrm>
        </p:grpSpPr>
        <p:sp>
          <p:nvSpPr>
            <p:cNvPr id="402" name=""/>
            <p:cNvSpPr/>
            <p:nvPr/>
          </p:nvSpPr>
          <p:spPr>
            <a:xfrm>
              <a:off x="2166840" y="2811600"/>
              <a:ext cx="508464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2afd8"/>
                </a:gs>
                <a:gs pos="100000">
                  <a:srgbClr val="4b738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332080" y="3730680"/>
              <a:ext cx="4682880" cy="0"/>
            </a:xfrm>
            <a:prstGeom prst="line">
              <a:avLst/>
            </a:prstGeom>
            <a:ln w="324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90680" y="281484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2073240" y="1649520"/>
            <a:ext cx="5027760" cy="923760"/>
            <a:chOff x="2073240" y="1649520"/>
            <a:chExt cx="5027760" cy="923760"/>
          </a:xfrm>
        </p:grpSpPr>
        <p:sp>
          <p:nvSpPr>
            <p:cNvPr id="406" name=""/>
            <p:cNvSpPr/>
            <p:nvPr/>
          </p:nvSpPr>
          <p:spPr>
            <a:xfrm>
              <a:off x="2073240" y="1649520"/>
              <a:ext cx="502776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7595f"/>
                </a:gs>
                <a:gs pos="100000">
                  <a:srgbClr val="e587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290680" y="257328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290680" y="165276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Text Box 4"/>
          <p:cNvSpPr/>
          <p:nvPr/>
        </p:nvSpPr>
        <p:spPr>
          <a:xfrm>
            <a:off x="2381400" y="1811160"/>
            <a:ext cx="45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1"/>
          <p:cNvSpPr/>
          <p:nvPr/>
        </p:nvSpPr>
        <p:spPr>
          <a:xfrm>
            <a:off x="2340000" y="2957400"/>
            <a:ext cx="457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8"/>
          <p:cNvSpPr/>
          <p:nvPr/>
        </p:nvSpPr>
        <p:spPr>
          <a:xfrm>
            <a:off x="2381400" y="4181400"/>
            <a:ext cx="45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2340000" y="5349960"/>
            <a:ext cx="457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257480" y="1481040"/>
            <a:ext cx="1238040" cy="1236600"/>
            <a:chOff x="1257480" y="1481040"/>
            <a:chExt cx="1238040" cy="1236600"/>
          </a:xfrm>
        </p:grpSpPr>
        <p:sp>
          <p:nvSpPr>
            <p:cNvPr id="414" name="Oval 6"/>
            <p:cNvSpPr/>
            <p:nvPr/>
          </p:nvSpPr>
          <p:spPr>
            <a:xfrm>
              <a:off x="1257480" y="1481040"/>
              <a:ext cx="123804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e587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7"/>
            <p:cNvSpPr/>
            <p:nvPr/>
          </p:nvSpPr>
          <p:spPr>
            <a:xfrm>
              <a:off x="1308240" y="1531800"/>
              <a:ext cx="1134720" cy="1135080"/>
            </a:xfrm>
            <a:prstGeom prst="ellipse">
              <a:avLst/>
            </a:prstGeom>
            <a:noFill/>
            <a:ln w="38160">
              <a:solidFill>
                <a:srgbClr val="e58790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8"/>
            <p:cNvSpPr/>
            <p:nvPr/>
          </p:nvSpPr>
          <p:spPr>
            <a:xfrm>
              <a:off x="1359000" y="1585800"/>
              <a:ext cx="1032840" cy="1032840"/>
            </a:xfrm>
            <a:prstGeom prst="ellipse">
              <a:avLst/>
            </a:prstGeom>
            <a:noFill/>
            <a:ln w="38160">
              <a:solidFill>
                <a:srgbClr val="e58790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9"/>
          <p:cNvSpPr/>
          <p:nvPr/>
        </p:nvSpPr>
        <p:spPr>
          <a:xfrm>
            <a:off x="1328760" y="1781280"/>
            <a:ext cx="108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6838920" y="2630520"/>
            <a:ext cx="1238400" cy="1236600"/>
            <a:chOff x="6838920" y="2630520"/>
            <a:chExt cx="1238400" cy="1236600"/>
          </a:xfrm>
        </p:grpSpPr>
        <p:sp>
          <p:nvSpPr>
            <p:cNvPr id="419" name="Oval 13"/>
            <p:cNvSpPr/>
            <p:nvPr/>
          </p:nvSpPr>
          <p:spPr>
            <a:xfrm>
              <a:off x="6838920" y="263052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72a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4"/>
            <p:cNvSpPr/>
            <p:nvPr/>
          </p:nvSpPr>
          <p:spPr>
            <a:xfrm>
              <a:off x="6889680" y="268128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72afd8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5"/>
            <p:cNvSpPr/>
            <p:nvPr/>
          </p:nvSpPr>
          <p:spPr>
            <a:xfrm>
              <a:off x="6940440" y="273528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72afd8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Text Box 16"/>
          <p:cNvSpPr/>
          <p:nvPr/>
        </p:nvSpPr>
        <p:spPr>
          <a:xfrm>
            <a:off x="6910560" y="294012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247760" y="3851280"/>
            <a:ext cx="1238400" cy="1236600"/>
            <a:chOff x="1247760" y="3851280"/>
            <a:chExt cx="1238400" cy="1236600"/>
          </a:xfrm>
        </p:grpSpPr>
        <p:sp>
          <p:nvSpPr>
            <p:cNvPr id="424" name="Oval 20"/>
            <p:cNvSpPr/>
            <p:nvPr/>
          </p:nvSpPr>
          <p:spPr>
            <a:xfrm>
              <a:off x="1247760" y="385128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e199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21"/>
            <p:cNvSpPr/>
            <p:nvPr/>
          </p:nvSpPr>
          <p:spPr>
            <a:xfrm>
              <a:off x="1298520" y="390204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e1995d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22"/>
            <p:cNvSpPr/>
            <p:nvPr/>
          </p:nvSpPr>
          <p:spPr>
            <a:xfrm>
              <a:off x="1349280" y="395604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e1995d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Text Box 23"/>
          <p:cNvSpPr/>
          <p:nvPr/>
        </p:nvSpPr>
        <p:spPr>
          <a:xfrm>
            <a:off x="1319040" y="415116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6838920" y="5011560"/>
            <a:ext cx="1238400" cy="1236960"/>
            <a:chOff x="6838920" y="5011560"/>
            <a:chExt cx="1238400" cy="1236960"/>
          </a:xfrm>
        </p:grpSpPr>
        <p:sp>
          <p:nvSpPr>
            <p:cNvPr id="429" name="Oval 27"/>
            <p:cNvSpPr/>
            <p:nvPr/>
          </p:nvSpPr>
          <p:spPr>
            <a:xfrm>
              <a:off x="6838920" y="5011560"/>
              <a:ext cx="1238400" cy="123696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80ca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28"/>
            <p:cNvSpPr/>
            <p:nvPr/>
          </p:nvSpPr>
          <p:spPr>
            <a:xfrm>
              <a:off x="6889680" y="506232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80cab1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29"/>
            <p:cNvSpPr/>
            <p:nvPr/>
          </p:nvSpPr>
          <p:spPr>
            <a:xfrm>
              <a:off x="6940440" y="511632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80cab1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Text Box 30"/>
          <p:cNvSpPr/>
          <p:nvPr/>
        </p:nvSpPr>
        <p:spPr>
          <a:xfrm>
            <a:off x="6910560" y="531972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89cd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8T00:44:46Z</dcterms:created>
  <dc:creator>http://www.eeppt.com</dc:creator>
  <dc:description>ppt模板下载网站 http://www.eeppt.com</dc:description>
  <dc:language>en-US</dc:language>
  <cp:lastModifiedBy/>
  <dcterms:modified xsi:type="dcterms:W3CDTF">2015-06-14T09:15:56Z</dcterms:modified>
  <cp:revision>3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