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607EA-B521-43BE-9915-85230F01D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54725-55C8-47C8-9BE5-B705EC838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5DEB6-F715-42BA-A626-77D7F4444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D937B-9DF0-4EE3-99C5-AE1907176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E6729-CCB6-4E01-861D-79E962388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18E10-5A55-4434-B15F-75EE7B7A1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8C000-7015-4E07-9295-373B97E82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0031B-5482-4174-8AD1-11958F12A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D1D29-919A-4075-8F39-E9D5DA39B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3C446-4A14-49F6-AE62-5144AD88C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CB3A1-DE62-488B-8232-A8F311F51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FEF41-170D-41F0-8E9A-1BF86EE65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9D83D-89BF-4996-A8FA-D115F5506138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6C578-B0E2-4403-B619-9C6FA37C5A5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http://www.eeppt.com</dc:creator>
  <dc:description>ppt模板下载网站 http://www.eeppt.com</dc:description>
  <dc:language>en-US</dc:language>
  <cp:lastModifiedBy/>
  <dcterms:modified xsi:type="dcterms:W3CDTF">2015-05-09T08:20:24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