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3640" y="396360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9596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032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364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032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1375920"/>
            <a:ext cx="7947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7947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5840" y="287280"/>
            <a:ext cx="763416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3640" y="1375920"/>
            <a:ext cx="7947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9596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640" y="396360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9596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032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7360" y="137592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364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1032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7360" y="3963600"/>
            <a:ext cx="2558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7947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5840" y="287280"/>
            <a:ext cx="763416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960" y="396360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364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960" y="1375920"/>
            <a:ext cx="3877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3640" y="3963600"/>
            <a:ext cx="7947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572000" y="4761000"/>
            <a:ext cx="4572000" cy="2097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3640" y="1375920"/>
            <a:ext cx="7947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1280" y="6318360"/>
            <a:ext cx="733680" cy="458640"/>
            <a:chOff x="71280" y="6318360"/>
            <a:chExt cx="733680" cy="45864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71280" y="6318360"/>
              <a:ext cx="73368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38960" y="6360480"/>
              <a:ext cx="598680" cy="3740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  <a:ea typeface="HY견고딕"/>
                </a:rPr>
                <a:t>LO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http://www.eeppt.com/moban/shangwu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4720" y="1125360"/>
            <a:ext cx="705456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银色水晶球商务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i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d8d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00" y="3156120"/>
            <a:ext cx="8064000" cy="523800"/>
            <a:chOff x="324000" y="3156120"/>
            <a:chExt cx="8064000" cy="5238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 flipH="1">
              <a:off x="431640" y="3156120"/>
              <a:ext cx="79563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32000" y="318960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. Main subje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24000" y="3273480"/>
              <a:ext cx="287280" cy="287280"/>
              <a:chOff x="324000" y="3273480"/>
              <a:chExt cx="287280" cy="287280"/>
            </a:xfrm>
          </p:grpSpPr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273480"/>
                <a:ext cx="2872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57480" y="3306960"/>
                <a:ext cx="218880" cy="218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24000" y="4200480"/>
            <a:ext cx="8064000" cy="523800"/>
            <a:chOff x="324000" y="4200480"/>
            <a:chExt cx="8064000" cy="52380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 flipH="1">
              <a:off x="431640" y="4200480"/>
              <a:ext cx="79563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2000" y="423396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3. 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24000" y="4317840"/>
              <a:ext cx="287280" cy="287280"/>
              <a:chOff x="324000" y="4317840"/>
              <a:chExt cx="287280" cy="287280"/>
            </a:xfrm>
          </p:grpSpPr>
          <p:pic>
            <p:nvPicPr>
              <p:cNvPr id="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00" y="4317840"/>
                <a:ext cx="2872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57480" y="4351320"/>
                <a:ext cx="218880" cy="218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324000" y="5245200"/>
            <a:ext cx="8064000" cy="523800"/>
            <a:chOff x="324000" y="5245200"/>
            <a:chExt cx="8064000" cy="52380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 flipH="1">
              <a:off x="431640" y="5245200"/>
              <a:ext cx="79563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32000" y="527868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4. 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4000" y="5362560"/>
              <a:ext cx="287280" cy="287280"/>
              <a:chOff x="324000" y="5362560"/>
              <a:chExt cx="287280" cy="287280"/>
            </a:xfrm>
          </p:grpSpPr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5362560"/>
                <a:ext cx="2872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57480" y="5396040"/>
                <a:ext cx="218880" cy="218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324000" y="2112840"/>
            <a:ext cx="8064000" cy="523800"/>
            <a:chOff x="324000" y="2112840"/>
            <a:chExt cx="8064000" cy="523800"/>
          </a:xfrm>
        </p:grpSpPr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 flipH="1">
              <a:off x="431640" y="2112840"/>
              <a:ext cx="79563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2000" y="214632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1. 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24000" y="2230200"/>
              <a:ext cx="287280" cy="287280"/>
              <a:chOff x="324000" y="2230200"/>
              <a:chExt cx="287280" cy="2872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000" y="2230200"/>
                <a:ext cx="2872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57480" y="2263680"/>
                <a:ext cx="218880" cy="218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1640" y="1414080"/>
            <a:ext cx="7947000" cy="4967280"/>
            <a:chOff x="431640" y="1414080"/>
            <a:chExt cx="7947000" cy="49672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431640" y="1413720"/>
              <a:ext cx="7947000" cy="49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2000" y="1444320"/>
              <a:ext cx="7488360" cy="49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ompeti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08590"/>
                  </a:solidFill>
                  <a:latin typeface="Verdana"/>
                  <a:ea typeface="Guli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You may want to allocate one slide per 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trengths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08590"/>
                  </a:solidFill>
                  <a:latin typeface="Verdana"/>
                  <a:ea typeface="Gulim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Your strengths relative to competi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Weakn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08590"/>
                  </a:solidFill>
                  <a:latin typeface="Verdana"/>
                  <a:ea typeface="Gulim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Your weaknesses relative to 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[Images information in this produc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4000" y="2023920"/>
            <a:ext cx="287280" cy="287280"/>
            <a:chOff x="324000" y="2023920"/>
            <a:chExt cx="287280" cy="2872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24000" y="20239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57480" y="2057400"/>
              <a:ext cx="218880" cy="218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4000" y="3033720"/>
            <a:ext cx="287280" cy="287280"/>
            <a:chOff x="324000" y="3033720"/>
            <a:chExt cx="287280" cy="2872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24000" y="3033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57480" y="3067200"/>
              <a:ext cx="218880" cy="218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4000" y="4041720"/>
            <a:ext cx="287280" cy="287280"/>
            <a:chOff x="324000" y="4041720"/>
            <a:chExt cx="287280" cy="28728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324000" y="4041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57480" y="4075200"/>
              <a:ext cx="218880" cy="218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7812000" cy="4103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2313000"/>
            <a:ext cx="77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. 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. 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. 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4. 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5. 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1521000"/>
            <a:ext cx="7811280" cy="523800"/>
            <a:chOff x="324000" y="1521000"/>
            <a:chExt cx="7811280" cy="5238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 flipH="1">
              <a:off x="428040" y="1521000"/>
              <a:ext cx="77072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28400" y="1554480"/>
              <a:ext cx="76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ubtitl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4000" y="1638360"/>
              <a:ext cx="278280" cy="287280"/>
              <a:chOff x="324000" y="1638360"/>
              <a:chExt cx="278280" cy="287280"/>
            </a:xfrm>
          </p:grpSpPr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1638360"/>
                <a:ext cx="27828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56400" y="1671840"/>
                <a:ext cx="211680" cy="218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95640" y="1521000"/>
            <a:ext cx="3924360" cy="4593960"/>
            <a:chOff x="4895640" y="1521000"/>
            <a:chExt cx="3924360" cy="45939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 flipH="1">
              <a:off x="4896000" y="1521000"/>
              <a:ext cx="3924000" cy="45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 flipH="1">
              <a:off x="4896000" y="2530440"/>
              <a:ext cx="392400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896000" y="1900080"/>
              <a:ext cx="37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ubtitl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95280" y="2530440"/>
              <a:ext cx="3906360" cy="33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edit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edit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1974960"/>
            <a:ext cx="287280" cy="287280"/>
            <a:chOff x="4788000" y="1974960"/>
            <a:chExt cx="287280" cy="28728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788000" y="19749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821480" y="2008440"/>
              <a:ext cx="218880" cy="218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16000" y="1521000"/>
            <a:ext cx="4031640" cy="4593960"/>
            <a:chOff x="216000" y="1521000"/>
            <a:chExt cx="4031640" cy="4593960"/>
          </a:xfrm>
        </p:grpSpPr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 flipH="1">
              <a:off x="323640" y="1521000"/>
              <a:ext cx="3924000" cy="45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 flipH="1">
              <a:off x="323640" y="2530440"/>
              <a:ext cx="392400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23640" y="1900080"/>
              <a:ext cx="37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ubtitl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16000" y="1974600"/>
              <a:ext cx="286920" cy="286920"/>
              <a:chOff x="216000" y="1974600"/>
              <a:chExt cx="286920" cy="286920"/>
            </a:xfrm>
          </p:grpSpPr>
          <p:pic>
            <p:nvPicPr>
              <p:cNvPr id="1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6000" y="1974600"/>
                <a:ext cx="2869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249120" y="2007720"/>
                <a:ext cx="218520" cy="21852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23640" y="2530440"/>
              <a:ext cx="3924000" cy="33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edit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. Click to edit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5400000">
            <a:off x="4410000" y="328932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6920" y="1305000"/>
            <a:ext cx="7489800" cy="4854240"/>
            <a:chOff x="826920" y="1305000"/>
            <a:chExt cx="7489800" cy="4854240"/>
          </a:xfrm>
        </p:grpSpPr>
        <p:sp>
          <p:nvSpPr>
            <p:cNvPr id="152" name=""/>
            <p:cNvSpPr/>
            <p:nvPr/>
          </p:nvSpPr>
          <p:spPr>
            <a:xfrm>
              <a:off x="2149200" y="2320200"/>
              <a:ext cx="4802760" cy="3617640"/>
            </a:xfrm>
            <a:prstGeom prst="ellipse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119640" y="3965760"/>
              <a:ext cx="2197080" cy="2193480"/>
              <a:chOff x="6119640" y="3965760"/>
              <a:chExt cx="2197080" cy="21934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9640" y="3965760"/>
                <a:ext cx="2197080" cy="219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214680" y="4060800"/>
                <a:ext cx="2006640" cy="20034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text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26920" y="3965760"/>
              <a:ext cx="2197080" cy="2193480"/>
              <a:chOff x="826920" y="3965760"/>
              <a:chExt cx="2197080" cy="2193480"/>
            </a:xfrm>
          </p:grpSpPr>
          <p:pic>
            <p:nvPicPr>
              <p:cNvPr id="1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965760"/>
                <a:ext cx="2197080" cy="219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921960" y="4060800"/>
                <a:ext cx="2006640" cy="20034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text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474720" y="1305000"/>
              <a:ext cx="2194560" cy="2193480"/>
              <a:chOff x="3474720" y="1305000"/>
              <a:chExt cx="2194560" cy="219348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74720" y="1305000"/>
                <a:ext cx="2194560" cy="219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3569760" y="1400040"/>
                <a:ext cx="2004120" cy="20034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text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3" name=""/>
          <p:cNvCxnSpPr>
            <a:stCxn id="164" idx="5"/>
          </p:cNvCxnSpPr>
          <p:nvPr/>
        </p:nvCxnSpPr>
        <p:spPr>
          <a:xfrm>
            <a:off x="4929120" y="4222800"/>
            <a:ext cx="1083240" cy="10101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165" name=""/>
          <p:cNvCxnSpPr>
            <a:endCxn id="164" idx="7"/>
          </p:cNvCxnSpPr>
          <p:nvPr/>
        </p:nvCxnSpPr>
        <p:spPr>
          <a:xfrm flipH="1">
            <a:off x="4929120" y="2531880"/>
            <a:ext cx="1083240" cy="97668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166" name=""/>
          <p:cNvCxnSpPr>
            <a:endCxn id="164" idx="1"/>
          </p:cNvCxnSpPr>
          <p:nvPr/>
        </p:nvCxnSpPr>
        <p:spPr>
          <a:xfrm>
            <a:off x="3132000" y="2531880"/>
            <a:ext cx="1083240" cy="97668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167" name=""/>
          <p:cNvCxnSpPr>
            <a:stCxn id="164" idx="3"/>
          </p:cNvCxnSpPr>
          <p:nvPr/>
        </p:nvCxnSpPr>
        <p:spPr>
          <a:xfrm flipH="1">
            <a:off x="3132000" y="4222800"/>
            <a:ext cx="1083240" cy="10101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grpSp>
        <p:nvGrpSpPr>
          <p:cNvPr id="168" name=""/>
          <p:cNvGrpSpPr/>
          <p:nvPr/>
        </p:nvGrpSpPr>
        <p:grpSpPr>
          <a:xfrm>
            <a:off x="3564000" y="2859120"/>
            <a:ext cx="2016000" cy="2012760"/>
            <a:chOff x="3564000" y="2859120"/>
            <a:chExt cx="2016000" cy="2012760"/>
          </a:xfrm>
        </p:grpSpPr>
        <p:sp>
          <p:nvSpPr>
            <p:cNvPr id="164" name=""/>
            <p:cNvSpPr/>
            <p:nvPr/>
          </p:nvSpPr>
          <p:spPr>
            <a:xfrm>
              <a:off x="4067280" y="3360240"/>
              <a:ext cx="1009440" cy="1009440"/>
            </a:xfrm>
            <a:prstGeom prst="ellipse">
              <a:avLst/>
            </a:prstGeom>
            <a:solidFill>
              <a:srgbClr val="608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564000" y="2859120"/>
              <a:ext cx="2016000" cy="2012760"/>
              <a:chOff x="3564000" y="2859120"/>
              <a:chExt cx="2016000" cy="201276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2859120"/>
                <a:ext cx="2016000" cy="201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2360" y="3325320"/>
                <a:ext cx="1079280" cy="107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2" name=""/>
          <p:cNvGrpSpPr/>
          <p:nvPr/>
        </p:nvGrpSpPr>
        <p:grpSpPr>
          <a:xfrm>
            <a:off x="574560" y="1274760"/>
            <a:ext cx="2232000" cy="2225520"/>
            <a:chOff x="574560" y="1274760"/>
            <a:chExt cx="2232000" cy="222552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4560" y="1274760"/>
              <a:ext cx="22320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74560" y="1274760"/>
              <a:ext cx="2203560" cy="2202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35640" y="1274760"/>
            <a:ext cx="2232000" cy="2225520"/>
            <a:chOff x="6335640" y="1274760"/>
            <a:chExt cx="2232000" cy="222552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335640" y="1274760"/>
              <a:ext cx="22320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335640" y="1274760"/>
              <a:ext cx="2203560" cy="2202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4560" y="4191120"/>
            <a:ext cx="2232000" cy="2225520"/>
            <a:chOff x="574560" y="4191120"/>
            <a:chExt cx="2232000" cy="222552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574560" y="4191120"/>
              <a:ext cx="22320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74560" y="4191120"/>
              <a:ext cx="2203560" cy="2202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335640" y="4191120"/>
            <a:ext cx="2232000" cy="2225520"/>
            <a:chOff x="6335640" y="4191120"/>
            <a:chExt cx="2232000" cy="222552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6335640" y="4191120"/>
              <a:ext cx="223200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335640" y="4191120"/>
              <a:ext cx="2203560" cy="2202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55640" y="357336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ad8dc"/>
                </a:solidFill>
                <a:uFillTx/>
                <a:latin typeface="Arial"/>
                <a:hlinkClick r:id="rId7"/>
              </a:rPr>
              <a:t>商务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1305000"/>
            <a:ext cx="7488000" cy="5363640"/>
            <a:chOff x="0" y="1305000"/>
            <a:chExt cx="7488000" cy="53636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0" y="1305000"/>
              <a:ext cx="7488000" cy="53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未知"/>
            <p:cNvSpPr/>
            <p:nvPr/>
          </p:nvSpPr>
          <p:spPr>
            <a:xfrm>
              <a:off x="2635560" y="2617920"/>
              <a:ext cx="3839760" cy="1061640"/>
            </a:xfrm>
            <a:custGeom>
              <a:avLst/>
              <a:gdLst/>
              <a:ahLst/>
              <a:rect l="l" t="t" r="r" b="b"/>
              <a:pathLst>
                <a:path w="2280" h="588">
                  <a:moveTo>
                    <a:pt x="0" y="588"/>
                  </a:moveTo>
                  <a:lnTo>
                    <a:pt x="594" y="474"/>
                  </a:lnTo>
                  <a:lnTo>
                    <a:pt x="1182" y="102"/>
                  </a:lnTo>
                  <a:lnTo>
                    <a:pt x="1752" y="528"/>
                  </a:lnTo>
                  <a:lnTo>
                    <a:pt x="228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5840" y="287280"/>
            <a:ext cx="7634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1295280"/>
            <a:ext cx="7632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6:13:30Z</dcterms:created>
  <dc:creator>http://www.eeppt.com</dc:creator>
  <dc:description>ppt模板下载网站 http://www.eeppt.com</dc:description>
  <dc:language>en-US</dc:language>
  <cp:lastModifiedBy/>
  <dcterms:modified xsi:type="dcterms:W3CDTF">2015-06-14T09:49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