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B34-9B7C-4DD5-A73D-EA10A080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B9E-5680-4D22-A202-F980DE51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F01-9B3B-470E-92AC-4AA0A529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016-A3D8-41EC-B7A4-59A9939D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3F27-A44A-4BEC-8671-A1B6E760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6B19-7ECF-4894-A5E5-6F13702D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A08A-3CE7-436B-A668-1A7A6F61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B1D1-2017-41EF-8C5C-963EE1FD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9593-AE68-4C9D-94E6-F5ABFFCD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0F7E-A153-4927-87A9-2CB9C95E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D684-B615-4299-8F63-1E32552B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92F-CF8A-425A-BED7-061B60CE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8011-B2DB-40C1-99EF-17D17E46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F93E-5471-4B0F-873B-40D10E22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3317-858E-4B34-9910-C4994ADD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C6C3-99A2-4509-A7D0-3E431505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DE64-8872-4287-AE40-D3224E14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480-7F8A-4F71-BAFC-498992D1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79A-D744-492F-823D-45803754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C6B-3024-465F-8214-40B0AD39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290-CBBE-4EEE-AE11-270244E1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05A-0C04-4B0E-9AAB-1D413499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C2E-B1D1-4E23-9405-F06438E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2C8-E708-4F38-9BA2-23D89BA6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5c6c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6a3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838C-F10A-4D76-B118-0D5CFEE910CA}" type="slidenum">
              <a:rPr b="0" lang="en-US" sz="1200" spc="-1" strike="noStrike">
                <a:solidFill>
                  <a:srgbClr val="0076a3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5c6c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6a3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2C73-1BF3-4692-9E67-AE8CF7314404}" type="slidenum">
              <a:rPr b="0" lang="en-US" sz="1200" spc="-1" strike="noStrike">
                <a:solidFill>
                  <a:srgbClr val="0076a3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ff"/>
                </a:solidFill>
                <a:latin typeface="微软雅黑"/>
              </a:rPr>
              <a:t>炫彩淡雅花朵</a:t>
            </a:r>
            <a:r>
              <a:rPr b="1" lang="zh-CN" sz="4400" spc="-1" strike="noStrike">
                <a:solidFill>
                  <a:srgbClr val="33ccff"/>
                </a:solidFill>
                <a:latin typeface="微软雅黑"/>
              </a:rPr>
              <a:t>PPT</a:t>
            </a:r>
            <a:r>
              <a:rPr b="1" lang="zh-CN" sz="4400" spc="-1" strike="noStrike">
                <a:solidFill>
                  <a:srgbClr val="33ccff"/>
                </a:solidFill>
                <a:latin typeface="微软雅黑"/>
              </a:rPr>
              <a:t>模板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ff"/>
              </a:solidFill>
              <a:latin typeface="微软雅黑"/>
            </a:endParaRPr>
          </a:p>
        </p:txBody>
      </p:sp>
      <p:sp>
        <p:nvSpPr>
          <p:cNvPr id="84" name=""/>
          <p:cNvSpPr/>
          <p:nvPr/>
        </p:nvSpPr>
        <p:spPr>
          <a:xfrm>
            <a:off x="6612840" y="62373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ccff"/>
              </a:solidFill>
              <a:latin typeface="微软雅黑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a5c6c"/>
                </a:solidFill>
                <a:latin typeface="Century Gothic"/>
              </a:rPr>
              <a:t>使用规范说明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Century Gothic"/>
              </a:rPr>
              <a:t>：</a:t>
            </a:r>
            <a:endParaRPr b="0" lang="en-US" sz="18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entury Gothic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Century Gothic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8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Century Gothic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Century Gothic"/>
              </a:rPr>
              <a:t>：</a:t>
            </a:r>
            <a:endParaRPr b="0" lang="en-US" sz="18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8684e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A4A-41E1-41CF-9EEE-4CF6653CE9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41:57Z</dcterms:created>
  <dc:creator>http://www.eeppt.com</dc:creator>
  <dc:description>ppt模板下载网站 http://www.eeppt.com</dc:description>
  <dc:language>en-US</dc:language>
  <cp:lastModifiedBy/>
  <dcterms:modified xsi:type="dcterms:W3CDTF">2015-06-14T08:47:0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_TemplateID">
    <vt:lpwstr>TC103626522052</vt:lpwstr>
  </property>
</Properties>
</file>