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1FD-F5E4-4DA1-9A7E-39E60020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745-BEF7-4D98-BF59-B9E84F3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258-75F7-4D28-92FF-98D673E9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E7A-33B6-439E-BCAD-7EE9446A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A5C-B496-47CA-BB71-8D0F637D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CDA-BFDA-4D74-882F-700EE707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C77-0A7A-4E69-9DBC-5752409C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593-052D-4A66-BA1A-4ECFA67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A13-AE06-4089-8E4F-146D01A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11F-DF8A-4073-AF45-869F319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EEB-9AE0-42C4-85F2-3DBF7F3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7B0-3026-405B-812E-D5C3FAA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8B39-927F-409C-91EC-7EEAE5E8FC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2A3-2C2C-44D4-AC68-1114E5937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中国地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844640"/>
            <a:ext cx="5008680" cy="4281480"/>
            <a:chOff x="468360" y="1844640"/>
            <a:chExt cx="5008680" cy="4281480"/>
          </a:xfrm>
        </p:grpSpPr>
        <p:sp>
          <p:nvSpPr>
            <p:cNvPr id="43" name="Freeform 6"/>
            <p:cNvSpPr/>
            <p:nvPr/>
          </p:nvSpPr>
          <p:spPr>
            <a:xfrm>
              <a:off x="4368960" y="4842000"/>
              <a:ext cx="431640" cy="55188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4198680" y="5562000"/>
              <a:ext cx="83160" cy="579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843080" y="5123520"/>
              <a:ext cx="150480" cy="401400"/>
            </a:xfrm>
            <a:prstGeom prst="pie">
              <a:avLst/>
            </a:prstGeom>
            <a:solidFill>
              <a:srgbClr val="00b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765240" y="5226480"/>
              <a:ext cx="759240" cy="64836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193200" y="5162040"/>
              <a:ext cx="789840" cy="5810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667680" y="5889960"/>
              <a:ext cx="250920" cy="236160"/>
            </a:xfrm>
            <a:prstGeom prst="pie">
              <a:avLst/>
            </a:prstGeom>
            <a:solidFill>
              <a:srgbClr val="00b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469240" y="4855320"/>
              <a:ext cx="906120" cy="95616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4107240" y="4665240"/>
              <a:ext cx="474120" cy="6710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629160" y="4729680"/>
              <a:ext cx="543960" cy="6220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099600" y="4849920"/>
              <a:ext cx="608760" cy="54396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522320" y="4480200"/>
              <a:ext cx="383040" cy="45288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4163040" y="4145760"/>
              <a:ext cx="475200" cy="5785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770360" y="4420800"/>
              <a:ext cx="84240" cy="89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275000" y="4060080"/>
              <a:ext cx="561240" cy="45576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564360" y="4361400"/>
              <a:ext cx="767160" cy="4874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2495880" y="4288680"/>
              <a:ext cx="1230840" cy="94716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704520" y="3929400"/>
              <a:ext cx="1936440" cy="1069920"/>
            </a:xfrm>
            <a:prstGeom prst="pie">
              <a:avLst/>
            </a:prstGeom>
            <a:solidFill>
              <a:srgbClr val="00b0f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771920" y="3659760"/>
              <a:ext cx="1250640" cy="912600"/>
            </a:xfrm>
            <a:prstGeom prst="pie">
              <a:avLst/>
            </a:prstGeom>
            <a:solidFill>
              <a:srgbClr val="24406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2203920" y="3292560"/>
              <a:ext cx="1353960" cy="1179720"/>
            </a:xfrm>
            <a:prstGeom prst="pie">
              <a:avLst/>
            </a:prstGeom>
            <a:solidFill>
              <a:srgbClr val="00b0f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68360" y="2454840"/>
              <a:ext cx="1999800" cy="1548360"/>
            </a:xfrm>
            <a:prstGeom prst="pie">
              <a:avLst/>
            </a:prstGeom>
            <a:solidFill>
              <a:srgbClr val="24406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293640" y="3639960"/>
              <a:ext cx="492480" cy="90216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3715200" y="3980880"/>
              <a:ext cx="594360" cy="54540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692520" y="3490560"/>
              <a:ext cx="343440" cy="72000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4133880" y="3712680"/>
              <a:ext cx="644400" cy="4478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954240" y="3216960"/>
              <a:ext cx="532080" cy="78048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4234320" y="3490560"/>
              <a:ext cx="105480" cy="19008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107240" y="3416760"/>
              <a:ext cx="166320" cy="18072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3162960" y="3675600"/>
              <a:ext cx="270720" cy="474120"/>
            </a:xfrm>
            <a:prstGeom prst="pie">
              <a:avLst/>
            </a:prstGeom>
            <a:solidFill>
              <a:srgbClr val="24406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2544840" y="1897200"/>
              <a:ext cx="2197800" cy="2017080"/>
            </a:xfrm>
            <a:prstGeom prst="pie">
              <a:avLst/>
            </a:prstGeom>
            <a:solidFill>
              <a:srgbClr val="00b0f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4388760" y="3025440"/>
              <a:ext cx="574560" cy="5666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4524840" y="2704680"/>
              <a:ext cx="830520" cy="5785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4341240" y="1844640"/>
              <a:ext cx="1135800" cy="105264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4222440" y="3507840"/>
              <a:ext cx="48600" cy="64440"/>
            </a:xfrm>
            <a:prstGeom prst="pie">
              <a:avLst/>
            </a:prstGeom>
            <a:solidFill>
              <a:srgbClr val="a7c6e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468360" y="1844640"/>
              <a:ext cx="5008680" cy="403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同侧圆角矩形 39"/>
          <p:cNvSpPr/>
          <p:nvPr/>
        </p:nvSpPr>
        <p:spPr>
          <a:xfrm>
            <a:off x="5715000" y="2071800"/>
            <a:ext cx="314316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地图为每个省市地图组合而成，可右键拆解组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侧圆角矩形 40"/>
          <p:cNvSpPr/>
          <p:nvPr/>
        </p:nvSpPr>
        <p:spPr>
          <a:xfrm>
            <a:off x="5715000" y="3357720"/>
            <a:ext cx="314316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侧圆角矩形 41"/>
          <p:cNvSpPr/>
          <p:nvPr/>
        </p:nvSpPr>
        <p:spPr>
          <a:xfrm>
            <a:off x="5715000" y="4572000"/>
            <a:ext cx="314316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肘形连接符 58"/>
          <p:cNvCxnSpPr/>
          <p:nvPr/>
        </p:nvCxnSpPr>
        <p:spPr>
          <a:xfrm flipV="1" rot="10800000">
            <a:off x="4142520" y="2571480"/>
            <a:ext cx="1572480" cy="164376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1" name="肘形连接符 58"/>
          <p:cNvCxnSpPr/>
          <p:nvPr/>
        </p:nvCxnSpPr>
        <p:spPr>
          <a:xfrm rot="10800000">
            <a:off x="1642320" y="3571200"/>
            <a:ext cx="4072680" cy="28656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2" name="肘形连接符 58"/>
          <p:cNvCxnSpPr/>
          <p:nvPr/>
        </p:nvCxnSpPr>
        <p:spPr>
          <a:xfrm rot="10800000">
            <a:off x="1999440" y="4642560"/>
            <a:ext cx="3715560" cy="4294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DE5-9E34-4001-9687-1EB1679D8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6:02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