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647-6900-4E00-8E30-089F788D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7D08-A038-43C2-AA33-87E6EEDA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CE5-C9F6-475F-AC79-7E5125ED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289-4692-447E-99FB-84812550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C0A-60D5-4986-867F-0FACF992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1123-7B10-47A8-817D-FCCE01C1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FA9-717A-4DE4-9952-5011A3B6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564-EF31-4977-984B-C0D93B2F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3C9-5DEA-462A-ABF0-54F4057D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99B-A0D7-49DE-85B3-29B0EC27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2D6-9F5D-433E-9BB5-F7C6E9A2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C02-BA96-4839-9C40-F4544D40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8289-A488-45B6-B596-63C3ED4ED9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6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83808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中国风韵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16328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98B-BE66-4082-BDAA-915424DBEB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>http://www.eeppt.com</dc:creator>
  <dc:description>ppt模板下载网站 http://www.eeppt.com</dc:description>
  <dc:language>en-US</dc:language>
  <cp:lastModifiedBy/>
  <dcterms:modified xsi:type="dcterms:W3CDTF">2015-06-14T08:55:41Z</dcterms:modified>
  <cp:revision>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