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7EF-3593-455B-81B0-8ABD32D8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25D-275F-4F68-B986-7DE4DA53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7D9-F196-4304-86C6-8A9832F5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F94-1F93-438E-8415-25D56147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F18D-18DB-484B-96FF-79614CF6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59BB-3070-428F-BAAC-D8BEBD27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6CFF-B64A-4C08-B72A-2CE28A1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0660-E687-4B9C-8B02-77096063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B49B-BB8E-4833-9215-BB80743E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9EAE-171F-4087-9BDC-0B55E881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CE6B-DFB7-4F8F-A521-E33A29F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D67-5940-45CD-9D07-D1CB6819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DBFB-0F8E-4AD5-BC9D-29265E85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BB44-A576-4F26-AED5-B988CC83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04FE-C925-4372-AC3A-F2037F35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B793-42A3-4247-9B95-C5FC6DB4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4AD7-3A21-467B-B0FA-EC37F8D1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99F-1DB0-47BC-93DC-F04FC00F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F45-F876-4927-9793-7A1C2B06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5D3-FA84-498C-BE38-9D55D257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FF1-E9F7-4675-AE41-1FB85514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21F-646A-46B8-9A74-138C1188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76F-05B4-42B1-8C7A-8F775B3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2D8-3A7A-42FE-82FC-652F5C3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796A-7F97-449C-B4A0-619606546BB6}" type="slidenum"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5534-E4B5-48E3-A3FE-9FCA1B709057}" type="slidenum"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686880"/>
            <a:ext cx="650052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湛蓝情深商务</a:t>
            </a:r>
            <a:r>
              <a:rPr b="0" lang="zh-CN" sz="36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PPT</a:t>
            </a:r>
            <a:r>
              <a:rPr b="0" lang="zh-CN" sz="36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模板免费下载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230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圆角矩形 4"/>
          <p:cNvSpPr/>
          <p:nvPr/>
        </p:nvSpPr>
        <p:spPr>
          <a:xfrm>
            <a:off x="1643040" y="2292480"/>
            <a:ext cx="49291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鱼不愚\桌面\3dicon1_zcool.com.cn [转换].png"/>
          <p:cNvPicPr/>
          <p:nvPr/>
        </p:nvPicPr>
        <p:blipFill>
          <a:blip r:embed="rId1"/>
          <a:srcRect l="38759" t="0" r="35730" b="62560"/>
          <a:stretch/>
        </p:blipFill>
        <p:spPr>
          <a:xfrm>
            <a:off x="1071720" y="185724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292400" y="24084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8"/>
          <p:cNvSpPr/>
          <p:nvPr/>
        </p:nvSpPr>
        <p:spPr>
          <a:xfrm>
            <a:off x="2357280" y="352116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鱼不愚\桌面\3dicon1_zcool.com.cn [转换].png"/>
          <p:cNvPicPr/>
          <p:nvPr/>
        </p:nvPicPr>
        <p:blipFill>
          <a:blip r:embed="rId2"/>
          <a:srcRect l="38759" t="0" r="35730" b="62560"/>
          <a:stretch/>
        </p:blipFill>
        <p:spPr>
          <a:xfrm>
            <a:off x="1785960" y="307188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2006640" y="363708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2"/>
          <p:cNvSpPr/>
          <p:nvPr/>
        </p:nvSpPr>
        <p:spPr>
          <a:xfrm>
            <a:off x="3051000" y="479268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鱼不愚\桌面\3dicon1_zcool.com.cn [转换].png"/>
          <p:cNvPicPr/>
          <p:nvPr/>
        </p:nvPicPr>
        <p:blipFill>
          <a:blip r:embed="rId3"/>
          <a:srcRect l="38759" t="0" r="35730" b="62560"/>
          <a:stretch/>
        </p:blipFill>
        <p:spPr>
          <a:xfrm>
            <a:off x="2479680" y="435780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2700360" y="49086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8840" y="2301840"/>
            <a:ext cx="4329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8" name="内容占位符 2"/>
          <p:cNvSpPr/>
          <p:nvPr/>
        </p:nvSpPr>
        <p:spPr>
          <a:xfrm>
            <a:off x="2857680" y="351648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内容占位符 2"/>
          <p:cNvSpPr/>
          <p:nvPr/>
        </p:nvSpPr>
        <p:spPr>
          <a:xfrm>
            <a:off x="3529080" y="481176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对角圆角矩形 5"/>
          <p:cNvSpPr/>
          <p:nvPr/>
        </p:nvSpPr>
        <p:spPr>
          <a:xfrm rot="21346800">
            <a:off x="1133640" y="1809360"/>
            <a:ext cx="6954840" cy="3879720"/>
          </a:xfrm>
          <a:custGeom>
            <a:avLst/>
            <a:gdLst>
              <a:gd name="textAreaLeft" fmla="*/ 144000 w 6954840"/>
              <a:gd name="textAreaRight" fmla="*/ 6810840 w 6954840"/>
              <a:gd name="textAreaTop" fmla="*/ 144000 h 3879720"/>
              <a:gd name="textAreaBottom" fmla="*/ 3735720 h 3879720"/>
            </a:gdLst>
            <a:ahLst/>
            <a:rect l="textAreaLeft" t="textAreaTop" r="textAreaRight" b="textAreaBottom"/>
            <a:pathLst>
              <a:path w="6954838" h="3879850">
                <a:moveTo>
                  <a:pt x="492043" y="0"/>
                </a:moveTo>
                <a:lnTo>
                  <a:pt x="6954838" y="0"/>
                </a:lnTo>
                <a:lnTo>
                  <a:pt x="6954838" y="3387807"/>
                </a:lnTo>
                <a:cubicBezTo>
                  <a:pt x="6954838" y="3659554"/>
                  <a:pt x="6734542" y="3879849"/>
                  <a:pt x="6462795" y="3879850"/>
                </a:cubicBezTo>
                <a:lnTo>
                  <a:pt x="0" y="3879850"/>
                </a:lnTo>
                <a:lnTo>
                  <a:pt x="0" y="492043"/>
                </a:lnTo>
                <a:cubicBezTo>
                  <a:pt x="0" y="220295"/>
                  <a:pt x="220295" y="0"/>
                  <a:pt x="492043" y="1"/>
                </a:cubicBezTo>
                <a:cubicBezTo>
                  <a:pt x="492043" y="1"/>
                  <a:pt x="492043" y="1"/>
                  <a:pt x="492043" y="1"/>
                </a:cubicBezTo>
                <a:lnTo>
                  <a:pt x="492043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13752000"/>
          </a:gradFill>
          <a:ln w="0">
            <a:noFill/>
          </a:ln>
          <a:effectLst>
            <a:outerShdw dist="23040" dir="5400000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强调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1361200">
            <a:off x="1348920" y="2091960"/>
            <a:ext cx="64548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分析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94400" y="2567160"/>
            <a:ext cx="3747960" cy="3528720"/>
            <a:chOff x="4694400" y="2567160"/>
            <a:chExt cx="3747960" cy="3528720"/>
          </a:xfrm>
        </p:grpSpPr>
        <p:pic>
          <p:nvPicPr>
            <p:cNvPr id="106" name="剪去同侧角的矩形 6" descr=""/>
            <p:cNvPicPr/>
            <p:nvPr/>
          </p:nvPicPr>
          <p:blipFill>
            <a:blip r:embed="rId1"/>
            <a:stretch/>
          </p:blipFill>
          <p:spPr>
            <a:xfrm>
              <a:off x="469440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"/>
            <p:cNvSpPr/>
            <p:nvPr/>
          </p:nvSpPr>
          <p:spPr>
            <a:xfrm>
              <a:off x="492768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01640" y="2567160"/>
            <a:ext cx="3747960" cy="3528720"/>
            <a:chOff x="701640" y="2567160"/>
            <a:chExt cx="3747960" cy="3528720"/>
          </a:xfrm>
        </p:grpSpPr>
        <p:pic>
          <p:nvPicPr>
            <p:cNvPr id="109" name="剪去同侧角的矩形 5" descr=""/>
            <p:cNvPicPr/>
            <p:nvPr/>
          </p:nvPicPr>
          <p:blipFill>
            <a:blip r:embed="rId2"/>
            <a:stretch/>
          </p:blipFill>
          <p:spPr>
            <a:xfrm>
              <a:off x="70164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8"/>
            <p:cNvSpPr/>
            <p:nvPr/>
          </p:nvSpPr>
          <p:spPr>
            <a:xfrm>
              <a:off x="93492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TDDOWNLOAD\user_female.png"/>
          <p:cNvPicPr/>
          <p:nvPr/>
        </p:nvPicPr>
        <p:blipFill>
          <a:blip r:embed="rId3"/>
          <a:stretch/>
        </p:blipFill>
        <p:spPr>
          <a:xfrm>
            <a:off x="1944720" y="1566720"/>
            <a:ext cx="1262160" cy="247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TDDOWNLOAD\user_male.png"/>
          <p:cNvPicPr/>
          <p:nvPr/>
        </p:nvPicPr>
        <p:blipFill>
          <a:blip r:embed="rId4"/>
          <a:stretch/>
        </p:blipFill>
        <p:spPr>
          <a:xfrm>
            <a:off x="5937120" y="1554120"/>
            <a:ext cx="1262160" cy="2475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719280" y="2567160"/>
            <a:ext cx="3730320" cy="3509640"/>
            <a:chOff x="719280" y="2567160"/>
            <a:chExt cx="3730320" cy="3509640"/>
          </a:xfrm>
        </p:grpSpPr>
        <p:pic>
          <p:nvPicPr>
            <p:cNvPr id="114" name="内容占位符 2" descr=""/>
            <p:cNvPicPr/>
            <p:nvPr/>
          </p:nvPicPr>
          <p:blipFill>
            <a:blip r:embed="rId5"/>
            <a:stretch/>
          </p:blipFill>
          <p:spPr>
            <a:xfrm>
              <a:off x="719280" y="2567160"/>
              <a:ext cx="373032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01360" y="2643120"/>
              <a:ext cx="357156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经典特宋简"/>
                  <a:ea typeface="经典特宋简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681440" y="2567160"/>
            <a:ext cx="3730680" cy="3509640"/>
            <a:chOff x="4681440" y="2567160"/>
            <a:chExt cx="3730680" cy="3509640"/>
          </a:xfrm>
        </p:grpSpPr>
        <p:pic>
          <p:nvPicPr>
            <p:cNvPr id="117" name="内容占位符 2" descr=""/>
            <p:cNvPicPr/>
            <p:nvPr/>
          </p:nvPicPr>
          <p:blipFill>
            <a:blip r:embed="rId6"/>
            <a:stretch/>
          </p:blipFill>
          <p:spPr>
            <a:xfrm>
              <a:off x="4681440" y="2567160"/>
              <a:ext cx="373068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4763880" y="2643120"/>
              <a:ext cx="357192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经典特宋简"/>
                  <a:ea typeface="经典特宋简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304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数据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1" name="内容占位符 3" descr=""/>
          <p:cNvPicPr/>
          <p:nvPr/>
        </p:nvPicPr>
        <p:blipFill>
          <a:blip r:embed="rId1"/>
          <a:stretch/>
        </p:blipFill>
        <p:spPr>
          <a:xfrm>
            <a:off x="1120680" y="1714680"/>
            <a:ext cx="6902640" cy="39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说明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3" name="Picture 5" descr="C:\Documents and Settings\鱼不愚\桌面\biz_icon_01.png"/>
          <p:cNvPicPr/>
          <p:nvPr/>
        </p:nvPicPr>
        <p:blipFill>
          <a:blip r:embed="rId1"/>
          <a:stretch/>
        </p:blipFill>
        <p:spPr>
          <a:xfrm>
            <a:off x="1112760" y="1825560"/>
            <a:ext cx="6918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994040" y="2073240"/>
            <a:ext cx="5155920" cy="3016080"/>
            <a:chOff x="1994040" y="2073240"/>
            <a:chExt cx="5155920" cy="3016080"/>
          </a:xfrm>
        </p:grpSpPr>
        <p:pic>
          <p:nvPicPr>
            <p:cNvPr id="125" name="内容占位符 2" descr=""/>
            <p:cNvPicPr/>
            <p:nvPr/>
          </p:nvPicPr>
          <p:blipFill>
            <a:blip r:embed="rId2"/>
            <a:stretch/>
          </p:blipFill>
          <p:spPr>
            <a:xfrm>
              <a:off x="1994040" y="2073240"/>
              <a:ext cx="515592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6"/>
            <p:cNvSpPr/>
            <p:nvPr/>
          </p:nvSpPr>
          <p:spPr>
            <a:xfrm>
              <a:off x="2071440" y="2152440"/>
              <a:ext cx="500040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经典特宋简"/>
                  <a:ea typeface="经典特宋简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493560" y="847800"/>
            <a:ext cx="6516720" cy="1230120"/>
            <a:chOff x="493560" y="847800"/>
            <a:chExt cx="6516720" cy="1230120"/>
          </a:xfrm>
        </p:grpSpPr>
        <p:pic>
          <p:nvPicPr>
            <p:cNvPr id="128" name="副标题 2" descr=""/>
            <p:cNvPicPr/>
            <p:nvPr/>
          </p:nvPicPr>
          <p:blipFill>
            <a:blip r:embed="rId1"/>
            <a:stretch/>
          </p:blipFill>
          <p:spPr>
            <a:xfrm>
              <a:off x="493560" y="847800"/>
              <a:ext cx="651672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4"/>
            <p:cNvSpPr/>
            <p:nvPr/>
          </p:nvSpPr>
          <p:spPr>
            <a:xfrm>
              <a:off x="571320" y="928440"/>
              <a:ext cx="6357960" cy="10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70c0"/>
                  </a:solidFill>
                  <a:latin typeface="汉仪粗宋简"/>
                  <a:ea typeface="汉仪粗宋简"/>
                </a:rPr>
                <a:t>THANK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经典特宋简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经典特宋简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经典特宋简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FE0F-43FD-41C2-8EF2-8EF545471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8:47:29Z</dcterms:created>
  <dc:creator>http://www.eeppt.com</dc:creator>
  <dc:description>ppt模板下载网站 http://www.eeppt.com</dc:description>
  <dc:language>en-US</dc:language>
  <cp:lastModifiedBy/>
  <dcterms:modified xsi:type="dcterms:W3CDTF">2015-06-14T08:50:28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