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74F5-2809-4E2C-822D-A2D25778B2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7F85-0091-43A5-BA24-A5B1C6DFAB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6EDB-AB26-42BE-B2EC-E59BA2E9F1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7DB5-88A0-45A1-B78F-FEC50570C6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B536-57BE-437E-9452-BD19A9D57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888E-38E6-49A8-81A6-515ED6677E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6D2E-89E4-4C47-8D87-2A9A037ACB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F2C7-CF5A-4A84-B52F-6FEA3F0735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8032-FBAB-4803-8C1E-53695291AA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8C79-6292-4044-8B03-4C450A72BE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A966-73A2-4D29-BAB5-A6761D7088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EA0F-F1F2-45DE-A77E-A2AF320F6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E242A88-07D8-4949-B876-4F487C58045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2013120"/>
            <a:ext cx="9180360" cy="29383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25772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2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13120"/>
            <a:ext cx="9180360" cy="29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953400" y="2852640"/>
            <a:ext cx="219060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D0AB-4493-41E2-B903-D0B30070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41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32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308720" y="404640"/>
            <a:ext cx="1389240" cy="349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468360" y="278136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31D1-809C-4149-8CAB-F82719CFC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1568-7D04-43B4-825E-CD2DE0B94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http://www.eeppt.com</dc:creator>
  <dc:description>ppt模板下载网站 http://www.eeppt.com</dc:description>
  <dc:language>en-US</dc:language>
  <cp:lastModifiedBy/>
  <dcterms:modified xsi:type="dcterms:W3CDTF">2015-06-14T08:59:10Z</dcterms:modified>
  <cp:revision>3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