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8.jpeg" ContentType="image/jpeg"/>
  <Override PartName="/ppt/media/image34.png" ContentType="image/png"/>
  <Override PartName="/ppt/media/image27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8.png" ContentType="image/png"/>
  <Override PartName="/ppt/media/image11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25.png" ContentType="image/png"/>
  <Override PartName="/ppt/media/image62.png" ContentType="image/png"/>
  <Override PartName="/ppt/media/image4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42.png" ContentType="image/png"/>
  <Override PartName="/ppt/media/image26.jpeg" ContentType="image/jpeg"/>
  <Override PartName="/ppt/media/image61.png" ContentType="image/png"/>
  <Override PartName="/ppt/media/image24.png" ContentType="image/png"/>
  <Override PartName="/ppt/media/image22.png" ContentType="image/png"/>
  <Override PartName="/ppt/media/image35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17.png" ContentType="image/png"/>
  <Override PartName="/ppt/media/image63.jpeg" ContentType="image/jpeg"/>
  <Override PartName="/ppt/media/image29.png" ContentType="image/png"/>
  <Override PartName="/ppt/media/image9.jpeg" ContentType="image/jpeg"/>
  <Override PartName="/ppt/media/image36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37.jpeg" ContentType="image/jpeg"/>
  <Override PartName="/ppt/media/image20.png" ContentType="image/png"/>
  <Override PartName="/ppt/media/image31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23.png" ContentType="image/png"/>
  <Override PartName="/ppt/media/image5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1CF-D5F8-42FB-8790-5DB95ABA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DD3-8F60-433F-800C-89E808A2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702D-FAB2-4903-BC1F-FA50F5CA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978-D059-4A82-86E1-BC213831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7C9-489D-462B-80C7-4F4376FF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703-9901-4C83-BA1B-2C9FBFB9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1E27-53CB-4BBC-86B9-9A31242A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3A5E-306C-4DBE-BAE5-CB0EE074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D71-F7A6-403F-BED2-5CEEE607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D81-4D81-4ACE-9FF3-1FAEA35A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369-6B4B-47F2-80BF-0CB6996D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CD4-ABC0-4923-A98C-C81A5AEB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892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887E-548E-443A-B6BE-AE5312B712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7.jpeg"/><Relationship Id="rId6" Type="http://schemas.openxmlformats.org/officeDocument/2006/relationships/image" Target="../media/image37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image" Target="../media/image56.jpeg"/><Relationship Id="rId11" Type="http://schemas.openxmlformats.org/officeDocument/2006/relationships/image" Target="../media/image57.jpeg"/><Relationship Id="rId12" Type="http://schemas.openxmlformats.org/officeDocument/2006/relationships/image" Target="../media/image58.jpeg"/><Relationship Id="rId13" Type="http://schemas.openxmlformats.org/officeDocument/2006/relationships/image" Target="../media/image59.jpeg"/><Relationship Id="rId14" Type="http://schemas.openxmlformats.org/officeDocument/2006/relationships/image" Target="../media/image60.jpe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f969ecf988092d3a024f56cf.jpg"/>
          <p:cNvPicPr/>
          <p:nvPr/>
        </p:nvPicPr>
        <p:blipFill>
          <a:blip r:embed="rId1"/>
          <a:srcRect l="0" t="14109" r="4798" b="1336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42840" y="139680"/>
            <a:ext cx="1706760" cy="841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22200" y="473400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170820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紫色高贵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演示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9144000" cy="5145120"/>
            <a:chOff x="0" y="0"/>
            <a:chExt cx="9144000" cy="5145120"/>
          </a:xfrm>
        </p:grpSpPr>
        <p:pic>
          <p:nvPicPr>
            <p:cNvPr id="139" name="图片 9" descr="f969ecf988092d3a024f56cf.jpg"/>
            <p:cNvPicPr/>
            <p:nvPr/>
          </p:nvPicPr>
          <p:blipFill>
            <a:blip r:embed="rId1"/>
            <a:srcRect l="0" t="0" r="0" b="26777"/>
            <a:stretch/>
          </p:blipFill>
          <p:spPr>
            <a:xfrm>
              <a:off x="0" y="0"/>
              <a:ext cx="9144000" cy="5145120"/>
            </a:xfrm>
            <a:prstGeom prst="rect">
              <a:avLst/>
            </a:prstGeom>
            <a:ln w="9360">
              <a:solidFill>
                <a:srgbClr val="7030a0"/>
              </a:solidFill>
              <a:miter/>
            </a:ln>
          </p:spPr>
        </p:pic>
        <p:sp>
          <p:nvSpPr>
            <p:cNvPr id="140" name="矩形 3"/>
            <p:cNvSpPr/>
            <p:nvPr/>
          </p:nvSpPr>
          <p:spPr>
            <a:xfrm>
              <a:off x="71280" y="857160"/>
              <a:ext cx="9001440" cy="414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TextBox 4" descr=""/>
          <p:cNvPicPr/>
          <p:nvPr/>
        </p:nvPicPr>
        <p:blipFill>
          <a:blip r:embed="rId2"/>
          <a:stretch/>
        </p:blipFill>
        <p:spPr>
          <a:xfrm>
            <a:off x="133200" y="244440"/>
            <a:ext cx="1079640" cy="5475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603360" y="1428840"/>
            <a:ext cx="1753920" cy="2896920"/>
            <a:chOff x="603360" y="1428840"/>
            <a:chExt cx="1753920" cy="2896920"/>
          </a:xfrm>
        </p:grpSpPr>
        <p:pic>
          <p:nvPicPr>
            <p:cNvPr id="143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03360" y="1797840"/>
              <a:ext cx="1753920" cy="252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组合 51" descr=""/>
            <p:cNvPicPr/>
            <p:nvPr/>
          </p:nvPicPr>
          <p:blipFill>
            <a:blip r:embed="rId4"/>
            <a:stretch/>
          </p:blipFill>
          <p:spPr>
            <a:xfrm>
              <a:off x="655200" y="1428840"/>
              <a:ext cx="1645200" cy="96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椭圆 27"/>
          <p:cNvSpPr/>
          <p:nvPr/>
        </p:nvSpPr>
        <p:spPr>
          <a:xfrm rot="20104200">
            <a:off x="536400" y="1469520"/>
            <a:ext cx="955800" cy="3844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31"/>
          <p:cNvSpPr/>
          <p:nvPr/>
        </p:nvSpPr>
        <p:spPr>
          <a:xfrm rot="20104200">
            <a:off x="3322800" y="1612440"/>
            <a:ext cx="955440" cy="3841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32"/>
          <p:cNvSpPr/>
          <p:nvPr/>
        </p:nvSpPr>
        <p:spPr>
          <a:xfrm rot="20104200">
            <a:off x="6037200" y="1612440"/>
            <a:ext cx="955800" cy="3841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603520" y="1428840"/>
            <a:ext cx="1754280" cy="2896920"/>
            <a:chOff x="2603520" y="1428840"/>
            <a:chExt cx="1754280" cy="2896920"/>
          </a:xfrm>
        </p:grpSpPr>
        <p:pic>
          <p:nvPicPr>
            <p:cNvPr id="149" name="圆角矩形 36" descr=""/>
            <p:cNvPicPr/>
            <p:nvPr/>
          </p:nvPicPr>
          <p:blipFill>
            <a:blip r:embed="rId5"/>
            <a:stretch/>
          </p:blipFill>
          <p:spPr>
            <a:xfrm>
              <a:off x="2603520" y="1797840"/>
              <a:ext cx="1754280" cy="252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组合 51" descr=""/>
            <p:cNvPicPr/>
            <p:nvPr/>
          </p:nvPicPr>
          <p:blipFill>
            <a:blip r:embed="rId6"/>
            <a:stretch/>
          </p:blipFill>
          <p:spPr>
            <a:xfrm>
              <a:off x="2655360" y="1428840"/>
              <a:ext cx="1645560" cy="96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"/>
          <p:cNvGrpSpPr/>
          <p:nvPr/>
        </p:nvGrpSpPr>
        <p:grpSpPr>
          <a:xfrm>
            <a:off x="6603840" y="1428840"/>
            <a:ext cx="1754280" cy="2896920"/>
            <a:chOff x="6603840" y="1428840"/>
            <a:chExt cx="1754280" cy="2896920"/>
          </a:xfrm>
        </p:grpSpPr>
        <p:pic>
          <p:nvPicPr>
            <p:cNvPr id="152" name="圆角矩形 44" descr=""/>
            <p:cNvPicPr/>
            <p:nvPr/>
          </p:nvPicPr>
          <p:blipFill>
            <a:blip r:embed="rId7"/>
            <a:stretch/>
          </p:blipFill>
          <p:spPr>
            <a:xfrm>
              <a:off x="6603840" y="1797840"/>
              <a:ext cx="1754280" cy="252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组合 51" descr=""/>
            <p:cNvPicPr/>
            <p:nvPr/>
          </p:nvPicPr>
          <p:blipFill>
            <a:blip r:embed="rId8"/>
            <a:stretch/>
          </p:blipFill>
          <p:spPr>
            <a:xfrm>
              <a:off x="6660360" y="1428840"/>
              <a:ext cx="1645560" cy="96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4603680" y="1428840"/>
            <a:ext cx="1754280" cy="2896920"/>
            <a:chOff x="4603680" y="1428840"/>
            <a:chExt cx="1754280" cy="2896920"/>
          </a:xfrm>
        </p:grpSpPr>
        <p:pic>
          <p:nvPicPr>
            <p:cNvPr id="155" name="圆角矩形 52" descr=""/>
            <p:cNvPicPr/>
            <p:nvPr/>
          </p:nvPicPr>
          <p:blipFill>
            <a:blip r:embed="rId9"/>
            <a:stretch/>
          </p:blipFill>
          <p:spPr>
            <a:xfrm>
              <a:off x="4603680" y="1797840"/>
              <a:ext cx="1754280" cy="252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组合 51" descr=""/>
            <p:cNvPicPr/>
            <p:nvPr/>
          </p:nvPicPr>
          <p:blipFill>
            <a:blip r:embed="rId10"/>
            <a:stretch/>
          </p:blipFill>
          <p:spPr>
            <a:xfrm>
              <a:off x="4655520" y="1428840"/>
              <a:ext cx="1650240" cy="96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椭圆 59"/>
          <p:cNvSpPr/>
          <p:nvPr/>
        </p:nvSpPr>
        <p:spPr>
          <a:xfrm rot="20104200">
            <a:off x="2536920" y="1469520"/>
            <a:ext cx="955440" cy="3844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60"/>
          <p:cNvSpPr/>
          <p:nvPr/>
        </p:nvSpPr>
        <p:spPr>
          <a:xfrm rot="20104200">
            <a:off x="4537080" y="1469520"/>
            <a:ext cx="955800" cy="3844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61"/>
          <p:cNvSpPr/>
          <p:nvPr/>
        </p:nvSpPr>
        <p:spPr>
          <a:xfrm rot="20104200">
            <a:off x="6465960" y="1504440"/>
            <a:ext cx="955440" cy="3844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4720" y="498492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44000" cy="5145120"/>
            <a:chOff x="0" y="0"/>
            <a:chExt cx="9144000" cy="5145120"/>
          </a:xfrm>
        </p:grpSpPr>
        <p:pic>
          <p:nvPicPr>
            <p:cNvPr id="162" name="图片 9" descr="f969ecf988092d3a024f56cf.jpg"/>
            <p:cNvPicPr/>
            <p:nvPr/>
          </p:nvPicPr>
          <p:blipFill>
            <a:blip r:embed="rId1"/>
            <a:srcRect l="0" t="0" r="0" b="26777"/>
            <a:stretch/>
          </p:blipFill>
          <p:spPr>
            <a:xfrm>
              <a:off x="0" y="0"/>
              <a:ext cx="9144000" cy="5145120"/>
            </a:xfrm>
            <a:prstGeom prst="rect">
              <a:avLst/>
            </a:prstGeom>
            <a:ln w="9360">
              <a:solidFill>
                <a:srgbClr val="7030a0"/>
              </a:solidFill>
              <a:miter/>
            </a:ln>
          </p:spPr>
        </p:pic>
        <p:sp>
          <p:nvSpPr>
            <p:cNvPr id="163" name="矩形 31"/>
            <p:cNvSpPr/>
            <p:nvPr/>
          </p:nvSpPr>
          <p:spPr>
            <a:xfrm>
              <a:off x="71280" y="857160"/>
              <a:ext cx="9001440" cy="414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25"/>
          <p:cNvSpPr/>
          <p:nvPr/>
        </p:nvSpPr>
        <p:spPr>
          <a:xfrm>
            <a:off x="930240" y="1722600"/>
            <a:ext cx="14479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14240" y="1500120"/>
            <a:ext cx="2143440" cy="2836800"/>
            <a:chOff x="714240" y="1500120"/>
            <a:chExt cx="2143440" cy="2836800"/>
          </a:xfrm>
        </p:grpSpPr>
        <p:sp>
          <p:nvSpPr>
            <p:cNvPr id="166" name="AutoShape 77"/>
            <p:cNvSpPr/>
            <p:nvPr/>
          </p:nvSpPr>
          <p:spPr>
            <a:xfrm>
              <a:off x="887040" y="2005560"/>
              <a:ext cx="1970640" cy="2331360"/>
            </a:xfrm>
            <a:custGeom>
              <a:avLst/>
              <a:gdLst>
                <a:gd name="textAreaLeft" fmla="*/ 34920 w 1970640"/>
                <a:gd name="textAreaRight" fmla="*/ 1935720 w 1970640"/>
                <a:gd name="textAreaTop" fmla="*/ 34920 h 2331360"/>
                <a:gd name="textAreaBottom" fmla="*/ 2296440 h 2331360"/>
              </a:gdLst>
              <a:ahLst/>
              <a:rect l="textAreaLeft" t="textAreaTop" r="textAreaRight" b="textAreaBottom"/>
              <a:pathLst>
                <a:path w="21600" h="25553">
                  <a:moveTo>
                    <a:pt x="1310" y="0"/>
                  </a:moveTo>
                  <a:arcTo wR="1310" hR="1310" stAng="16200000" swAng="-5400000"/>
                  <a:lnTo>
                    <a:pt x="0" y="24243"/>
                  </a:lnTo>
                  <a:arcTo wR="1310" hR="1310" stAng="10800000" swAng="-5400000"/>
                  <a:lnTo>
                    <a:pt x="20290" y="25553"/>
                  </a:lnTo>
                  <a:arcTo wR="1310" hR="1310" stAng="5400000" swAng="-5400000"/>
                  <a:lnTo>
                    <a:pt x="21600" y="1310"/>
                  </a:lnTo>
                  <a:arcTo wR="1310" hR="131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圆角矩形 30"/>
            <p:cNvSpPr/>
            <p:nvPr/>
          </p:nvSpPr>
          <p:spPr>
            <a:xfrm>
              <a:off x="1214280" y="1785600"/>
              <a:ext cx="1285920" cy="428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79"/>
            <p:cNvSpPr/>
            <p:nvPr/>
          </p:nvSpPr>
          <p:spPr>
            <a:xfrm>
              <a:off x="714240" y="1500120"/>
              <a:ext cx="771120" cy="7858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Broadway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500280" y="1500120"/>
            <a:ext cx="2143440" cy="2836800"/>
            <a:chOff x="3500280" y="1500120"/>
            <a:chExt cx="2143440" cy="2836800"/>
          </a:xfrm>
        </p:grpSpPr>
        <p:sp>
          <p:nvSpPr>
            <p:cNvPr id="170" name="AutoShape 77"/>
            <p:cNvSpPr/>
            <p:nvPr/>
          </p:nvSpPr>
          <p:spPr>
            <a:xfrm>
              <a:off x="3673080" y="2005560"/>
              <a:ext cx="1970640" cy="2331360"/>
            </a:xfrm>
            <a:custGeom>
              <a:avLst/>
              <a:gdLst>
                <a:gd name="textAreaLeft" fmla="*/ 34920 w 1970640"/>
                <a:gd name="textAreaRight" fmla="*/ 1935720 w 1970640"/>
                <a:gd name="textAreaTop" fmla="*/ 34920 h 2331360"/>
                <a:gd name="textAreaBottom" fmla="*/ 2296440 h 2331360"/>
              </a:gdLst>
              <a:ahLst/>
              <a:rect l="textAreaLeft" t="textAreaTop" r="textAreaRight" b="textAreaBottom"/>
              <a:pathLst>
                <a:path w="21600" h="25553">
                  <a:moveTo>
                    <a:pt x="1310" y="0"/>
                  </a:moveTo>
                  <a:arcTo wR="1310" hR="1310" stAng="16200000" swAng="-5400000"/>
                  <a:lnTo>
                    <a:pt x="0" y="24243"/>
                  </a:lnTo>
                  <a:arcTo wR="1310" hR="1310" stAng="10800000" swAng="-5400000"/>
                  <a:lnTo>
                    <a:pt x="20290" y="25553"/>
                  </a:lnTo>
                  <a:arcTo wR="1310" hR="1310" stAng="5400000" swAng="-5400000"/>
                  <a:lnTo>
                    <a:pt x="21600" y="1310"/>
                  </a:lnTo>
                  <a:arcTo wR="1310" hR="1310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圆角矩形 22"/>
            <p:cNvSpPr/>
            <p:nvPr/>
          </p:nvSpPr>
          <p:spPr>
            <a:xfrm>
              <a:off x="4000320" y="1785600"/>
              <a:ext cx="1285920" cy="428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79"/>
            <p:cNvSpPr/>
            <p:nvPr/>
          </p:nvSpPr>
          <p:spPr>
            <a:xfrm>
              <a:off x="3500280" y="1500120"/>
              <a:ext cx="771120" cy="7858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Broadway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215040" y="1500120"/>
            <a:ext cx="2143080" cy="2836800"/>
            <a:chOff x="6215040" y="1500120"/>
            <a:chExt cx="2143080" cy="2836800"/>
          </a:xfrm>
        </p:grpSpPr>
        <p:sp>
          <p:nvSpPr>
            <p:cNvPr id="174" name="AutoShape 77"/>
            <p:cNvSpPr/>
            <p:nvPr/>
          </p:nvSpPr>
          <p:spPr>
            <a:xfrm>
              <a:off x="6387840" y="2005560"/>
              <a:ext cx="1970280" cy="2331360"/>
            </a:xfrm>
            <a:custGeom>
              <a:avLst/>
              <a:gdLst>
                <a:gd name="textAreaLeft" fmla="*/ 34920 w 1970280"/>
                <a:gd name="textAreaRight" fmla="*/ 1935360 w 1970280"/>
                <a:gd name="textAreaTop" fmla="*/ 34920 h 2331360"/>
                <a:gd name="textAreaBottom" fmla="*/ 2296440 h 2331360"/>
              </a:gdLst>
              <a:ahLst/>
              <a:rect l="textAreaLeft" t="textAreaTop" r="textAreaRight" b="textAreaBottom"/>
              <a:pathLst>
                <a:path w="21600" h="25558">
                  <a:moveTo>
                    <a:pt x="1310" y="0"/>
                  </a:moveTo>
                  <a:arcTo wR="1310" hR="1310" stAng="16200000" swAng="-5400000"/>
                  <a:lnTo>
                    <a:pt x="0" y="24248"/>
                  </a:lnTo>
                  <a:arcTo wR="1310" hR="1310" stAng="10800000" swAng="-5400000"/>
                  <a:lnTo>
                    <a:pt x="20290" y="25558"/>
                  </a:lnTo>
                  <a:arcTo wR="1310" hR="1310" stAng="5400000" swAng="-5400000"/>
                  <a:lnTo>
                    <a:pt x="21600" y="1310"/>
                  </a:lnTo>
                  <a:arcTo wR="1310" hR="1310" stAng="0" swAng="-5400000"/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圆角矩形 26"/>
            <p:cNvSpPr/>
            <p:nvPr/>
          </p:nvSpPr>
          <p:spPr>
            <a:xfrm>
              <a:off x="6715080" y="1785600"/>
              <a:ext cx="1285920" cy="428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79"/>
            <p:cNvSpPr/>
            <p:nvPr/>
          </p:nvSpPr>
          <p:spPr>
            <a:xfrm>
              <a:off x="6215040" y="1500120"/>
              <a:ext cx="771120" cy="7858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Broadway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TextBox 32" descr=""/>
          <p:cNvPicPr/>
          <p:nvPr/>
        </p:nvPicPr>
        <p:blipFill>
          <a:blip r:embed="rId8"/>
          <a:stretch/>
        </p:blipFill>
        <p:spPr>
          <a:xfrm>
            <a:off x="133200" y="244440"/>
            <a:ext cx="107964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1" descr="3778238_132359742000_2.jpg"/>
          <p:cNvPicPr/>
          <p:nvPr/>
        </p:nvPicPr>
        <p:blipFill>
          <a:blip r:embed="rId1"/>
          <a:srcRect l="2192" t="4178" r="1409" b="557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圆角矩形 5"/>
          <p:cNvSpPr/>
          <p:nvPr/>
        </p:nvSpPr>
        <p:spPr>
          <a:xfrm>
            <a:off x="857160" y="2644920"/>
            <a:ext cx="7286760" cy="142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0" y="0"/>
            <a:ext cx="9144000" cy="5145120"/>
            <a:chOff x="0" y="0"/>
            <a:chExt cx="9144000" cy="5145120"/>
          </a:xfrm>
        </p:grpSpPr>
        <p:pic>
          <p:nvPicPr>
            <p:cNvPr id="181" name="图片 9" descr="f969ecf988092d3a024f56cf.jpg"/>
            <p:cNvPicPr/>
            <p:nvPr/>
          </p:nvPicPr>
          <p:blipFill>
            <a:blip r:embed="rId1"/>
            <a:srcRect l="0" t="0" r="0" b="26777"/>
            <a:stretch/>
          </p:blipFill>
          <p:spPr>
            <a:xfrm>
              <a:off x="0" y="0"/>
              <a:ext cx="9144000" cy="51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矩形 11"/>
            <p:cNvSpPr/>
            <p:nvPr/>
          </p:nvSpPr>
          <p:spPr>
            <a:xfrm>
              <a:off x="71280" y="857160"/>
              <a:ext cx="9001440" cy="414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TextBox 6" descr=""/>
          <p:cNvPicPr/>
          <p:nvPr/>
        </p:nvPicPr>
        <p:blipFill>
          <a:blip r:embed="rId2"/>
          <a:stretch/>
        </p:blipFill>
        <p:spPr>
          <a:xfrm>
            <a:off x="133200" y="244440"/>
            <a:ext cx="1079640" cy="547560"/>
          </a:xfrm>
          <a:prstGeom prst="rect">
            <a:avLst/>
          </a:prstGeom>
          <a:ln w="0">
            <a:noFill/>
          </a:ln>
        </p:spPr>
      </p:pic>
      <p:pic>
        <p:nvPicPr>
          <p:cNvPr id="184" name="AutoShape 75" descr=""/>
          <p:cNvPicPr/>
          <p:nvPr/>
        </p:nvPicPr>
        <p:blipFill>
          <a:blip r:embed="rId3"/>
          <a:stretch/>
        </p:blipFill>
        <p:spPr>
          <a:xfrm>
            <a:off x="1755720" y="1536840"/>
            <a:ext cx="5772240" cy="2279520"/>
          </a:xfrm>
          <a:prstGeom prst="rect">
            <a:avLst/>
          </a:prstGeom>
          <a:ln w="0">
            <a:noFill/>
          </a:ln>
        </p:spPr>
      </p:pic>
      <p:pic>
        <p:nvPicPr>
          <p:cNvPr id="185" name="AutoShape 81" descr=""/>
          <p:cNvPicPr/>
          <p:nvPr/>
        </p:nvPicPr>
        <p:blipFill>
          <a:blip r:embed="rId4"/>
          <a:stretch/>
        </p:blipFill>
        <p:spPr>
          <a:xfrm>
            <a:off x="1139760" y="3444840"/>
            <a:ext cx="2481480" cy="1584360"/>
          </a:xfrm>
          <a:prstGeom prst="rect">
            <a:avLst/>
          </a:prstGeom>
          <a:ln w="0">
            <a:noFill/>
          </a:ln>
        </p:spPr>
      </p:pic>
      <p:pic>
        <p:nvPicPr>
          <p:cNvPr id="186" name="AutoShape 82" descr=""/>
          <p:cNvPicPr/>
          <p:nvPr/>
        </p:nvPicPr>
        <p:blipFill>
          <a:blip r:embed="rId5"/>
          <a:stretch/>
        </p:blipFill>
        <p:spPr>
          <a:xfrm>
            <a:off x="3395520" y="3444840"/>
            <a:ext cx="2487600" cy="1584360"/>
          </a:xfrm>
          <a:prstGeom prst="rect">
            <a:avLst/>
          </a:prstGeom>
          <a:ln w="0">
            <a:noFill/>
          </a:ln>
        </p:spPr>
      </p:pic>
      <p:pic>
        <p:nvPicPr>
          <p:cNvPr id="187" name="AutoShape 83" descr=""/>
          <p:cNvPicPr/>
          <p:nvPr/>
        </p:nvPicPr>
        <p:blipFill>
          <a:blip r:embed="rId6"/>
          <a:stretch/>
        </p:blipFill>
        <p:spPr>
          <a:xfrm>
            <a:off x="5657760" y="3444840"/>
            <a:ext cx="2486160" cy="1584360"/>
          </a:xfrm>
          <a:prstGeom prst="rect">
            <a:avLst/>
          </a:prstGeom>
          <a:ln w="0">
            <a:noFill/>
          </a:ln>
        </p:spPr>
      </p:pic>
      <p:pic>
        <p:nvPicPr>
          <p:cNvPr id="188" name="组合 42" descr=""/>
          <p:cNvPicPr/>
          <p:nvPr/>
        </p:nvPicPr>
        <p:blipFill>
          <a:blip r:embed="rId7"/>
          <a:stretch/>
        </p:blipFill>
        <p:spPr>
          <a:xfrm>
            <a:off x="1219320" y="3402000"/>
            <a:ext cx="761760" cy="773280"/>
          </a:xfrm>
          <a:prstGeom prst="rect">
            <a:avLst/>
          </a:prstGeom>
          <a:ln w="0">
            <a:noFill/>
          </a:ln>
        </p:spPr>
      </p:pic>
      <p:pic>
        <p:nvPicPr>
          <p:cNvPr id="189" name="组合 45" descr=""/>
          <p:cNvPicPr/>
          <p:nvPr/>
        </p:nvPicPr>
        <p:blipFill>
          <a:blip r:embed="rId8"/>
          <a:stretch/>
        </p:blipFill>
        <p:spPr>
          <a:xfrm>
            <a:off x="3481560" y="3402000"/>
            <a:ext cx="755640" cy="773280"/>
          </a:xfrm>
          <a:prstGeom prst="rect">
            <a:avLst/>
          </a:prstGeom>
          <a:ln w="0">
            <a:noFill/>
          </a:ln>
        </p:spPr>
      </p:pic>
      <p:pic>
        <p:nvPicPr>
          <p:cNvPr id="190" name="组合 48" descr=""/>
          <p:cNvPicPr/>
          <p:nvPr/>
        </p:nvPicPr>
        <p:blipFill>
          <a:blip r:embed="rId9"/>
          <a:stretch/>
        </p:blipFill>
        <p:spPr>
          <a:xfrm>
            <a:off x="5735520" y="3402000"/>
            <a:ext cx="762120" cy="773280"/>
          </a:xfrm>
          <a:prstGeom prst="rect">
            <a:avLst/>
          </a:prstGeom>
          <a:ln w="0">
            <a:noFill/>
          </a:ln>
        </p:spPr>
      </p:pic>
      <p:pic>
        <p:nvPicPr>
          <p:cNvPr id="191" name="组合 34" descr=""/>
          <p:cNvPicPr/>
          <p:nvPr/>
        </p:nvPicPr>
        <p:blipFill>
          <a:blip r:embed="rId10"/>
          <a:stretch/>
        </p:blipFill>
        <p:spPr>
          <a:xfrm>
            <a:off x="3743280" y="798480"/>
            <a:ext cx="1803600" cy="1852560"/>
          </a:xfrm>
          <a:prstGeom prst="rect">
            <a:avLst/>
          </a:prstGeom>
          <a:ln w="0">
            <a:noFill/>
          </a:ln>
        </p:spPr>
      </p:pic>
      <p:pic>
        <p:nvPicPr>
          <p:cNvPr id="192" name="组合 34" descr=""/>
          <p:cNvPicPr/>
          <p:nvPr/>
        </p:nvPicPr>
        <p:blipFill>
          <a:blip r:embed="rId11"/>
          <a:stretch/>
        </p:blipFill>
        <p:spPr>
          <a:xfrm>
            <a:off x="5979960" y="798480"/>
            <a:ext cx="1841760" cy="1852560"/>
          </a:xfrm>
          <a:prstGeom prst="rect">
            <a:avLst/>
          </a:prstGeom>
          <a:ln w="0">
            <a:noFill/>
          </a:ln>
        </p:spPr>
      </p:pic>
      <p:pic>
        <p:nvPicPr>
          <p:cNvPr id="193" name="组合 34" descr=""/>
          <p:cNvPicPr/>
          <p:nvPr/>
        </p:nvPicPr>
        <p:blipFill>
          <a:blip r:embed="rId12"/>
          <a:stretch/>
        </p:blipFill>
        <p:spPr>
          <a:xfrm>
            <a:off x="1463760" y="798480"/>
            <a:ext cx="1839960" cy="1852560"/>
          </a:xfrm>
          <a:prstGeom prst="rect">
            <a:avLst/>
          </a:prstGeom>
          <a:ln w="0">
            <a:noFill/>
          </a:ln>
        </p:spPr>
      </p:pic>
      <p:sp>
        <p:nvSpPr>
          <p:cNvPr id="194" name="椭圆 33"/>
          <p:cNvSpPr/>
          <p:nvPr/>
        </p:nvSpPr>
        <p:spPr>
          <a:xfrm rot="19388400">
            <a:off x="1693440" y="1071360"/>
            <a:ext cx="925560" cy="6346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761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34"/>
          <p:cNvSpPr/>
          <p:nvPr/>
        </p:nvSpPr>
        <p:spPr>
          <a:xfrm rot="19388400">
            <a:off x="3976200" y="1071360"/>
            <a:ext cx="925560" cy="6346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761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35"/>
          <p:cNvSpPr/>
          <p:nvPr/>
        </p:nvSpPr>
        <p:spPr>
          <a:xfrm rot="19388400">
            <a:off x="6241680" y="1071360"/>
            <a:ext cx="925560" cy="6346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761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0"/>
            <a:ext cx="9144000" cy="5145120"/>
            <a:chOff x="0" y="0"/>
            <a:chExt cx="9144000" cy="5145120"/>
          </a:xfrm>
        </p:grpSpPr>
        <p:pic>
          <p:nvPicPr>
            <p:cNvPr id="198" name="图片 9" descr="f969ecf988092d3a024f56cf.jpg"/>
            <p:cNvPicPr/>
            <p:nvPr/>
          </p:nvPicPr>
          <p:blipFill>
            <a:blip r:embed="rId1"/>
            <a:srcRect l="0" t="0" r="0" b="26777"/>
            <a:stretch/>
          </p:blipFill>
          <p:spPr>
            <a:xfrm>
              <a:off x="0" y="0"/>
              <a:ext cx="9144000" cy="51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矩形 3"/>
            <p:cNvSpPr/>
            <p:nvPr/>
          </p:nvSpPr>
          <p:spPr>
            <a:xfrm>
              <a:off x="71280" y="857160"/>
              <a:ext cx="9001440" cy="414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TextBox 4" descr=""/>
          <p:cNvPicPr/>
          <p:nvPr/>
        </p:nvPicPr>
        <p:blipFill>
          <a:blip r:embed="rId2"/>
          <a:stretch/>
        </p:blipFill>
        <p:spPr>
          <a:xfrm>
            <a:off x="133200" y="244440"/>
            <a:ext cx="1079640" cy="547560"/>
          </a:xfrm>
          <a:prstGeom prst="rect">
            <a:avLst/>
          </a:prstGeom>
          <a:ln w="0">
            <a:noFill/>
          </a:ln>
        </p:spPr>
      </p:pic>
      <p:pic>
        <p:nvPicPr>
          <p:cNvPr id="201" name="平行四边形 5" descr=""/>
          <p:cNvPicPr/>
          <p:nvPr/>
        </p:nvPicPr>
        <p:blipFill>
          <a:blip r:embed="rId3"/>
          <a:stretch/>
        </p:blipFill>
        <p:spPr>
          <a:xfrm>
            <a:off x="1432080" y="2724120"/>
            <a:ext cx="2469960" cy="3140280"/>
          </a:xfrm>
          <a:prstGeom prst="rect">
            <a:avLst/>
          </a:prstGeom>
          <a:ln w="0">
            <a:noFill/>
          </a:ln>
        </p:spPr>
      </p:pic>
      <p:pic>
        <p:nvPicPr>
          <p:cNvPr id="202" name="平行四边形 6" descr=""/>
          <p:cNvPicPr/>
          <p:nvPr/>
        </p:nvPicPr>
        <p:blipFill>
          <a:blip r:embed="rId4"/>
          <a:stretch/>
        </p:blipFill>
        <p:spPr>
          <a:xfrm>
            <a:off x="3176640" y="2724120"/>
            <a:ext cx="2468520" cy="3140280"/>
          </a:xfrm>
          <a:prstGeom prst="rect">
            <a:avLst/>
          </a:prstGeom>
          <a:ln w="0">
            <a:noFill/>
          </a:ln>
        </p:spPr>
      </p:pic>
      <p:pic>
        <p:nvPicPr>
          <p:cNvPr id="203" name="平行四边形 7" descr=""/>
          <p:cNvPicPr/>
          <p:nvPr/>
        </p:nvPicPr>
        <p:blipFill>
          <a:blip r:embed="rId5"/>
          <a:stretch/>
        </p:blipFill>
        <p:spPr>
          <a:xfrm>
            <a:off x="4925880" y="2724120"/>
            <a:ext cx="2468520" cy="3140280"/>
          </a:xfrm>
          <a:prstGeom prst="rect">
            <a:avLst/>
          </a:prstGeom>
          <a:ln w="0">
            <a:noFill/>
          </a:ln>
        </p:spPr>
      </p:pic>
      <p:pic>
        <p:nvPicPr>
          <p:cNvPr id="204" name="平行四边形 8" descr=""/>
          <p:cNvPicPr/>
          <p:nvPr/>
        </p:nvPicPr>
        <p:blipFill>
          <a:blip r:embed="rId6"/>
          <a:stretch/>
        </p:blipFill>
        <p:spPr>
          <a:xfrm>
            <a:off x="1146240" y="2724120"/>
            <a:ext cx="1388880" cy="3140280"/>
          </a:xfrm>
          <a:prstGeom prst="rect">
            <a:avLst/>
          </a:prstGeom>
          <a:ln w="0">
            <a:noFill/>
          </a:ln>
        </p:spPr>
      </p:pic>
      <p:pic>
        <p:nvPicPr>
          <p:cNvPr id="205" name="平行四边形 9" descr=""/>
          <p:cNvPicPr/>
          <p:nvPr/>
        </p:nvPicPr>
        <p:blipFill>
          <a:blip r:embed="rId7"/>
          <a:stretch/>
        </p:blipFill>
        <p:spPr>
          <a:xfrm>
            <a:off x="2895480" y="2724120"/>
            <a:ext cx="1390680" cy="3140280"/>
          </a:xfrm>
          <a:prstGeom prst="rect">
            <a:avLst/>
          </a:prstGeom>
          <a:ln w="0">
            <a:noFill/>
          </a:ln>
        </p:spPr>
      </p:pic>
      <p:pic>
        <p:nvPicPr>
          <p:cNvPr id="206" name="平行四边形 10" descr=""/>
          <p:cNvPicPr/>
          <p:nvPr/>
        </p:nvPicPr>
        <p:blipFill>
          <a:blip r:embed="rId8"/>
          <a:stretch/>
        </p:blipFill>
        <p:spPr>
          <a:xfrm>
            <a:off x="4645080" y="2724120"/>
            <a:ext cx="1384200" cy="3140280"/>
          </a:xfrm>
          <a:prstGeom prst="rect">
            <a:avLst/>
          </a:prstGeom>
          <a:ln w="0">
            <a:noFill/>
          </a:ln>
        </p:spPr>
      </p:pic>
      <p:pic>
        <p:nvPicPr>
          <p:cNvPr id="207" name="矩形 17" descr=""/>
          <p:cNvPicPr/>
          <p:nvPr/>
        </p:nvPicPr>
        <p:blipFill>
          <a:blip r:embed="rId9"/>
          <a:stretch/>
        </p:blipFill>
        <p:spPr>
          <a:xfrm>
            <a:off x="6388200" y="1122480"/>
            <a:ext cx="1774800" cy="6345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22200" y="46609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0" y="0"/>
            <a:ext cx="9144000" cy="5145120"/>
            <a:chOff x="0" y="0"/>
            <a:chExt cx="9144000" cy="5145120"/>
          </a:xfrm>
        </p:grpSpPr>
        <p:pic>
          <p:nvPicPr>
            <p:cNvPr id="210" name="图片 9" descr="f969ecf988092d3a024f56cf.jpg"/>
            <p:cNvPicPr/>
            <p:nvPr/>
          </p:nvPicPr>
          <p:blipFill>
            <a:blip r:embed="rId1"/>
            <a:srcRect l="0" t="0" r="0" b="26777"/>
            <a:stretch/>
          </p:blipFill>
          <p:spPr>
            <a:xfrm>
              <a:off x="0" y="0"/>
              <a:ext cx="9144000" cy="51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矩形 3"/>
            <p:cNvSpPr/>
            <p:nvPr/>
          </p:nvSpPr>
          <p:spPr>
            <a:xfrm>
              <a:off x="71280" y="857160"/>
              <a:ext cx="9001440" cy="414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TextBox 4" descr=""/>
          <p:cNvPicPr/>
          <p:nvPr/>
        </p:nvPicPr>
        <p:blipFill>
          <a:blip r:embed="rId2"/>
          <a:stretch/>
        </p:blipFill>
        <p:spPr>
          <a:xfrm>
            <a:off x="133200" y="244440"/>
            <a:ext cx="1079640" cy="54756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293760" y="1285920"/>
            <a:ext cx="4206960" cy="3428280"/>
            <a:chOff x="293760" y="1285920"/>
            <a:chExt cx="4206960" cy="3428280"/>
          </a:xfrm>
        </p:grpSpPr>
        <p:sp>
          <p:nvSpPr>
            <p:cNvPr id="214" name="Oval 3"/>
            <p:cNvSpPr/>
            <p:nvPr/>
          </p:nvSpPr>
          <p:spPr>
            <a:xfrm flipV="1" rot="10800000">
              <a:off x="293760" y="4299480"/>
              <a:ext cx="4206960" cy="414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2403720" y="1285920"/>
              <a:ext cx="1636560" cy="2444760"/>
            </a:xfrm>
            <a:custGeom>
              <a:avLst/>
              <a:gdLst/>
              <a:ahLst/>
              <a:rect l="l" t="t" r="r" b="b"/>
              <a:pathLst>
                <a:path w="174" h="260">
                  <a:moveTo>
                    <a:pt x="150" y="260"/>
                  </a:moveTo>
                  <a:cubicBezTo>
                    <a:pt x="165" y="234"/>
                    <a:pt x="174" y="204"/>
                    <a:pt x="174" y="174"/>
                  </a:cubicBezTo>
                  <a:cubicBezTo>
                    <a:pt x="174" y="77"/>
                    <a:pt x="96" y="0"/>
                    <a:pt x="0" y="0"/>
                  </a:cubicBezTo>
                  <a:lnTo>
                    <a:pt x="0" y="174"/>
                  </a:lnTo>
                  <a:lnTo>
                    <a:pt x="150" y="26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977760" y="2921040"/>
              <a:ext cx="2835360" cy="1623960"/>
            </a:xfrm>
            <a:custGeom>
              <a:avLst/>
              <a:gdLst/>
              <a:ahLst/>
              <a:rect l="l" t="t" r="r" b="b"/>
              <a:pathLst>
                <a:path w="301" h="173">
                  <a:moveTo>
                    <a:pt x="0" y="86"/>
                  </a:moveTo>
                  <a:cubicBezTo>
                    <a:pt x="31" y="140"/>
                    <a:pt x="88" y="173"/>
                    <a:pt x="151" y="173"/>
                  </a:cubicBezTo>
                  <a:cubicBezTo>
                    <a:pt x="213" y="173"/>
                    <a:pt x="270" y="140"/>
                    <a:pt x="301" y="86"/>
                  </a:cubicBezTo>
                  <a:lnTo>
                    <a:pt x="151" y="0"/>
                  </a:lnTo>
                  <a:lnTo>
                    <a:pt x="0" y="86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753840" y="1287360"/>
              <a:ext cx="1646280" cy="2444760"/>
            </a:xfrm>
            <a:custGeom>
              <a:avLst/>
              <a:gdLst/>
              <a:ahLst/>
              <a:rect l="l" t="t" r="r" b="b"/>
              <a:pathLst>
                <a:path w="175" h="260">
                  <a:moveTo>
                    <a:pt x="174" y="0"/>
                  </a:moveTo>
                  <a:cubicBezTo>
                    <a:pt x="78" y="0"/>
                    <a:pt x="1" y="77"/>
                    <a:pt x="1" y="173"/>
                  </a:cubicBezTo>
                  <a:cubicBezTo>
                    <a:pt x="0" y="204"/>
                    <a:pt x="9" y="234"/>
                    <a:pt x="24" y="260"/>
                  </a:cubicBezTo>
                  <a:lnTo>
                    <a:pt x="175" y="174"/>
                  </a:lnTo>
                  <a:lnTo>
                    <a:pt x="174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7"/>
            <p:cNvSpPr/>
            <p:nvPr/>
          </p:nvSpPr>
          <p:spPr>
            <a:xfrm rot="6300000">
              <a:off x="1033200" y="3400200"/>
              <a:ext cx="369720" cy="3729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8"/>
            <p:cNvSpPr/>
            <p:nvPr/>
          </p:nvSpPr>
          <p:spPr>
            <a:xfrm rot="13500000">
              <a:off x="2217600" y="1377720"/>
              <a:ext cx="372960" cy="3697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9"/>
            <p:cNvSpPr/>
            <p:nvPr/>
          </p:nvSpPr>
          <p:spPr>
            <a:xfrm rot="20700000">
              <a:off x="3398760" y="3409560"/>
              <a:ext cx="369720" cy="3729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1112400" y="1622160"/>
              <a:ext cx="2599200" cy="2594160"/>
              <a:chOff x="1112400" y="1622160"/>
              <a:chExt cx="2599200" cy="2594160"/>
            </a:xfrm>
          </p:grpSpPr>
          <p:sp>
            <p:nvSpPr>
              <p:cNvPr id="222" name="Oval 11"/>
              <p:cNvSpPr/>
              <p:nvPr/>
            </p:nvSpPr>
            <p:spPr>
              <a:xfrm rot="649800">
                <a:off x="1300680" y="1811160"/>
                <a:ext cx="2222280" cy="221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0c0c0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12"/>
              <p:cNvSpPr/>
              <p:nvPr/>
            </p:nvSpPr>
            <p:spPr>
              <a:xfrm rot="649800">
                <a:off x="1425960" y="1931760"/>
                <a:ext cx="1972440" cy="19738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9360">
                <a:solidFill>
                  <a:srgbClr val="ca98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未知"/>
            <p:cNvSpPr/>
            <p:nvPr/>
          </p:nvSpPr>
          <p:spPr>
            <a:xfrm>
              <a:off x="1528920" y="1931760"/>
              <a:ext cx="1662120" cy="793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深色箭头8"/>
          <p:cNvSpPr/>
          <p:nvPr/>
        </p:nvSpPr>
        <p:spPr>
          <a:xfrm>
            <a:off x="5398920" y="1285920"/>
            <a:ext cx="1368720" cy="1079280"/>
          </a:xfrm>
          <a:custGeom>
            <a:avLst/>
            <a:gdLst/>
            <a:ahLst/>
            <a:rect l="l" t="t" r="r" b="b"/>
            <a:pathLst>
              <a:path w="1087" h="857">
                <a:moveTo>
                  <a:pt x="449" y="857"/>
                </a:moveTo>
                <a:lnTo>
                  <a:pt x="459" y="845"/>
                </a:lnTo>
                <a:lnTo>
                  <a:pt x="470" y="834"/>
                </a:lnTo>
                <a:lnTo>
                  <a:pt x="492" y="812"/>
                </a:lnTo>
                <a:lnTo>
                  <a:pt x="503" y="801"/>
                </a:lnTo>
                <a:lnTo>
                  <a:pt x="515" y="791"/>
                </a:lnTo>
                <a:lnTo>
                  <a:pt x="540" y="771"/>
                </a:lnTo>
                <a:lnTo>
                  <a:pt x="552" y="761"/>
                </a:lnTo>
                <a:lnTo>
                  <a:pt x="565" y="752"/>
                </a:lnTo>
                <a:lnTo>
                  <a:pt x="578" y="743"/>
                </a:lnTo>
                <a:lnTo>
                  <a:pt x="591" y="735"/>
                </a:lnTo>
                <a:lnTo>
                  <a:pt x="605" y="726"/>
                </a:lnTo>
                <a:lnTo>
                  <a:pt x="618" y="717"/>
                </a:lnTo>
                <a:lnTo>
                  <a:pt x="646" y="702"/>
                </a:lnTo>
                <a:lnTo>
                  <a:pt x="675" y="689"/>
                </a:lnTo>
                <a:lnTo>
                  <a:pt x="689" y="682"/>
                </a:lnTo>
                <a:lnTo>
                  <a:pt x="705" y="677"/>
                </a:lnTo>
                <a:lnTo>
                  <a:pt x="720" y="671"/>
                </a:lnTo>
                <a:lnTo>
                  <a:pt x="735" y="666"/>
                </a:lnTo>
                <a:lnTo>
                  <a:pt x="750" y="661"/>
                </a:lnTo>
                <a:lnTo>
                  <a:pt x="766" y="656"/>
                </a:lnTo>
                <a:lnTo>
                  <a:pt x="781" y="652"/>
                </a:lnTo>
                <a:lnTo>
                  <a:pt x="797" y="649"/>
                </a:lnTo>
                <a:lnTo>
                  <a:pt x="813" y="645"/>
                </a:lnTo>
                <a:lnTo>
                  <a:pt x="829" y="642"/>
                </a:lnTo>
                <a:lnTo>
                  <a:pt x="845" y="640"/>
                </a:lnTo>
                <a:lnTo>
                  <a:pt x="863" y="638"/>
                </a:lnTo>
                <a:lnTo>
                  <a:pt x="896" y="635"/>
                </a:lnTo>
                <a:lnTo>
                  <a:pt x="1087" y="332"/>
                </a:lnTo>
                <a:lnTo>
                  <a:pt x="898" y="0"/>
                </a:lnTo>
                <a:lnTo>
                  <a:pt x="881" y="0"/>
                </a:lnTo>
                <a:lnTo>
                  <a:pt x="865" y="1"/>
                </a:lnTo>
                <a:lnTo>
                  <a:pt x="831" y="3"/>
                </a:lnTo>
                <a:lnTo>
                  <a:pt x="799" y="6"/>
                </a:lnTo>
                <a:lnTo>
                  <a:pt x="767" y="10"/>
                </a:lnTo>
                <a:lnTo>
                  <a:pt x="735" y="15"/>
                </a:lnTo>
                <a:lnTo>
                  <a:pt x="703" y="20"/>
                </a:lnTo>
                <a:lnTo>
                  <a:pt x="671" y="26"/>
                </a:lnTo>
                <a:lnTo>
                  <a:pt x="640" y="33"/>
                </a:lnTo>
                <a:lnTo>
                  <a:pt x="609" y="41"/>
                </a:lnTo>
                <a:lnTo>
                  <a:pt x="578" y="50"/>
                </a:lnTo>
                <a:lnTo>
                  <a:pt x="548" y="59"/>
                </a:lnTo>
                <a:lnTo>
                  <a:pt x="517" y="69"/>
                </a:lnTo>
                <a:lnTo>
                  <a:pt x="487" y="80"/>
                </a:lnTo>
                <a:lnTo>
                  <a:pt x="458" y="91"/>
                </a:lnTo>
                <a:lnTo>
                  <a:pt x="429" y="103"/>
                </a:lnTo>
                <a:lnTo>
                  <a:pt x="401" y="116"/>
                </a:lnTo>
                <a:lnTo>
                  <a:pt x="372" y="129"/>
                </a:lnTo>
                <a:lnTo>
                  <a:pt x="344" y="143"/>
                </a:lnTo>
                <a:lnTo>
                  <a:pt x="317" y="158"/>
                </a:lnTo>
                <a:lnTo>
                  <a:pt x="290" y="173"/>
                </a:lnTo>
                <a:lnTo>
                  <a:pt x="263" y="189"/>
                </a:lnTo>
                <a:lnTo>
                  <a:pt x="237" y="206"/>
                </a:lnTo>
                <a:lnTo>
                  <a:pt x="224" y="214"/>
                </a:lnTo>
                <a:lnTo>
                  <a:pt x="210" y="223"/>
                </a:lnTo>
                <a:lnTo>
                  <a:pt x="185" y="241"/>
                </a:lnTo>
                <a:lnTo>
                  <a:pt x="160" y="260"/>
                </a:lnTo>
                <a:lnTo>
                  <a:pt x="136" y="279"/>
                </a:lnTo>
                <a:lnTo>
                  <a:pt x="112" y="298"/>
                </a:lnTo>
                <a:lnTo>
                  <a:pt x="89" y="318"/>
                </a:lnTo>
                <a:lnTo>
                  <a:pt x="66" y="339"/>
                </a:lnTo>
                <a:lnTo>
                  <a:pt x="43" y="360"/>
                </a:lnTo>
                <a:lnTo>
                  <a:pt x="21" y="382"/>
                </a:lnTo>
                <a:lnTo>
                  <a:pt x="0" y="405"/>
                </a:lnTo>
                <a:lnTo>
                  <a:pt x="374" y="501"/>
                </a:lnTo>
                <a:lnTo>
                  <a:pt x="449" y="857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240">
            <a:solidFill>
              <a:srgbClr val="d7d7d7"/>
            </a:solidFill>
            <a:round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深色箭头1"/>
          <p:cNvSpPr/>
          <p:nvPr/>
        </p:nvSpPr>
        <p:spPr>
          <a:xfrm>
            <a:off x="6624720" y="1285920"/>
            <a:ext cx="1069920" cy="1000080"/>
          </a:xfrm>
          <a:custGeom>
            <a:avLst/>
            <a:gdLst/>
            <a:ahLst/>
            <a:rect l="l" t="t" r="r" b="b"/>
            <a:pathLst>
              <a:path w="852" h="795">
                <a:moveTo>
                  <a:pt x="1" y="0"/>
                </a:moveTo>
                <a:lnTo>
                  <a:pt x="197" y="347"/>
                </a:lnTo>
                <a:lnTo>
                  <a:pt x="0" y="636"/>
                </a:lnTo>
                <a:lnTo>
                  <a:pt x="14" y="637"/>
                </a:lnTo>
                <a:lnTo>
                  <a:pt x="28" y="638"/>
                </a:lnTo>
                <a:lnTo>
                  <a:pt x="42" y="639"/>
                </a:lnTo>
                <a:lnTo>
                  <a:pt x="56" y="641"/>
                </a:lnTo>
                <a:lnTo>
                  <a:pt x="85" y="645"/>
                </a:lnTo>
                <a:lnTo>
                  <a:pt x="112" y="650"/>
                </a:lnTo>
                <a:lnTo>
                  <a:pt x="139" y="656"/>
                </a:lnTo>
                <a:lnTo>
                  <a:pt x="152" y="660"/>
                </a:lnTo>
                <a:lnTo>
                  <a:pt x="166" y="664"/>
                </a:lnTo>
                <a:lnTo>
                  <a:pt x="192" y="672"/>
                </a:lnTo>
                <a:lnTo>
                  <a:pt x="217" y="682"/>
                </a:lnTo>
                <a:lnTo>
                  <a:pt x="244" y="693"/>
                </a:lnTo>
                <a:lnTo>
                  <a:pt x="268" y="704"/>
                </a:lnTo>
                <a:lnTo>
                  <a:pt x="292" y="717"/>
                </a:lnTo>
                <a:lnTo>
                  <a:pt x="304" y="724"/>
                </a:lnTo>
                <a:lnTo>
                  <a:pt x="315" y="731"/>
                </a:lnTo>
                <a:lnTo>
                  <a:pt x="338" y="746"/>
                </a:lnTo>
                <a:lnTo>
                  <a:pt x="349" y="753"/>
                </a:lnTo>
                <a:lnTo>
                  <a:pt x="360" y="761"/>
                </a:lnTo>
                <a:lnTo>
                  <a:pt x="382" y="777"/>
                </a:lnTo>
                <a:lnTo>
                  <a:pt x="403" y="795"/>
                </a:lnTo>
                <a:lnTo>
                  <a:pt x="754" y="716"/>
                </a:lnTo>
                <a:lnTo>
                  <a:pt x="852" y="343"/>
                </a:lnTo>
                <a:lnTo>
                  <a:pt x="831" y="324"/>
                </a:lnTo>
                <a:lnTo>
                  <a:pt x="810" y="306"/>
                </a:lnTo>
                <a:lnTo>
                  <a:pt x="788" y="287"/>
                </a:lnTo>
                <a:lnTo>
                  <a:pt x="766" y="270"/>
                </a:lnTo>
                <a:lnTo>
                  <a:pt x="743" y="252"/>
                </a:lnTo>
                <a:lnTo>
                  <a:pt x="720" y="235"/>
                </a:lnTo>
                <a:lnTo>
                  <a:pt x="695" y="218"/>
                </a:lnTo>
                <a:lnTo>
                  <a:pt x="671" y="203"/>
                </a:lnTo>
                <a:lnTo>
                  <a:pt x="647" y="187"/>
                </a:lnTo>
                <a:lnTo>
                  <a:pt x="622" y="173"/>
                </a:lnTo>
                <a:lnTo>
                  <a:pt x="597" y="159"/>
                </a:lnTo>
                <a:lnTo>
                  <a:pt x="585" y="152"/>
                </a:lnTo>
                <a:lnTo>
                  <a:pt x="572" y="145"/>
                </a:lnTo>
                <a:lnTo>
                  <a:pt x="546" y="132"/>
                </a:lnTo>
                <a:lnTo>
                  <a:pt x="519" y="120"/>
                </a:lnTo>
                <a:lnTo>
                  <a:pt x="493" y="108"/>
                </a:lnTo>
                <a:lnTo>
                  <a:pt x="466" y="96"/>
                </a:lnTo>
                <a:lnTo>
                  <a:pt x="439" y="86"/>
                </a:lnTo>
                <a:lnTo>
                  <a:pt x="412" y="75"/>
                </a:lnTo>
                <a:lnTo>
                  <a:pt x="384" y="65"/>
                </a:lnTo>
                <a:lnTo>
                  <a:pt x="355" y="56"/>
                </a:lnTo>
                <a:lnTo>
                  <a:pt x="327" y="48"/>
                </a:lnTo>
                <a:lnTo>
                  <a:pt x="299" y="40"/>
                </a:lnTo>
                <a:lnTo>
                  <a:pt x="270" y="33"/>
                </a:lnTo>
                <a:lnTo>
                  <a:pt x="241" y="27"/>
                </a:lnTo>
                <a:lnTo>
                  <a:pt x="211" y="21"/>
                </a:lnTo>
                <a:lnTo>
                  <a:pt x="182" y="16"/>
                </a:lnTo>
                <a:lnTo>
                  <a:pt x="152" y="12"/>
                </a:lnTo>
                <a:lnTo>
                  <a:pt x="122" y="8"/>
                </a:lnTo>
                <a:lnTo>
                  <a:pt x="92" y="5"/>
                </a:lnTo>
                <a:lnTo>
                  <a:pt x="62" y="3"/>
                </a:lnTo>
                <a:lnTo>
                  <a:pt x="31" y="1"/>
                </a:lnTo>
                <a:lnTo>
                  <a:pt x="1" y="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240">
            <a:solidFill>
              <a:srgbClr val="d7d7d7"/>
            </a:solidFill>
            <a:round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深色箭头2"/>
          <p:cNvSpPr/>
          <p:nvPr/>
        </p:nvSpPr>
        <p:spPr>
          <a:xfrm>
            <a:off x="7196040" y="1776240"/>
            <a:ext cx="1019160" cy="1336680"/>
          </a:xfrm>
          <a:custGeom>
            <a:avLst/>
            <a:gdLst/>
            <a:ahLst/>
            <a:rect l="l" t="t" r="r" b="b"/>
            <a:pathLst>
              <a:path w="811" h="1062">
                <a:moveTo>
                  <a:pt x="811" y="873"/>
                </a:moveTo>
                <a:lnTo>
                  <a:pt x="474" y="1062"/>
                </a:lnTo>
                <a:lnTo>
                  <a:pt x="174" y="863"/>
                </a:lnTo>
                <a:lnTo>
                  <a:pt x="173" y="848"/>
                </a:lnTo>
                <a:lnTo>
                  <a:pt x="172" y="833"/>
                </a:lnTo>
                <a:lnTo>
                  <a:pt x="171" y="819"/>
                </a:lnTo>
                <a:lnTo>
                  <a:pt x="169" y="803"/>
                </a:lnTo>
                <a:lnTo>
                  <a:pt x="167" y="789"/>
                </a:lnTo>
                <a:lnTo>
                  <a:pt x="164" y="774"/>
                </a:lnTo>
                <a:lnTo>
                  <a:pt x="159" y="746"/>
                </a:lnTo>
                <a:lnTo>
                  <a:pt x="152" y="718"/>
                </a:lnTo>
                <a:lnTo>
                  <a:pt x="148" y="704"/>
                </a:lnTo>
                <a:lnTo>
                  <a:pt x="143" y="691"/>
                </a:lnTo>
                <a:lnTo>
                  <a:pt x="134" y="664"/>
                </a:lnTo>
                <a:lnTo>
                  <a:pt x="124" y="637"/>
                </a:lnTo>
                <a:lnTo>
                  <a:pt x="112" y="611"/>
                </a:lnTo>
                <a:lnTo>
                  <a:pt x="106" y="599"/>
                </a:lnTo>
                <a:lnTo>
                  <a:pt x="99" y="586"/>
                </a:lnTo>
                <a:lnTo>
                  <a:pt x="85" y="562"/>
                </a:lnTo>
                <a:lnTo>
                  <a:pt x="70" y="538"/>
                </a:lnTo>
                <a:lnTo>
                  <a:pt x="54" y="516"/>
                </a:lnTo>
                <a:lnTo>
                  <a:pt x="37" y="493"/>
                </a:lnTo>
                <a:lnTo>
                  <a:pt x="19" y="471"/>
                </a:lnTo>
                <a:lnTo>
                  <a:pt x="10" y="460"/>
                </a:lnTo>
                <a:lnTo>
                  <a:pt x="0" y="450"/>
                </a:lnTo>
                <a:lnTo>
                  <a:pt x="344" y="386"/>
                </a:lnTo>
                <a:lnTo>
                  <a:pt x="451" y="0"/>
                </a:lnTo>
                <a:lnTo>
                  <a:pt x="471" y="22"/>
                </a:lnTo>
                <a:lnTo>
                  <a:pt x="490" y="44"/>
                </a:lnTo>
                <a:lnTo>
                  <a:pt x="510" y="66"/>
                </a:lnTo>
                <a:lnTo>
                  <a:pt x="528" y="89"/>
                </a:lnTo>
                <a:lnTo>
                  <a:pt x="546" y="112"/>
                </a:lnTo>
                <a:lnTo>
                  <a:pt x="564" y="136"/>
                </a:lnTo>
                <a:lnTo>
                  <a:pt x="582" y="160"/>
                </a:lnTo>
                <a:lnTo>
                  <a:pt x="599" y="185"/>
                </a:lnTo>
                <a:lnTo>
                  <a:pt x="615" y="210"/>
                </a:lnTo>
                <a:lnTo>
                  <a:pt x="630" y="235"/>
                </a:lnTo>
                <a:lnTo>
                  <a:pt x="645" y="261"/>
                </a:lnTo>
                <a:lnTo>
                  <a:pt x="659" y="286"/>
                </a:lnTo>
                <a:lnTo>
                  <a:pt x="673" y="313"/>
                </a:lnTo>
                <a:lnTo>
                  <a:pt x="686" y="340"/>
                </a:lnTo>
                <a:lnTo>
                  <a:pt x="698" y="367"/>
                </a:lnTo>
                <a:lnTo>
                  <a:pt x="710" y="395"/>
                </a:lnTo>
                <a:lnTo>
                  <a:pt x="722" y="422"/>
                </a:lnTo>
                <a:lnTo>
                  <a:pt x="727" y="436"/>
                </a:lnTo>
                <a:lnTo>
                  <a:pt x="733" y="450"/>
                </a:lnTo>
                <a:lnTo>
                  <a:pt x="743" y="479"/>
                </a:lnTo>
                <a:lnTo>
                  <a:pt x="752" y="508"/>
                </a:lnTo>
                <a:lnTo>
                  <a:pt x="761" y="537"/>
                </a:lnTo>
                <a:lnTo>
                  <a:pt x="769" y="566"/>
                </a:lnTo>
                <a:lnTo>
                  <a:pt x="776" y="596"/>
                </a:lnTo>
                <a:lnTo>
                  <a:pt x="783" y="626"/>
                </a:lnTo>
                <a:lnTo>
                  <a:pt x="789" y="656"/>
                </a:lnTo>
                <a:lnTo>
                  <a:pt x="792" y="672"/>
                </a:lnTo>
                <a:lnTo>
                  <a:pt x="794" y="687"/>
                </a:lnTo>
                <a:lnTo>
                  <a:pt x="797" y="702"/>
                </a:lnTo>
                <a:lnTo>
                  <a:pt x="799" y="717"/>
                </a:lnTo>
                <a:lnTo>
                  <a:pt x="803" y="748"/>
                </a:lnTo>
                <a:lnTo>
                  <a:pt x="806" y="779"/>
                </a:lnTo>
                <a:lnTo>
                  <a:pt x="808" y="810"/>
                </a:lnTo>
                <a:lnTo>
                  <a:pt x="810" y="842"/>
                </a:lnTo>
                <a:lnTo>
                  <a:pt x="811" y="873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240">
            <a:solidFill>
              <a:srgbClr val="d7d7d7"/>
            </a:solidFill>
            <a:round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深色箭头3"/>
          <p:cNvSpPr/>
          <p:nvPr/>
        </p:nvSpPr>
        <p:spPr>
          <a:xfrm>
            <a:off x="7196040" y="2930400"/>
            <a:ext cx="1009800" cy="1068480"/>
          </a:xfrm>
          <a:custGeom>
            <a:avLst/>
            <a:gdLst/>
            <a:ahLst/>
            <a:rect l="l" t="t" r="r" b="b"/>
            <a:pathLst>
              <a:path w="804" h="850">
                <a:moveTo>
                  <a:pt x="166" y="0"/>
                </a:moveTo>
                <a:lnTo>
                  <a:pt x="165" y="14"/>
                </a:lnTo>
                <a:lnTo>
                  <a:pt x="164" y="28"/>
                </a:lnTo>
                <a:lnTo>
                  <a:pt x="160" y="56"/>
                </a:lnTo>
                <a:lnTo>
                  <a:pt x="155" y="83"/>
                </a:lnTo>
                <a:lnTo>
                  <a:pt x="150" y="110"/>
                </a:lnTo>
                <a:lnTo>
                  <a:pt x="143" y="136"/>
                </a:lnTo>
                <a:lnTo>
                  <a:pt x="134" y="162"/>
                </a:lnTo>
                <a:lnTo>
                  <a:pt x="125" y="187"/>
                </a:lnTo>
                <a:lnTo>
                  <a:pt x="115" y="213"/>
                </a:lnTo>
                <a:lnTo>
                  <a:pt x="104" y="237"/>
                </a:lnTo>
                <a:lnTo>
                  <a:pt x="92" y="261"/>
                </a:lnTo>
                <a:lnTo>
                  <a:pt x="78" y="284"/>
                </a:lnTo>
                <a:lnTo>
                  <a:pt x="64" y="306"/>
                </a:lnTo>
                <a:lnTo>
                  <a:pt x="57" y="317"/>
                </a:lnTo>
                <a:lnTo>
                  <a:pt x="49" y="328"/>
                </a:lnTo>
                <a:lnTo>
                  <a:pt x="41" y="339"/>
                </a:lnTo>
                <a:lnTo>
                  <a:pt x="34" y="349"/>
                </a:lnTo>
                <a:lnTo>
                  <a:pt x="17" y="371"/>
                </a:lnTo>
                <a:lnTo>
                  <a:pt x="0" y="391"/>
                </a:lnTo>
                <a:lnTo>
                  <a:pt x="70" y="744"/>
                </a:lnTo>
                <a:lnTo>
                  <a:pt x="442" y="850"/>
                </a:lnTo>
                <a:lnTo>
                  <a:pt x="462" y="828"/>
                </a:lnTo>
                <a:lnTo>
                  <a:pt x="481" y="807"/>
                </a:lnTo>
                <a:lnTo>
                  <a:pt x="490" y="796"/>
                </a:lnTo>
                <a:lnTo>
                  <a:pt x="500" y="785"/>
                </a:lnTo>
                <a:lnTo>
                  <a:pt x="518" y="763"/>
                </a:lnTo>
                <a:lnTo>
                  <a:pt x="536" y="741"/>
                </a:lnTo>
                <a:lnTo>
                  <a:pt x="553" y="718"/>
                </a:lnTo>
                <a:lnTo>
                  <a:pt x="571" y="695"/>
                </a:lnTo>
                <a:lnTo>
                  <a:pt x="587" y="670"/>
                </a:lnTo>
                <a:lnTo>
                  <a:pt x="603" y="646"/>
                </a:lnTo>
                <a:lnTo>
                  <a:pt x="619" y="622"/>
                </a:lnTo>
                <a:lnTo>
                  <a:pt x="633" y="597"/>
                </a:lnTo>
                <a:lnTo>
                  <a:pt x="648" y="572"/>
                </a:lnTo>
                <a:lnTo>
                  <a:pt x="661" y="546"/>
                </a:lnTo>
                <a:lnTo>
                  <a:pt x="674" y="520"/>
                </a:lnTo>
                <a:lnTo>
                  <a:pt x="687" y="493"/>
                </a:lnTo>
                <a:lnTo>
                  <a:pt x="699" y="467"/>
                </a:lnTo>
                <a:lnTo>
                  <a:pt x="710" y="440"/>
                </a:lnTo>
                <a:lnTo>
                  <a:pt x="721" y="413"/>
                </a:lnTo>
                <a:lnTo>
                  <a:pt x="732" y="386"/>
                </a:lnTo>
                <a:lnTo>
                  <a:pt x="741" y="358"/>
                </a:lnTo>
                <a:lnTo>
                  <a:pt x="750" y="329"/>
                </a:lnTo>
                <a:lnTo>
                  <a:pt x="758" y="301"/>
                </a:lnTo>
                <a:lnTo>
                  <a:pt x="766" y="272"/>
                </a:lnTo>
                <a:lnTo>
                  <a:pt x="773" y="243"/>
                </a:lnTo>
                <a:lnTo>
                  <a:pt x="779" y="214"/>
                </a:lnTo>
                <a:lnTo>
                  <a:pt x="785" y="184"/>
                </a:lnTo>
                <a:lnTo>
                  <a:pt x="790" y="155"/>
                </a:lnTo>
                <a:lnTo>
                  <a:pt x="794" y="125"/>
                </a:lnTo>
                <a:lnTo>
                  <a:pt x="797" y="95"/>
                </a:lnTo>
                <a:lnTo>
                  <a:pt x="800" y="65"/>
                </a:lnTo>
                <a:lnTo>
                  <a:pt x="802" y="33"/>
                </a:lnTo>
                <a:lnTo>
                  <a:pt x="804" y="3"/>
                </a:lnTo>
                <a:lnTo>
                  <a:pt x="450" y="204"/>
                </a:lnTo>
                <a:lnTo>
                  <a:pt x="166" y="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3240">
            <a:solidFill>
              <a:srgbClr val="d7d7d7"/>
            </a:solidFill>
            <a:round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深色箭头4"/>
          <p:cNvSpPr/>
          <p:nvPr/>
        </p:nvSpPr>
        <p:spPr>
          <a:xfrm>
            <a:off x="6481800" y="3505320"/>
            <a:ext cx="1230120" cy="996840"/>
          </a:xfrm>
          <a:custGeom>
            <a:avLst/>
            <a:gdLst/>
            <a:ahLst/>
            <a:rect l="l" t="t" r="r" b="b"/>
            <a:pathLst>
              <a:path w="979" h="792">
                <a:moveTo>
                  <a:pt x="191" y="792"/>
                </a:moveTo>
                <a:lnTo>
                  <a:pt x="0" y="462"/>
                </a:lnTo>
                <a:lnTo>
                  <a:pt x="194" y="151"/>
                </a:lnTo>
                <a:lnTo>
                  <a:pt x="217" y="147"/>
                </a:lnTo>
                <a:lnTo>
                  <a:pt x="240" y="143"/>
                </a:lnTo>
                <a:lnTo>
                  <a:pt x="252" y="140"/>
                </a:lnTo>
                <a:lnTo>
                  <a:pt x="263" y="137"/>
                </a:lnTo>
                <a:lnTo>
                  <a:pt x="286" y="131"/>
                </a:lnTo>
                <a:lnTo>
                  <a:pt x="308" y="124"/>
                </a:lnTo>
                <a:lnTo>
                  <a:pt x="330" y="117"/>
                </a:lnTo>
                <a:lnTo>
                  <a:pt x="353" y="108"/>
                </a:lnTo>
                <a:lnTo>
                  <a:pt x="374" y="99"/>
                </a:lnTo>
                <a:lnTo>
                  <a:pt x="395" y="89"/>
                </a:lnTo>
                <a:lnTo>
                  <a:pt x="415" y="79"/>
                </a:lnTo>
                <a:lnTo>
                  <a:pt x="435" y="67"/>
                </a:lnTo>
                <a:lnTo>
                  <a:pt x="454" y="55"/>
                </a:lnTo>
                <a:lnTo>
                  <a:pt x="464" y="48"/>
                </a:lnTo>
                <a:lnTo>
                  <a:pt x="473" y="42"/>
                </a:lnTo>
                <a:lnTo>
                  <a:pt x="492" y="29"/>
                </a:lnTo>
                <a:lnTo>
                  <a:pt x="511" y="15"/>
                </a:lnTo>
                <a:lnTo>
                  <a:pt x="528" y="0"/>
                </a:lnTo>
                <a:lnTo>
                  <a:pt x="586" y="342"/>
                </a:lnTo>
                <a:lnTo>
                  <a:pt x="979" y="450"/>
                </a:lnTo>
                <a:lnTo>
                  <a:pt x="959" y="468"/>
                </a:lnTo>
                <a:lnTo>
                  <a:pt x="939" y="486"/>
                </a:lnTo>
                <a:lnTo>
                  <a:pt x="918" y="503"/>
                </a:lnTo>
                <a:lnTo>
                  <a:pt x="897" y="520"/>
                </a:lnTo>
                <a:lnTo>
                  <a:pt x="876" y="536"/>
                </a:lnTo>
                <a:lnTo>
                  <a:pt x="855" y="552"/>
                </a:lnTo>
                <a:lnTo>
                  <a:pt x="833" y="569"/>
                </a:lnTo>
                <a:lnTo>
                  <a:pt x="810" y="584"/>
                </a:lnTo>
                <a:lnTo>
                  <a:pt x="787" y="598"/>
                </a:lnTo>
                <a:lnTo>
                  <a:pt x="764" y="613"/>
                </a:lnTo>
                <a:lnTo>
                  <a:pt x="741" y="626"/>
                </a:lnTo>
                <a:lnTo>
                  <a:pt x="718" y="639"/>
                </a:lnTo>
                <a:lnTo>
                  <a:pt x="694" y="652"/>
                </a:lnTo>
                <a:lnTo>
                  <a:pt x="670" y="664"/>
                </a:lnTo>
                <a:lnTo>
                  <a:pt x="645" y="676"/>
                </a:lnTo>
                <a:lnTo>
                  <a:pt x="620" y="687"/>
                </a:lnTo>
                <a:lnTo>
                  <a:pt x="595" y="698"/>
                </a:lnTo>
                <a:lnTo>
                  <a:pt x="570" y="708"/>
                </a:lnTo>
                <a:lnTo>
                  <a:pt x="544" y="718"/>
                </a:lnTo>
                <a:lnTo>
                  <a:pt x="532" y="723"/>
                </a:lnTo>
                <a:lnTo>
                  <a:pt x="519" y="727"/>
                </a:lnTo>
                <a:lnTo>
                  <a:pt x="492" y="736"/>
                </a:lnTo>
                <a:lnTo>
                  <a:pt x="466" y="744"/>
                </a:lnTo>
                <a:lnTo>
                  <a:pt x="439" y="751"/>
                </a:lnTo>
                <a:lnTo>
                  <a:pt x="426" y="755"/>
                </a:lnTo>
                <a:lnTo>
                  <a:pt x="413" y="758"/>
                </a:lnTo>
                <a:lnTo>
                  <a:pt x="386" y="764"/>
                </a:lnTo>
                <a:lnTo>
                  <a:pt x="359" y="770"/>
                </a:lnTo>
                <a:lnTo>
                  <a:pt x="303" y="780"/>
                </a:lnTo>
                <a:lnTo>
                  <a:pt x="275" y="784"/>
                </a:lnTo>
                <a:lnTo>
                  <a:pt x="247" y="787"/>
                </a:lnTo>
                <a:lnTo>
                  <a:pt x="219" y="790"/>
                </a:lnTo>
                <a:lnTo>
                  <a:pt x="191" y="792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3240">
            <a:solidFill>
              <a:srgbClr val="d7d7d7"/>
            </a:solidFill>
            <a:round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深色箭头5"/>
          <p:cNvSpPr/>
          <p:nvPr/>
        </p:nvSpPr>
        <p:spPr>
          <a:xfrm>
            <a:off x="5553000" y="3533760"/>
            <a:ext cx="1089000" cy="968400"/>
          </a:xfrm>
          <a:custGeom>
            <a:avLst/>
            <a:gdLst/>
            <a:ahLst/>
            <a:rect l="l" t="t" r="r" b="b"/>
            <a:pathLst>
              <a:path w="867" h="769">
                <a:moveTo>
                  <a:pt x="866" y="769"/>
                </a:moveTo>
                <a:lnTo>
                  <a:pt x="847" y="769"/>
                </a:lnTo>
                <a:lnTo>
                  <a:pt x="817" y="769"/>
                </a:lnTo>
                <a:lnTo>
                  <a:pt x="787" y="768"/>
                </a:lnTo>
                <a:lnTo>
                  <a:pt x="756" y="766"/>
                </a:lnTo>
                <a:lnTo>
                  <a:pt x="726" y="764"/>
                </a:lnTo>
                <a:lnTo>
                  <a:pt x="697" y="760"/>
                </a:lnTo>
                <a:lnTo>
                  <a:pt x="667" y="757"/>
                </a:lnTo>
                <a:lnTo>
                  <a:pt x="653" y="755"/>
                </a:lnTo>
                <a:lnTo>
                  <a:pt x="638" y="752"/>
                </a:lnTo>
                <a:lnTo>
                  <a:pt x="610" y="747"/>
                </a:lnTo>
                <a:lnTo>
                  <a:pt x="580" y="742"/>
                </a:lnTo>
                <a:lnTo>
                  <a:pt x="552" y="735"/>
                </a:lnTo>
                <a:lnTo>
                  <a:pt x="523" y="728"/>
                </a:lnTo>
                <a:lnTo>
                  <a:pt x="496" y="721"/>
                </a:lnTo>
                <a:lnTo>
                  <a:pt x="482" y="717"/>
                </a:lnTo>
                <a:lnTo>
                  <a:pt x="468" y="712"/>
                </a:lnTo>
                <a:lnTo>
                  <a:pt x="440" y="704"/>
                </a:lnTo>
                <a:lnTo>
                  <a:pt x="413" y="694"/>
                </a:lnTo>
                <a:lnTo>
                  <a:pt x="386" y="683"/>
                </a:lnTo>
                <a:lnTo>
                  <a:pt x="359" y="673"/>
                </a:lnTo>
                <a:lnTo>
                  <a:pt x="333" y="662"/>
                </a:lnTo>
                <a:lnTo>
                  <a:pt x="307" y="650"/>
                </a:lnTo>
                <a:lnTo>
                  <a:pt x="281" y="638"/>
                </a:lnTo>
                <a:lnTo>
                  <a:pt x="255" y="625"/>
                </a:lnTo>
                <a:lnTo>
                  <a:pt x="230" y="611"/>
                </a:lnTo>
                <a:lnTo>
                  <a:pt x="206" y="598"/>
                </a:lnTo>
                <a:lnTo>
                  <a:pt x="182" y="583"/>
                </a:lnTo>
                <a:lnTo>
                  <a:pt x="158" y="568"/>
                </a:lnTo>
                <a:lnTo>
                  <a:pt x="134" y="553"/>
                </a:lnTo>
                <a:lnTo>
                  <a:pt x="110" y="537"/>
                </a:lnTo>
                <a:lnTo>
                  <a:pt x="87" y="519"/>
                </a:lnTo>
                <a:lnTo>
                  <a:pt x="65" y="502"/>
                </a:lnTo>
                <a:lnTo>
                  <a:pt x="43" y="485"/>
                </a:lnTo>
                <a:lnTo>
                  <a:pt x="21" y="467"/>
                </a:lnTo>
                <a:lnTo>
                  <a:pt x="0" y="449"/>
                </a:lnTo>
                <a:lnTo>
                  <a:pt x="96" y="84"/>
                </a:lnTo>
                <a:lnTo>
                  <a:pt x="454" y="0"/>
                </a:lnTo>
                <a:lnTo>
                  <a:pt x="474" y="15"/>
                </a:lnTo>
                <a:lnTo>
                  <a:pt x="485" y="22"/>
                </a:lnTo>
                <a:lnTo>
                  <a:pt x="495" y="29"/>
                </a:lnTo>
                <a:lnTo>
                  <a:pt x="517" y="43"/>
                </a:lnTo>
                <a:lnTo>
                  <a:pt x="540" y="56"/>
                </a:lnTo>
                <a:lnTo>
                  <a:pt x="563" y="68"/>
                </a:lnTo>
                <a:lnTo>
                  <a:pt x="574" y="74"/>
                </a:lnTo>
                <a:lnTo>
                  <a:pt x="586" y="79"/>
                </a:lnTo>
                <a:lnTo>
                  <a:pt x="611" y="89"/>
                </a:lnTo>
                <a:lnTo>
                  <a:pt x="623" y="93"/>
                </a:lnTo>
                <a:lnTo>
                  <a:pt x="636" y="98"/>
                </a:lnTo>
                <a:lnTo>
                  <a:pt x="660" y="106"/>
                </a:lnTo>
                <a:lnTo>
                  <a:pt x="686" y="113"/>
                </a:lnTo>
                <a:lnTo>
                  <a:pt x="699" y="116"/>
                </a:lnTo>
                <a:lnTo>
                  <a:pt x="712" y="119"/>
                </a:lnTo>
                <a:lnTo>
                  <a:pt x="738" y="124"/>
                </a:lnTo>
                <a:lnTo>
                  <a:pt x="751" y="126"/>
                </a:lnTo>
                <a:lnTo>
                  <a:pt x="764" y="127"/>
                </a:lnTo>
                <a:lnTo>
                  <a:pt x="792" y="130"/>
                </a:lnTo>
                <a:lnTo>
                  <a:pt x="819" y="132"/>
                </a:lnTo>
                <a:lnTo>
                  <a:pt x="833" y="132"/>
                </a:lnTo>
                <a:lnTo>
                  <a:pt x="847" y="133"/>
                </a:lnTo>
                <a:lnTo>
                  <a:pt x="867" y="132"/>
                </a:lnTo>
                <a:lnTo>
                  <a:pt x="667" y="428"/>
                </a:lnTo>
                <a:lnTo>
                  <a:pt x="866" y="769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3240">
            <a:solidFill>
              <a:srgbClr val="d7d7d7"/>
            </a:solidFill>
            <a:round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深色箭头6"/>
          <p:cNvSpPr/>
          <p:nvPr/>
        </p:nvSpPr>
        <p:spPr>
          <a:xfrm>
            <a:off x="4987800" y="2787480"/>
            <a:ext cx="1044720" cy="1257480"/>
          </a:xfrm>
          <a:custGeom>
            <a:avLst/>
            <a:gdLst/>
            <a:ahLst/>
            <a:rect l="l" t="t" r="r" b="b"/>
            <a:pathLst>
              <a:path w="831" h="1000">
                <a:moveTo>
                  <a:pt x="641" y="195"/>
                </a:moveTo>
                <a:lnTo>
                  <a:pt x="322" y="0"/>
                </a:lnTo>
                <a:lnTo>
                  <a:pt x="0" y="194"/>
                </a:lnTo>
                <a:lnTo>
                  <a:pt x="2" y="224"/>
                </a:lnTo>
                <a:lnTo>
                  <a:pt x="6" y="253"/>
                </a:lnTo>
                <a:lnTo>
                  <a:pt x="10" y="282"/>
                </a:lnTo>
                <a:lnTo>
                  <a:pt x="15" y="310"/>
                </a:lnTo>
                <a:lnTo>
                  <a:pt x="20" y="340"/>
                </a:lnTo>
                <a:lnTo>
                  <a:pt x="26" y="368"/>
                </a:lnTo>
                <a:lnTo>
                  <a:pt x="33" y="396"/>
                </a:lnTo>
                <a:lnTo>
                  <a:pt x="40" y="423"/>
                </a:lnTo>
                <a:lnTo>
                  <a:pt x="48" y="451"/>
                </a:lnTo>
                <a:lnTo>
                  <a:pt x="56" y="478"/>
                </a:lnTo>
                <a:lnTo>
                  <a:pt x="65" y="506"/>
                </a:lnTo>
                <a:lnTo>
                  <a:pt x="76" y="533"/>
                </a:lnTo>
                <a:lnTo>
                  <a:pt x="86" y="559"/>
                </a:lnTo>
                <a:lnTo>
                  <a:pt x="97" y="585"/>
                </a:lnTo>
                <a:lnTo>
                  <a:pt x="108" y="611"/>
                </a:lnTo>
                <a:lnTo>
                  <a:pt x="120" y="636"/>
                </a:lnTo>
                <a:lnTo>
                  <a:pt x="133" y="663"/>
                </a:lnTo>
                <a:lnTo>
                  <a:pt x="146" y="687"/>
                </a:lnTo>
                <a:lnTo>
                  <a:pt x="159" y="712"/>
                </a:lnTo>
                <a:lnTo>
                  <a:pt x="173" y="736"/>
                </a:lnTo>
                <a:lnTo>
                  <a:pt x="188" y="760"/>
                </a:lnTo>
                <a:lnTo>
                  <a:pt x="203" y="783"/>
                </a:lnTo>
                <a:lnTo>
                  <a:pt x="218" y="808"/>
                </a:lnTo>
                <a:lnTo>
                  <a:pt x="234" y="830"/>
                </a:lnTo>
                <a:lnTo>
                  <a:pt x="252" y="853"/>
                </a:lnTo>
                <a:lnTo>
                  <a:pt x="269" y="875"/>
                </a:lnTo>
                <a:lnTo>
                  <a:pt x="286" y="897"/>
                </a:lnTo>
                <a:lnTo>
                  <a:pt x="304" y="918"/>
                </a:lnTo>
                <a:lnTo>
                  <a:pt x="323" y="939"/>
                </a:lnTo>
                <a:lnTo>
                  <a:pt x="342" y="959"/>
                </a:lnTo>
                <a:lnTo>
                  <a:pt x="361" y="980"/>
                </a:lnTo>
                <a:lnTo>
                  <a:pt x="381" y="1000"/>
                </a:lnTo>
                <a:lnTo>
                  <a:pt x="479" y="619"/>
                </a:lnTo>
                <a:lnTo>
                  <a:pt x="831" y="550"/>
                </a:lnTo>
                <a:lnTo>
                  <a:pt x="813" y="532"/>
                </a:lnTo>
                <a:lnTo>
                  <a:pt x="796" y="514"/>
                </a:lnTo>
                <a:lnTo>
                  <a:pt x="780" y="495"/>
                </a:lnTo>
                <a:lnTo>
                  <a:pt x="764" y="474"/>
                </a:lnTo>
                <a:lnTo>
                  <a:pt x="749" y="454"/>
                </a:lnTo>
                <a:lnTo>
                  <a:pt x="735" y="433"/>
                </a:lnTo>
                <a:lnTo>
                  <a:pt x="722" y="411"/>
                </a:lnTo>
                <a:lnTo>
                  <a:pt x="708" y="389"/>
                </a:lnTo>
                <a:lnTo>
                  <a:pt x="696" y="367"/>
                </a:lnTo>
                <a:lnTo>
                  <a:pt x="686" y="344"/>
                </a:lnTo>
                <a:lnTo>
                  <a:pt x="676" y="319"/>
                </a:lnTo>
                <a:lnTo>
                  <a:pt x="667" y="295"/>
                </a:lnTo>
                <a:lnTo>
                  <a:pt x="659" y="270"/>
                </a:lnTo>
                <a:lnTo>
                  <a:pt x="652" y="246"/>
                </a:lnTo>
                <a:lnTo>
                  <a:pt x="649" y="233"/>
                </a:lnTo>
                <a:lnTo>
                  <a:pt x="646" y="220"/>
                </a:lnTo>
                <a:lnTo>
                  <a:pt x="641" y="195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3240">
            <a:solidFill>
              <a:srgbClr val="d7d7d7"/>
            </a:solidFill>
            <a:round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深色箭头7"/>
          <p:cNvSpPr/>
          <p:nvPr/>
        </p:nvSpPr>
        <p:spPr>
          <a:xfrm>
            <a:off x="4979880" y="1871640"/>
            <a:ext cx="949320" cy="1096920"/>
          </a:xfrm>
          <a:custGeom>
            <a:avLst/>
            <a:gdLst/>
            <a:ahLst/>
            <a:rect l="l" t="t" r="r" b="b"/>
            <a:pathLst>
              <a:path w="754" h="872">
                <a:moveTo>
                  <a:pt x="3" y="871"/>
                </a:moveTo>
                <a:lnTo>
                  <a:pt x="335" y="675"/>
                </a:lnTo>
                <a:lnTo>
                  <a:pt x="639" y="872"/>
                </a:lnTo>
                <a:lnTo>
                  <a:pt x="637" y="849"/>
                </a:lnTo>
                <a:lnTo>
                  <a:pt x="637" y="837"/>
                </a:lnTo>
                <a:lnTo>
                  <a:pt x="637" y="826"/>
                </a:lnTo>
                <a:lnTo>
                  <a:pt x="637" y="800"/>
                </a:lnTo>
                <a:lnTo>
                  <a:pt x="638" y="787"/>
                </a:lnTo>
                <a:lnTo>
                  <a:pt x="639" y="775"/>
                </a:lnTo>
                <a:lnTo>
                  <a:pt x="641" y="750"/>
                </a:lnTo>
                <a:lnTo>
                  <a:pt x="643" y="736"/>
                </a:lnTo>
                <a:lnTo>
                  <a:pt x="645" y="724"/>
                </a:lnTo>
                <a:lnTo>
                  <a:pt x="649" y="699"/>
                </a:lnTo>
                <a:lnTo>
                  <a:pt x="651" y="687"/>
                </a:lnTo>
                <a:lnTo>
                  <a:pt x="654" y="675"/>
                </a:lnTo>
                <a:lnTo>
                  <a:pt x="660" y="651"/>
                </a:lnTo>
                <a:lnTo>
                  <a:pt x="667" y="628"/>
                </a:lnTo>
                <a:lnTo>
                  <a:pt x="675" y="605"/>
                </a:lnTo>
                <a:lnTo>
                  <a:pt x="684" y="581"/>
                </a:lnTo>
                <a:lnTo>
                  <a:pt x="694" y="559"/>
                </a:lnTo>
                <a:lnTo>
                  <a:pt x="704" y="537"/>
                </a:lnTo>
                <a:lnTo>
                  <a:pt x="710" y="527"/>
                </a:lnTo>
                <a:lnTo>
                  <a:pt x="715" y="516"/>
                </a:lnTo>
                <a:lnTo>
                  <a:pt x="722" y="506"/>
                </a:lnTo>
                <a:lnTo>
                  <a:pt x="728" y="495"/>
                </a:lnTo>
                <a:lnTo>
                  <a:pt x="734" y="485"/>
                </a:lnTo>
                <a:lnTo>
                  <a:pt x="741" y="475"/>
                </a:lnTo>
                <a:lnTo>
                  <a:pt x="747" y="465"/>
                </a:lnTo>
                <a:lnTo>
                  <a:pt x="754" y="455"/>
                </a:lnTo>
                <a:lnTo>
                  <a:pt x="665" y="91"/>
                </a:lnTo>
                <a:lnTo>
                  <a:pt x="302" y="0"/>
                </a:lnTo>
                <a:lnTo>
                  <a:pt x="285" y="21"/>
                </a:lnTo>
                <a:lnTo>
                  <a:pt x="268" y="42"/>
                </a:lnTo>
                <a:lnTo>
                  <a:pt x="252" y="64"/>
                </a:lnTo>
                <a:lnTo>
                  <a:pt x="235" y="86"/>
                </a:lnTo>
                <a:lnTo>
                  <a:pt x="219" y="109"/>
                </a:lnTo>
                <a:lnTo>
                  <a:pt x="204" y="132"/>
                </a:lnTo>
                <a:lnTo>
                  <a:pt x="190" y="155"/>
                </a:lnTo>
                <a:lnTo>
                  <a:pt x="175" y="178"/>
                </a:lnTo>
                <a:lnTo>
                  <a:pt x="162" y="202"/>
                </a:lnTo>
                <a:lnTo>
                  <a:pt x="149" y="226"/>
                </a:lnTo>
                <a:lnTo>
                  <a:pt x="136" y="251"/>
                </a:lnTo>
                <a:lnTo>
                  <a:pt x="124" y="276"/>
                </a:lnTo>
                <a:lnTo>
                  <a:pt x="112" y="301"/>
                </a:lnTo>
                <a:lnTo>
                  <a:pt x="101" y="326"/>
                </a:lnTo>
                <a:lnTo>
                  <a:pt x="91" y="352"/>
                </a:lnTo>
                <a:lnTo>
                  <a:pt x="81" y="378"/>
                </a:lnTo>
                <a:lnTo>
                  <a:pt x="71" y="404"/>
                </a:lnTo>
                <a:lnTo>
                  <a:pt x="62" y="431"/>
                </a:lnTo>
                <a:lnTo>
                  <a:pt x="53" y="458"/>
                </a:lnTo>
                <a:lnTo>
                  <a:pt x="46" y="485"/>
                </a:lnTo>
                <a:lnTo>
                  <a:pt x="39" y="512"/>
                </a:lnTo>
                <a:lnTo>
                  <a:pt x="32" y="539"/>
                </a:lnTo>
                <a:lnTo>
                  <a:pt x="26" y="567"/>
                </a:lnTo>
                <a:lnTo>
                  <a:pt x="21" y="595"/>
                </a:lnTo>
                <a:lnTo>
                  <a:pt x="16" y="623"/>
                </a:lnTo>
                <a:lnTo>
                  <a:pt x="12" y="652"/>
                </a:lnTo>
                <a:lnTo>
                  <a:pt x="8" y="680"/>
                </a:lnTo>
                <a:lnTo>
                  <a:pt x="5" y="709"/>
                </a:lnTo>
                <a:lnTo>
                  <a:pt x="3" y="737"/>
                </a:lnTo>
                <a:lnTo>
                  <a:pt x="1" y="767"/>
                </a:lnTo>
                <a:lnTo>
                  <a:pt x="0" y="796"/>
                </a:lnTo>
                <a:lnTo>
                  <a:pt x="0" y="826"/>
                </a:lnTo>
                <a:lnTo>
                  <a:pt x="0" y="837"/>
                </a:lnTo>
                <a:lnTo>
                  <a:pt x="1" y="848"/>
                </a:lnTo>
                <a:lnTo>
                  <a:pt x="3" y="871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3240">
            <a:solidFill>
              <a:srgbClr val="d7d7d7"/>
            </a:solidFill>
            <a:round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1" descr="f969ecf988092d3a024f56cf.jpg"/>
          <p:cNvPicPr/>
          <p:nvPr/>
        </p:nvPicPr>
        <p:blipFill>
          <a:blip r:embed="rId1"/>
          <a:srcRect l="0" t="14109" r="4798" b="1336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234" name="TextBox 2" descr=""/>
          <p:cNvPicPr/>
          <p:nvPr/>
        </p:nvPicPr>
        <p:blipFill>
          <a:blip r:embed="rId2"/>
          <a:stretch/>
        </p:blipFill>
        <p:spPr>
          <a:xfrm>
            <a:off x="2189160" y="2000160"/>
            <a:ext cx="4108320" cy="1492200"/>
          </a:xfrm>
          <a:prstGeom prst="rect">
            <a:avLst/>
          </a:prstGeom>
          <a:ln w="0">
            <a:noFill/>
          </a:ln>
        </p:spPr>
      </p:pic>
      <p:pic>
        <p:nvPicPr>
          <p:cNvPr id="235" name="TextBox 3" descr=""/>
          <p:cNvPicPr/>
          <p:nvPr/>
        </p:nvPicPr>
        <p:blipFill>
          <a:blip r:embed="rId3"/>
          <a:stretch/>
        </p:blipFill>
        <p:spPr>
          <a:xfrm>
            <a:off x="1646280" y="3071880"/>
            <a:ext cx="52182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8000" y="952200"/>
            <a:ext cx="89280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7286760" y="250920"/>
            <a:ext cx="1388880" cy="261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0BF1-DC6E-4351-BB3A-AADFEF43DF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5145120"/>
            <a:chOff x="0" y="0"/>
            <a:chExt cx="9144000" cy="5145120"/>
          </a:xfrm>
        </p:grpSpPr>
        <p:pic>
          <p:nvPicPr>
            <p:cNvPr id="46" name="图片 2" descr="f969ecf988092d3a024f56cf.jpg"/>
            <p:cNvPicPr/>
            <p:nvPr/>
          </p:nvPicPr>
          <p:blipFill>
            <a:blip r:embed="rId1"/>
            <a:srcRect l="0" t="0" r="0" b="26777"/>
            <a:stretch/>
          </p:blipFill>
          <p:spPr>
            <a:xfrm>
              <a:off x="0" y="0"/>
              <a:ext cx="9144000" cy="5145120"/>
            </a:xfrm>
            <a:prstGeom prst="rect">
              <a:avLst/>
            </a:prstGeom>
            <a:ln w="9360">
              <a:solidFill>
                <a:srgbClr val="7030a0"/>
              </a:solidFill>
              <a:miter/>
            </a:ln>
          </p:spPr>
        </p:pic>
        <p:sp>
          <p:nvSpPr>
            <p:cNvPr id="47" name="矩形 18"/>
            <p:cNvSpPr/>
            <p:nvPr/>
          </p:nvSpPr>
          <p:spPr>
            <a:xfrm>
              <a:off x="71280" y="857160"/>
              <a:ext cx="9001440" cy="414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同侧圆角矩形 5"/>
          <p:cNvSpPr/>
          <p:nvPr/>
        </p:nvSpPr>
        <p:spPr>
          <a:xfrm rot="5400000">
            <a:off x="4757400" y="-1992240"/>
            <a:ext cx="492120" cy="6912000"/>
          </a:xfrm>
          <a:custGeom>
            <a:avLst/>
            <a:gdLst/>
            <a:ahLst/>
            <a:rect l="l" t="t" r="r" b="b"/>
            <a:pathLst>
              <a:path w="1314459" h="5266944">
                <a:moveTo>
                  <a:pt x="219081" y="0"/>
                </a:moveTo>
                <a:lnTo>
                  <a:pt x="1095378" y="0"/>
                </a:lnTo>
                <a:cubicBezTo>
                  <a:pt x="1216373" y="0"/>
                  <a:pt x="1314459" y="98086"/>
                  <a:pt x="1314459" y="219081"/>
                </a:cubicBezTo>
                <a:lnTo>
                  <a:pt x="1314459" y="5266944"/>
                </a:lnTo>
                <a:lnTo>
                  <a:pt x="0" y="5266944"/>
                </a:lnTo>
                <a:lnTo>
                  <a:pt x="0" y="219081"/>
                </a:lnTo>
                <a:cubicBezTo>
                  <a:pt x="0" y="98086"/>
                  <a:pt x="98086" y="0"/>
                  <a:pt x="219081" y="0"/>
                </a:cubicBezTo>
                <a:close/>
              </a:path>
            </a:pathLst>
          </a:custGeom>
          <a:noFill/>
          <a:ln w="19080">
            <a:solidFill>
              <a:srgbClr val="7030a0"/>
            </a:solidFill>
            <a:round/>
          </a:ln>
          <a:effectLst>
            <a:outerShdw dist="23040" dir="5400000" blurRad="0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同侧圆角矩形 5"/>
          <p:cNvSpPr/>
          <p:nvPr/>
        </p:nvSpPr>
        <p:spPr>
          <a:xfrm rot="5400000">
            <a:off x="4759200" y="-1271520"/>
            <a:ext cx="488880" cy="6912000"/>
          </a:xfrm>
          <a:custGeom>
            <a:avLst/>
            <a:gdLst/>
            <a:ahLst/>
            <a:rect l="l" t="t" r="r" b="b"/>
            <a:pathLst>
              <a:path w="1314459" h="5266944">
                <a:moveTo>
                  <a:pt x="219081" y="0"/>
                </a:moveTo>
                <a:lnTo>
                  <a:pt x="1095378" y="0"/>
                </a:lnTo>
                <a:cubicBezTo>
                  <a:pt x="1216373" y="0"/>
                  <a:pt x="1314459" y="98086"/>
                  <a:pt x="1314459" y="219081"/>
                </a:cubicBezTo>
                <a:lnTo>
                  <a:pt x="1314459" y="5266944"/>
                </a:lnTo>
                <a:lnTo>
                  <a:pt x="0" y="5266944"/>
                </a:lnTo>
                <a:lnTo>
                  <a:pt x="0" y="219081"/>
                </a:lnTo>
                <a:cubicBezTo>
                  <a:pt x="0" y="98086"/>
                  <a:pt x="98086" y="0"/>
                  <a:pt x="219081" y="0"/>
                </a:cubicBezTo>
                <a:close/>
              </a:path>
            </a:pathLst>
          </a:custGeom>
          <a:noFill/>
          <a:ln w="19080">
            <a:solidFill>
              <a:srgbClr val="7030a0"/>
            </a:solidFill>
            <a:round/>
          </a:ln>
          <a:effectLst>
            <a:outerShdw dist="23040" dir="5400000" blurRad="0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同侧圆角矩形 5"/>
          <p:cNvSpPr/>
          <p:nvPr/>
        </p:nvSpPr>
        <p:spPr>
          <a:xfrm rot="5400000">
            <a:off x="4757400" y="-568080"/>
            <a:ext cx="492120" cy="6912000"/>
          </a:xfrm>
          <a:custGeom>
            <a:avLst/>
            <a:gdLst/>
            <a:ahLst/>
            <a:rect l="l" t="t" r="r" b="b"/>
            <a:pathLst>
              <a:path w="1314459" h="5266944">
                <a:moveTo>
                  <a:pt x="219081" y="0"/>
                </a:moveTo>
                <a:lnTo>
                  <a:pt x="1095378" y="0"/>
                </a:lnTo>
                <a:cubicBezTo>
                  <a:pt x="1216373" y="0"/>
                  <a:pt x="1314459" y="98086"/>
                  <a:pt x="1314459" y="219081"/>
                </a:cubicBezTo>
                <a:lnTo>
                  <a:pt x="1314459" y="5266944"/>
                </a:lnTo>
                <a:lnTo>
                  <a:pt x="0" y="5266944"/>
                </a:lnTo>
                <a:lnTo>
                  <a:pt x="0" y="219081"/>
                </a:lnTo>
                <a:cubicBezTo>
                  <a:pt x="0" y="98086"/>
                  <a:pt x="98086" y="0"/>
                  <a:pt x="219081" y="0"/>
                </a:cubicBezTo>
                <a:close/>
              </a:path>
            </a:pathLst>
          </a:custGeom>
          <a:noFill/>
          <a:ln w="19080">
            <a:solidFill>
              <a:srgbClr val="7030a0"/>
            </a:solidFill>
            <a:round/>
          </a:ln>
          <a:effectLst>
            <a:outerShdw dist="23040" dir="5400000" blurRad="0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同侧圆角矩形 5"/>
          <p:cNvSpPr/>
          <p:nvPr/>
        </p:nvSpPr>
        <p:spPr>
          <a:xfrm rot="5400000">
            <a:off x="4757400" y="150480"/>
            <a:ext cx="492120" cy="6912000"/>
          </a:xfrm>
          <a:custGeom>
            <a:avLst/>
            <a:gdLst/>
            <a:ahLst/>
            <a:rect l="l" t="t" r="r" b="b"/>
            <a:pathLst>
              <a:path w="1314459" h="5266944">
                <a:moveTo>
                  <a:pt x="219081" y="0"/>
                </a:moveTo>
                <a:lnTo>
                  <a:pt x="1095378" y="0"/>
                </a:lnTo>
                <a:cubicBezTo>
                  <a:pt x="1216373" y="0"/>
                  <a:pt x="1314459" y="98086"/>
                  <a:pt x="1314459" y="219081"/>
                </a:cubicBezTo>
                <a:lnTo>
                  <a:pt x="1314459" y="5266944"/>
                </a:lnTo>
                <a:lnTo>
                  <a:pt x="0" y="5266944"/>
                </a:lnTo>
                <a:lnTo>
                  <a:pt x="0" y="219081"/>
                </a:lnTo>
                <a:cubicBezTo>
                  <a:pt x="0" y="98086"/>
                  <a:pt x="98086" y="0"/>
                  <a:pt x="219081" y="0"/>
                </a:cubicBezTo>
                <a:close/>
              </a:path>
            </a:pathLst>
          </a:custGeom>
          <a:noFill/>
          <a:ln w="19080">
            <a:solidFill>
              <a:srgbClr val="7030a0"/>
            </a:solidFill>
            <a:round/>
          </a:ln>
          <a:effectLst>
            <a:outerShdw dist="23040" dir="5400000" blurRad="0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同侧圆角矩形 5"/>
          <p:cNvSpPr/>
          <p:nvPr/>
        </p:nvSpPr>
        <p:spPr>
          <a:xfrm rot="5400000">
            <a:off x="4757400" y="871200"/>
            <a:ext cx="492120" cy="6912000"/>
          </a:xfrm>
          <a:custGeom>
            <a:avLst/>
            <a:gdLst/>
            <a:ahLst/>
            <a:rect l="l" t="t" r="r" b="b"/>
            <a:pathLst>
              <a:path w="1314459" h="5266944">
                <a:moveTo>
                  <a:pt x="219081" y="0"/>
                </a:moveTo>
                <a:lnTo>
                  <a:pt x="1095378" y="0"/>
                </a:lnTo>
                <a:cubicBezTo>
                  <a:pt x="1216373" y="0"/>
                  <a:pt x="1314459" y="98086"/>
                  <a:pt x="1314459" y="219081"/>
                </a:cubicBezTo>
                <a:lnTo>
                  <a:pt x="1314459" y="5266944"/>
                </a:lnTo>
                <a:lnTo>
                  <a:pt x="0" y="5266944"/>
                </a:lnTo>
                <a:lnTo>
                  <a:pt x="0" y="219081"/>
                </a:lnTo>
                <a:cubicBezTo>
                  <a:pt x="0" y="98086"/>
                  <a:pt x="98086" y="0"/>
                  <a:pt x="219081" y="0"/>
                </a:cubicBezTo>
                <a:close/>
              </a:path>
            </a:pathLst>
          </a:custGeom>
          <a:noFill/>
          <a:ln w="19080">
            <a:solidFill>
              <a:srgbClr val="7030a0"/>
            </a:solidFill>
            <a:round/>
          </a:ln>
          <a:effectLst>
            <a:outerShdw dist="23040" dir="5400000" blurRad="0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extBox 19" descr=""/>
          <p:cNvPicPr/>
          <p:nvPr/>
        </p:nvPicPr>
        <p:blipFill>
          <a:blip r:embed="rId2"/>
          <a:stretch/>
        </p:blipFill>
        <p:spPr>
          <a:xfrm>
            <a:off x="133200" y="244440"/>
            <a:ext cx="1079640" cy="547560"/>
          </a:xfrm>
          <a:prstGeom prst="rect">
            <a:avLst/>
          </a:prstGeom>
          <a:ln w="0">
            <a:noFill/>
          </a:ln>
        </p:spPr>
      </p:pic>
      <p:pic>
        <p:nvPicPr>
          <p:cNvPr id="54" name="圆角矩形 20" descr=""/>
          <p:cNvPicPr/>
          <p:nvPr/>
        </p:nvPicPr>
        <p:blipFill>
          <a:blip r:embed="rId3"/>
          <a:stretch/>
        </p:blipFill>
        <p:spPr>
          <a:xfrm>
            <a:off x="639720" y="1146240"/>
            <a:ext cx="1060560" cy="639720"/>
          </a:xfrm>
          <a:prstGeom prst="rect">
            <a:avLst/>
          </a:prstGeom>
          <a:ln w="0">
            <a:noFill/>
          </a:ln>
        </p:spPr>
      </p:pic>
      <p:pic>
        <p:nvPicPr>
          <p:cNvPr id="55" name="圆角矩形 21" descr=""/>
          <p:cNvPicPr/>
          <p:nvPr/>
        </p:nvPicPr>
        <p:blipFill>
          <a:blip r:embed="rId4"/>
          <a:stretch/>
        </p:blipFill>
        <p:spPr>
          <a:xfrm>
            <a:off x="639720" y="1859040"/>
            <a:ext cx="1060560" cy="639720"/>
          </a:xfrm>
          <a:prstGeom prst="rect">
            <a:avLst/>
          </a:prstGeom>
          <a:ln w="0">
            <a:noFill/>
          </a:ln>
        </p:spPr>
      </p:pic>
      <p:pic>
        <p:nvPicPr>
          <p:cNvPr id="56" name="圆角矩形 22" descr=""/>
          <p:cNvPicPr/>
          <p:nvPr/>
        </p:nvPicPr>
        <p:blipFill>
          <a:blip r:embed="rId5"/>
          <a:stretch/>
        </p:blipFill>
        <p:spPr>
          <a:xfrm>
            <a:off x="639720" y="2571840"/>
            <a:ext cx="1060560" cy="641160"/>
          </a:xfrm>
          <a:prstGeom prst="rect">
            <a:avLst/>
          </a:prstGeom>
          <a:ln w="0">
            <a:noFill/>
          </a:ln>
        </p:spPr>
      </p:pic>
      <p:pic>
        <p:nvPicPr>
          <p:cNvPr id="57" name="圆角矩形 23" descr=""/>
          <p:cNvPicPr/>
          <p:nvPr/>
        </p:nvPicPr>
        <p:blipFill>
          <a:blip r:embed="rId6"/>
          <a:stretch/>
        </p:blipFill>
        <p:spPr>
          <a:xfrm>
            <a:off x="639720" y="3286080"/>
            <a:ext cx="1060560" cy="646200"/>
          </a:xfrm>
          <a:prstGeom prst="rect">
            <a:avLst/>
          </a:prstGeom>
          <a:ln w="0">
            <a:noFill/>
          </a:ln>
        </p:spPr>
      </p:pic>
      <p:pic>
        <p:nvPicPr>
          <p:cNvPr id="58" name="圆角矩形 24" descr=""/>
          <p:cNvPicPr/>
          <p:nvPr/>
        </p:nvPicPr>
        <p:blipFill>
          <a:blip r:embed="rId7"/>
          <a:stretch/>
        </p:blipFill>
        <p:spPr>
          <a:xfrm>
            <a:off x="658800" y="3998880"/>
            <a:ext cx="10540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3778238_132359742000_2.jpg"/>
          <p:cNvPicPr/>
          <p:nvPr/>
        </p:nvPicPr>
        <p:blipFill>
          <a:blip r:embed="rId1"/>
          <a:srcRect l="2192" t="4178" r="1409" b="557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5145120"/>
            <a:chOff x="0" y="0"/>
            <a:chExt cx="9144000" cy="5145120"/>
          </a:xfrm>
        </p:grpSpPr>
        <p:pic>
          <p:nvPicPr>
            <p:cNvPr id="61" name="图片 2" descr="f969ecf988092d3a024f56cf.jpg"/>
            <p:cNvPicPr/>
            <p:nvPr/>
          </p:nvPicPr>
          <p:blipFill>
            <a:blip r:embed="rId1"/>
            <a:srcRect l="0" t="0" r="0" b="26777"/>
            <a:stretch/>
          </p:blipFill>
          <p:spPr>
            <a:xfrm>
              <a:off x="0" y="0"/>
              <a:ext cx="9144000" cy="51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矩形 3"/>
            <p:cNvSpPr/>
            <p:nvPr/>
          </p:nvSpPr>
          <p:spPr>
            <a:xfrm>
              <a:off x="71280" y="857160"/>
              <a:ext cx="9001440" cy="414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TextBox 4" descr=""/>
          <p:cNvPicPr/>
          <p:nvPr/>
        </p:nvPicPr>
        <p:blipFill>
          <a:blip r:embed="rId2"/>
          <a:stretch/>
        </p:blipFill>
        <p:spPr>
          <a:xfrm>
            <a:off x="133200" y="244440"/>
            <a:ext cx="1079640" cy="547560"/>
          </a:xfrm>
          <a:prstGeom prst="rect">
            <a:avLst/>
          </a:prstGeom>
          <a:ln w="0">
            <a:noFill/>
          </a:ln>
        </p:spPr>
      </p:pic>
      <p:pic>
        <p:nvPicPr>
          <p:cNvPr id="64" name="燕尾形 5" descr=""/>
          <p:cNvPicPr/>
          <p:nvPr/>
        </p:nvPicPr>
        <p:blipFill>
          <a:blip r:embed="rId3"/>
          <a:stretch/>
        </p:blipFill>
        <p:spPr>
          <a:xfrm>
            <a:off x="158760" y="3279600"/>
            <a:ext cx="2712960" cy="785880"/>
          </a:xfrm>
          <a:prstGeom prst="rect">
            <a:avLst/>
          </a:prstGeom>
          <a:ln w="0">
            <a:noFill/>
          </a:ln>
        </p:spPr>
      </p:pic>
      <p:pic>
        <p:nvPicPr>
          <p:cNvPr id="65" name="燕尾形 6" descr=""/>
          <p:cNvPicPr/>
          <p:nvPr/>
        </p:nvPicPr>
        <p:blipFill>
          <a:blip r:embed="rId4"/>
          <a:stretch/>
        </p:blipFill>
        <p:spPr>
          <a:xfrm>
            <a:off x="2176560" y="3279600"/>
            <a:ext cx="2712960" cy="785880"/>
          </a:xfrm>
          <a:prstGeom prst="rect">
            <a:avLst/>
          </a:prstGeom>
          <a:ln w="0">
            <a:noFill/>
          </a:ln>
        </p:spPr>
      </p:pic>
      <p:pic>
        <p:nvPicPr>
          <p:cNvPr id="66" name="燕尾形 7" descr=""/>
          <p:cNvPicPr/>
          <p:nvPr/>
        </p:nvPicPr>
        <p:blipFill>
          <a:blip r:embed="rId5"/>
          <a:stretch/>
        </p:blipFill>
        <p:spPr>
          <a:xfrm>
            <a:off x="4187880" y="3279600"/>
            <a:ext cx="2719440" cy="785880"/>
          </a:xfrm>
          <a:prstGeom prst="rect">
            <a:avLst/>
          </a:prstGeom>
          <a:ln w="0">
            <a:noFill/>
          </a:ln>
        </p:spPr>
      </p:pic>
      <p:pic>
        <p:nvPicPr>
          <p:cNvPr id="67" name="燕尾形 8" descr=""/>
          <p:cNvPicPr/>
          <p:nvPr/>
        </p:nvPicPr>
        <p:blipFill>
          <a:blip r:embed="rId6"/>
          <a:stretch/>
        </p:blipFill>
        <p:spPr>
          <a:xfrm>
            <a:off x="6205680" y="3279600"/>
            <a:ext cx="2712960" cy="78588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814320" y="1333440"/>
            <a:ext cx="1447920" cy="2270160"/>
            <a:chOff x="814320" y="1333440"/>
            <a:chExt cx="1447920" cy="2270160"/>
          </a:xfrm>
        </p:grpSpPr>
        <p:pic>
          <p:nvPicPr>
            <p:cNvPr id="69" name="AutoShape 81" descr=""/>
            <p:cNvPicPr/>
            <p:nvPr/>
          </p:nvPicPr>
          <p:blipFill>
            <a:blip r:embed="rId7"/>
            <a:stretch/>
          </p:blipFill>
          <p:spPr>
            <a:xfrm>
              <a:off x="814320" y="1656000"/>
              <a:ext cx="1447920" cy="19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圆角矩形 11" descr=""/>
            <p:cNvPicPr/>
            <p:nvPr/>
          </p:nvPicPr>
          <p:blipFill>
            <a:blip r:embed="rId8"/>
            <a:stretch/>
          </p:blipFill>
          <p:spPr>
            <a:xfrm>
              <a:off x="894960" y="1333440"/>
              <a:ext cx="1160280" cy="85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2" descr=""/>
            <p:cNvPicPr/>
            <p:nvPr/>
          </p:nvPicPr>
          <p:blipFill>
            <a:blip r:embed="rId9"/>
            <a:stretch/>
          </p:blipFill>
          <p:spPr>
            <a:xfrm>
              <a:off x="1295280" y="1446120"/>
              <a:ext cx="319320" cy="49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2857680" y="1311120"/>
            <a:ext cx="1449360" cy="2270160"/>
            <a:chOff x="2857680" y="1311120"/>
            <a:chExt cx="1449360" cy="2270160"/>
          </a:xfrm>
        </p:grpSpPr>
        <p:pic>
          <p:nvPicPr>
            <p:cNvPr id="73" name="AutoShape 81" descr=""/>
            <p:cNvPicPr/>
            <p:nvPr/>
          </p:nvPicPr>
          <p:blipFill>
            <a:blip r:embed="rId10"/>
            <a:stretch/>
          </p:blipFill>
          <p:spPr>
            <a:xfrm>
              <a:off x="2857680" y="1633680"/>
              <a:ext cx="1449360" cy="19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圆角矩形 15" descr=""/>
            <p:cNvPicPr/>
            <p:nvPr/>
          </p:nvPicPr>
          <p:blipFill>
            <a:blip r:embed="rId11"/>
            <a:stretch/>
          </p:blipFill>
          <p:spPr>
            <a:xfrm>
              <a:off x="2942640" y="1311120"/>
              <a:ext cx="1153440" cy="85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TextBox 16" descr=""/>
            <p:cNvPicPr/>
            <p:nvPr/>
          </p:nvPicPr>
          <p:blipFill>
            <a:blip r:embed="rId12"/>
            <a:stretch/>
          </p:blipFill>
          <p:spPr>
            <a:xfrm>
              <a:off x="3342240" y="1423800"/>
              <a:ext cx="309600" cy="49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4838760" y="1335240"/>
            <a:ext cx="1446120" cy="2266920"/>
            <a:chOff x="4838760" y="1335240"/>
            <a:chExt cx="1446120" cy="2266920"/>
          </a:xfrm>
        </p:grpSpPr>
        <p:pic>
          <p:nvPicPr>
            <p:cNvPr id="77" name="AutoShape 81" descr=""/>
            <p:cNvPicPr/>
            <p:nvPr/>
          </p:nvPicPr>
          <p:blipFill>
            <a:blip r:embed="rId13"/>
            <a:stretch/>
          </p:blipFill>
          <p:spPr>
            <a:xfrm>
              <a:off x="4838760" y="1657440"/>
              <a:ext cx="144612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圆角矩形 19" descr=""/>
            <p:cNvPicPr/>
            <p:nvPr/>
          </p:nvPicPr>
          <p:blipFill>
            <a:blip r:embed="rId14"/>
            <a:stretch/>
          </p:blipFill>
          <p:spPr>
            <a:xfrm>
              <a:off x="4924080" y="1335240"/>
              <a:ext cx="1154160" cy="84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TextBox 20" descr=""/>
            <p:cNvPicPr/>
            <p:nvPr/>
          </p:nvPicPr>
          <p:blipFill>
            <a:blip r:embed="rId15"/>
            <a:stretch/>
          </p:blipFill>
          <p:spPr>
            <a:xfrm>
              <a:off x="5319360" y="1447560"/>
              <a:ext cx="314280" cy="49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"/>
          <p:cNvGrpSpPr/>
          <p:nvPr/>
        </p:nvGrpSpPr>
        <p:grpSpPr>
          <a:xfrm>
            <a:off x="6865920" y="1335240"/>
            <a:ext cx="1446120" cy="2266920"/>
            <a:chOff x="6865920" y="1335240"/>
            <a:chExt cx="1446120" cy="2266920"/>
          </a:xfrm>
        </p:grpSpPr>
        <p:pic>
          <p:nvPicPr>
            <p:cNvPr id="81" name="AutoShape 81" descr=""/>
            <p:cNvPicPr/>
            <p:nvPr/>
          </p:nvPicPr>
          <p:blipFill>
            <a:blip r:embed="rId16"/>
            <a:stretch/>
          </p:blipFill>
          <p:spPr>
            <a:xfrm>
              <a:off x="6865920" y="1657440"/>
              <a:ext cx="144612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圆角矩形 23" descr=""/>
            <p:cNvPicPr/>
            <p:nvPr/>
          </p:nvPicPr>
          <p:blipFill>
            <a:blip r:embed="rId17"/>
            <a:stretch/>
          </p:blipFill>
          <p:spPr>
            <a:xfrm>
              <a:off x="6950880" y="1335240"/>
              <a:ext cx="1150560" cy="84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TextBox 24" descr=""/>
            <p:cNvPicPr/>
            <p:nvPr/>
          </p:nvPicPr>
          <p:blipFill>
            <a:blip r:embed="rId18"/>
            <a:stretch/>
          </p:blipFill>
          <p:spPr>
            <a:xfrm>
              <a:off x="7349400" y="1447560"/>
              <a:ext cx="313200" cy="49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4000" cy="5145120"/>
            <a:chOff x="0" y="0"/>
            <a:chExt cx="9144000" cy="5145120"/>
          </a:xfrm>
        </p:grpSpPr>
        <p:pic>
          <p:nvPicPr>
            <p:cNvPr id="85" name="图片 9" descr="f969ecf988092d3a024f56cf.jpg"/>
            <p:cNvPicPr/>
            <p:nvPr/>
          </p:nvPicPr>
          <p:blipFill>
            <a:blip r:embed="rId1"/>
            <a:srcRect l="0" t="0" r="0" b="26777"/>
            <a:stretch/>
          </p:blipFill>
          <p:spPr>
            <a:xfrm>
              <a:off x="0" y="0"/>
              <a:ext cx="9144000" cy="5145120"/>
            </a:xfrm>
            <a:prstGeom prst="rect">
              <a:avLst/>
            </a:prstGeom>
            <a:ln w="9360">
              <a:solidFill>
                <a:srgbClr val="7030a0"/>
              </a:solidFill>
              <a:miter/>
            </a:ln>
          </p:spPr>
        </p:pic>
        <p:sp>
          <p:nvSpPr>
            <p:cNvPr id="86" name="矩形 3"/>
            <p:cNvSpPr/>
            <p:nvPr/>
          </p:nvSpPr>
          <p:spPr>
            <a:xfrm>
              <a:off x="71280" y="857160"/>
              <a:ext cx="9001440" cy="414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TextBox 4" descr=""/>
          <p:cNvPicPr/>
          <p:nvPr/>
        </p:nvPicPr>
        <p:blipFill>
          <a:blip r:embed="rId2"/>
          <a:stretch/>
        </p:blipFill>
        <p:spPr>
          <a:xfrm>
            <a:off x="133200" y="244440"/>
            <a:ext cx="1079640" cy="54756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642960" y="1357200"/>
            <a:ext cx="7858080" cy="3144960"/>
            <a:chOff x="642960" y="1357200"/>
            <a:chExt cx="7858080" cy="3144960"/>
          </a:xfrm>
        </p:grpSpPr>
        <p:sp>
          <p:nvSpPr>
            <p:cNvPr id="89" name="AutoShape 85"/>
            <p:cNvSpPr/>
            <p:nvPr/>
          </p:nvSpPr>
          <p:spPr>
            <a:xfrm>
              <a:off x="4062240" y="3112920"/>
              <a:ext cx="1012680" cy="1378080"/>
            </a:xfrm>
            <a:custGeom>
              <a:avLst/>
              <a:gdLst>
                <a:gd name="textAreaLeft" fmla="*/ 25200 w 1012680"/>
                <a:gd name="textAreaRight" fmla="*/ 987480 w 1012680"/>
                <a:gd name="textAreaTop" fmla="*/ 25200 h 1378080"/>
                <a:gd name="textAreaBottom" fmla="*/ 1352880 h 1378080"/>
              </a:gdLst>
              <a:ahLst/>
              <a:rect l="textAreaLeft" t="textAreaTop" r="textAreaRight" b="textAreaBottom"/>
              <a:pathLst>
                <a:path w="21600" h="29391">
                  <a:moveTo>
                    <a:pt x="1853" y="0"/>
                  </a:moveTo>
                  <a:arcTo wR="1853" hR="1853" stAng="16200000" swAng="-5400000"/>
                  <a:lnTo>
                    <a:pt x="0" y="27538"/>
                  </a:lnTo>
                  <a:arcTo wR="1853" hR="1853" stAng="10800000" swAng="-5400000"/>
                  <a:lnTo>
                    <a:pt x="19747" y="29391"/>
                  </a:lnTo>
                  <a:arcTo wR="1853" hR="1853" stAng="5400000" swAng="-5400000"/>
                  <a:lnTo>
                    <a:pt x="21600" y="1853"/>
                  </a:lnTo>
                  <a:arcTo wR="1853" hR="1853" stAng="0" swAng="-5400000"/>
                  <a:close/>
                </a:path>
              </a:pathLst>
            </a:custGeom>
            <a:noFill/>
            <a:ln w="28440">
              <a:solidFill>
                <a:srgbClr val="7030a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85"/>
            <p:cNvSpPr/>
            <p:nvPr/>
          </p:nvSpPr>
          <p:spPr>
            <a:xfrm>
              <a:off x="2905200" y="3124080"/>
              <a:ext cx="1028520" cy="1378080"/>
            </a:xfrm>
            <a:custGeom>
              <a:avLst/>
              <a:gdLst>
                <a:gd name="textAreaLeft" fmla="*/ 25560 w 1028520"/>
                <a:gd name="textAreaRight" fmla="*/ 1002960 w 1028520"/>
                <a:gd name="textAreaTop" fmla="*/ 25560 h 1378080"/>
                <a:gd name="textAreaBottom" fmla="*/ 1352520 h 1378080"/>
              </a:gdLst>
              <a:ahLst/>
              <a:rect l="textAreaLeft" t="textAreaTop" r="textAreaRight" b="textAreaBottom"/>
              <a:pathLst>
                <a:path w="21600" h="28939">
                  <a:moveTo>
                    <a:pt x="1853" y="0"/>
                  </a:moveTo>
                  <a:arcTo wR="1853" hR="1853" stAng="16200000" swAng="-5400000"/>
                  <a:lnTo>
                    <a:pt x="0" y="27086"/>
                  </a:lnTo>
                  <a:arcTo wR="1853" hR="1853" stAng="10800000" swAng="-5400000"/>
                  <a:lnTo>
                    <a:pt x="19747" y="28939"/>
                  </a:lnTo>
                  <a:arcTo wR="1853" hR="1853" stAng="5400000" swAng="-5400000"/>
                  <a:lnTo>
                    <a:pt x="21600" y="1853"/>
                  </a:lnTo>
                  <a:arcTo wR="1853" hR="1853" stAng="0" swAng="-5400000"/>
                  <a:close/>
                </a:path>
              </a:pathLst>
            </a:custGeom>
            <a:noFill/>
            <a:ln w="28440">
              <a:solidFill>
                <a:srgbClr val="7030a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85"/>
            <p:cNvSpPr/>
            <p:nvPr/>
          </p:nvSpPr>
          <p:spPr>
            <a:xfrm>
              <a:off x="642960" y="3111480"/>
              <a:ext cx="1014120" cy="1379520"/>
            </a:xfrm>
            <a:custGeom>
              <a:avLst/>
              <a:gdLst>
                <a:gd name="textAreaLeft" fmla="*/ 25200 w 1014120"/>
                <a:gd name="textAreaRight" fmla="*/ 988920 w 1014120"/>
                <a:gd name="textAreaTop" fmla="*/ 25200 h 1379520"/>
                <a:gd name="textAreaBottom" fmla="*/ 1354320 h 1379520"/>
              </a:gdLst>
              <a:ahLst/>
              <a:rect l="textAreaLeft" t="textAreaTop" r="textAreaRight" b="textAreaBottom"/>
              <a:pathLst>
                <a:path w="21600" h="29380">
                  <a:moveTo>
                    <a:pt x="1853" y="0"/>
                  </a:moveTo>
                  <a:arcTo wR="1853" hR="1853" stAng="16200000" swAng="-5400000"/>
                  <a:lnTo>
                    <a:pt x="0" y="27527"/>
                  </a:lnTo>
                  <a:arcTo wR="1853" hR="1853" stAng="10800000" swAng="-5400000"/>
                  <a:lnTo>
                    <a:pt x="19747" y="29380"/>
                  </a:lnTo>
                  <a:arcTo wR="1853" hR="1853" stAng="5400000" swAng="-5400000"/>
                  <a:lnTo>
                    <a:pt x="21600" y="1853"/>
                  </a:lnTo>
                  <a:arcTo wR="1853" hR="1853" stAng="0" swAng="-5400000"/>
                  <a:close/>
                </a:path>
              </a:pathLst>
            </a:custGeom>
            <a:noFill/>
            <a:ln w="28440">
              <a:solidFill>
                <a:srgbClr val="7030a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85"/>
            <p:cNvSpPr/>
            <p:nvPr/>
          </p:nvSpPr>
          <p:spPr>
            <a:xfrm>
              <a:off x="7500960" y="3112920"/>
              <a:ext cx="1000080" cy="1378080"/>
            </a:xfrm>
            <a:custGeom>
              <a:avLst/>
              <a:gdLst>
                <a:gd name="textAreaLeft" fmla="*/ 24840 w 1000080"/>
                <a:gd name="textAreaRight" fmla="*/ 975240 w 1000080"/>
                <a:gd name="textAreaTop" fmla="*/ 24840 h 1378080"/>
                <a:gd name="textAreaBottom" fmla="*/ 1353240 h 1378080"/>
              </a:gdLst>
              <a:ahLst/>
              <a:rect l="textAreaLeft" t="textAreaTop" r="textAreaRight" b="textAreaBottom"/>
              <a:pathLst>
                <a:path w="21600" h="29761">
                  <a:moveTo>
                    <a:pt x="1853" y="0"/>
                  </a:moveTo>
                  <a:arcTo wR="1853" hR="1853" stAng="16200000" swAng="-5400000"/>
                  <a:lnTo>
                    <a:pt x="0" y="27908"/>
                  </a:lnTo>
                  <a:arcTo wR="1853" hR="1853" stAng="10800000" swAng="-5400000"/>
                  <a:lnTo>
                    <a:pt x="19747" y="29761"/>
                  </a:lnTo>
                  <a:arcTo wR="1853" hR="1853" stAng="5400000" swAng="-5400000"/>
                  <a:lnTo>
                    <a:pt x="21600" y="1853"/>
                  </a:lnTo>
                  <a:arcTo wR="1853" hR="1853" stAng="0" swAng="-5400000"/>
                  <a:close/>
                </a:path>
              </a:pathLst>
            </a:custGeom>
            <a:noFill/>
            <a:ln w="28440">
              <a:solidFill>
                <a:srgbClr val="7030a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85"/>
            <p:cNvSpPr/>
            <p:nvPr/>
          </p:nvSpPr>
          <p:spPr>
            <a:xfrm>
              <a:off x="5203800" y="3112920"/>
              <a:ext cx="1015920" cy="1378080"/>
            </a:xfrm>
            <a:custGeom>
              <a:avLst/>
              <a:gdLst>
                <a:gd name="textAreaLeft" fmla="*/ 25200 w 1015920"/>
                <a:gd name="textAreaRight" fmla="*/ 990720 w 1015920"/>
                <a:gd name="textAreaTop" fmla="*/ 25200 h 1378080"/>
                <a:gd name="textAreaBottom" fmla="*/ 1352880 h 1378080"/>
              </a:gdLst>
              <a:ahLst/>
              <a:rect l="textAreaLeft" t="textAreaTop" r="textAreaRight" b="textAreaBottom"/>
              <a:pathLst>
                <a:path w="21600" h="29297">
                  <a:moveTo>
                    <a:pt x="1853" y="0"/>
                  </a:moveTo>
                  <a:arcTo wR="1853" hR="1853" stAng="16200000" swAng="-5400000"/>
                  <a:lnTo>
                    <a:pt x="0" y="27444"/>
                  </a:lnTo>
                  <a:arcTo wR="1853" hR="1853" stAng="10800000" swAng="-5400000"/>
                  <a:lnTo>
                    <a:pt x="19747" y="29297"/>
                  </a:lnTo>
                  <a:arcTo wR="1853" hR="1853" stAng="5400000" swAng="-5400000"/>
                  <a:lnTo>
                    <a:pt x="21600" y="1853"/>
                  </a:lnTo>
                  <a:arcTo wR="1853" hR="1853" stAng="0" swAng="-5400000"/>
                  <a:close/>
                </a:path>
              </a:pathLst>
            </a:custGeom>
            <a:noFill/>
            <a:ln w="28440">
              <a:solidFill>
                <a:srgbClr val="7030a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924000" y="1357200"/>
              <a:ext cx="1295280" cy="1295640"/>
              <a:chOff x="3924000" y="1357200"/>
              <a:chExt cx="1295280" cy="1295640"/>
            </a:xfrm>
          </p:grpSpPr>
          <p:sp>
            <p:nvSpPr>
              <p:cNvPr id="95" name="AutoShape 85"/>
              <p:cNvSpPr/>
              <p:nvPr/>
            </p:nvSpPr>
            <p:spPr>
              <a:xfrm>
                <a:off x="3924000" y="1357200"/>
                <a:ext cx="1295280" cy="1295640"/>
              </a:xfrm>
              <a:custGeom>
                <a:avLst/>
                <a:gdLst>
                  <a:gd name="textAreaLeft" fmla="*/ 32400 w 1295280"/>
                  <a:gd name="textAreaRight" fmla="*/ 1262880 w 1295280"/>
                  <a:gd name="textAreaTop" fmla="*/ 32400 h 1295640"/>
                  <a:gd name="textAreaBottom" fmla="*/ 1263240 h 129564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1853" y="0"/>
                    </a:moveTo>
                    <a:arcTo wR="1853" hR="1853" stAng="16200000" swAng="-5400000"/>
                    <a:lnTo>
                      <a:pt x="0" y="19753"/>
                    </a:lnTo>
                    <a:arcTo wR="1853" hR="1853" stAng="10800000" swAng="-5400000"/>
                    <a:lnTo>
                      <a:pt x="19747" y="21606"/>
                    </a:lnTo>
                    <a:arcTo wR="1853" hR="1853" stAng="5400000" swAng="-5400000"/>
                    <a:lnTo>
                      <a:pt x="21600" y="1853"/>
                    </a:lnTo>
                    <a:arcTo wR="1853" hR="1853" stAng="0" swAng="-5400000"/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9360">
                <a:solidFill>
                  <a:srgbClr val="7030a0"/>
                </a:solidFill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86"/>
              <p:cNvSpPr/>
              <p:nvPr/>
            </p:nvSpPr>
            <p:spPr>
              <a:xfrm>
                <a:off x="3928680" y="1358640"/>
                <a:ext cx="1285920" cy="432000"/>
              </a:xfrm>
              <a:prstGeom prst="roundRect">
                <a:avLst>
                  <a:gd name="adj" fmla="val 209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AutoShape 85"/>
            <p:cNvSpPr/>
            <p:nvPr/>
          </p:nvSpPr>
          <p:spPr>
            <a:xfrm>
              <a:off x="1774800" y="3124080"/>
              <a:ext cx="1014120" cy="1378080"/>
            </a:xfrm>
            <a:custGeom>
              <a:avLst/>
              <a:gdLst>
                <a:gd name="textAreaLeft" fmla="*/ 25200 w 1014120"/>
                <a:gd name="textAreaRight" fmla="*/ 988920 w 1014120"/>
                <a:gd name="textAreaTop" fmla="*/ 25200 h 1378080"/>
                <a:gd name="textAreaBottom" fmla="*/ 1352880 h 1378080"/>
              </a:gdLst>
              <a:ahLst/>
              <a:rect l="textAreaLeft" t="textAreaTop" r="textAreaRight" b="textAreaBottom"/>
              <a:pathLst>
                <a:path w="21600" h="29349">
                  <a:moveTo>
                    <a:pt x="1853" y="0"/>
                  </a:moveTo>
                  <a:arcTo wR="1853" hR="1853" stAng="16200000" swAng="-5400000"/>
                  <a:lnTo>
                    <a:pt x="0" y="27496"/>
                  </a:lnTo>
                  <a:arcTo wR="1853" hR="1853" stAng="10800000" swAng="-5400000"/>
                  <a:lnTo>
                    <a:pt x="19747" y="29349"/>
                  </a:lnTo>
                  <a:arcTo wR="1853" hR="1853" stAng="5400000" swAng="-5400000"/>
                  <a:lnTo>
                    <a:pt x="21600" y="1853"/>
                  </a:lnTo>
                  <a:arcTo wR="1853" hR="1853" stAng="0" swAng="-5400000"/>
                  <a:close/>
                </a:path>
              </a:pathLst>
            </a:custGeom>
            <a:noFill/>
            <a:ln w="28440">
              <a:solidFill>
                <a:srgbClr val="7030a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85"/>
            <p:cNvSpPr/>
            <p:nvPr/>
          </p:nvSpPr>
          <p:spPr>
            <a:xfrm>
              <a:off x="6357960" y="3124080"/>
              <a:ext cx="1014120" cy="1378080"/>
            </a:xfrm>
            <a:custGeom>
              <a:avLst/>
              <a:gdLst>
                <a:gd name="textAreaLeft" fmla="*/ 25200 w 1014120"/>
                <a:gd name="textAreaRight" fmla="*/ 988920 w 1014120"/>
                <a:gd name="textAreaTop" fmla="*/ 25200 h 1378080"/>
                <a:gd name="textAreaBottom" fmla="*/ 1352880 h 1378080"/>
              </a:gdLst>
              <a:ahLst/>
              <a:rect l="textAreaLeft" t="textAreaTop" r="textAreaRight" b="textAreaBottom"/>
              <a:pathLst>
                <a:path w="21600" h="29349">
                  <a:moveTo>
                    <a:pt x="1853" y="0"/>
                  </a:moveTo>
                  <a:arcTo wR="1853" hR="1853" stAng="16200000" swAng="-5400000"/>
                  <a:lnTo>
                    <a:pt x="0" y="27496"/>
                  </a:lnTo>
                  <a:arcTo wR="1853" hR="1853" stAng="10800000" swAng="-5400000"/>
                  <a:lnTo>
                    <a:pt x="19747" y="29349"/>
                  </a:lnTo>
                  <a:arcTo wR="1853" hR="1853" stAng="5400000" swAng="-5400000"/>
                  <a:lnTo>
                    <a:pt x="21600" y="1853"/>
                  </a:lnTo>
                  <a:arcTo wR="1853" hR="1853" stAng="0" swAng="-5400000"/>
                  <a:close/>
                </a:path>
              </a:pathLst>
            </a:custGeom>
            <a:noFill/>
            <a:ln w="28440">
              <a:solidFill>
                <a:srgbClr val="7030a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142280" y="2286000"/>
              <a:ext cx="6859080" cy="837360"/>
              <a:chOff x="1142280" y="2286000"/>
              <a:chExt cx="6859080" cy="837360"/>
            </a:xfrm>
          </p:grpSpPr>
          <p:cxnSp>
            <p:nvCxnSpPr>
              <p:cNvPr id="100" name="직선 화살표 연결선 380"/>
              <p:cNvCxnSpPr/>
              <p:nvPr/>
            </p:nvCxnSpPr>
            <p:spPr>
              <a:xfrm flipV="1">
                <a:off x="4571640" y="2672280"/>
                <a:ext cx="3600" cy="451080"/>
              </a:xfrm>
              <a:prstGeom prst="straightConnector1">
                <a:avLst/>
              </a:prstGeom>
              <a:ln w="28440">
                <a:solidFill>
                  <a:srgbClr val="7030a0"/>
                </a:solidFill>
                <a:miter/>
                <a:tailEnd len="med" type="triangle" w="med"/>
              </a:ln>
            </p:spPr>
          </p:cxnSp>
          <p:cxnSp>
            <p:nvCxnSpPr>
              <p:cNvPr id="101" name="직선 화살표 연결선 382"/>
              <p:cNvCxnSpPr/>
              <p:nvPr/>
            </p:nvCxnSpPr>
            <p:spPr>
              <a:xfrm flipV="1">
                <a:off x="3353760" y="2306520"/>
                <a:ext cx="3600" cy="817200"/>
              </a:xfrm>
              <a:prstGeom prst="straightConnector1">
                <a:avLst/>
              </a:prstGeom>
              <a:ln w="28440">
                <a:solidFill>
                  <a:srgbClr val="7030a0"/>
                </a:solidFill>
                <a:miter/>
              </a:ln>
            </p:spPr>
          </p:cxnSp>
          <p:cxnSp>
            <p:nvCxnSpPr>
              <p:cNvPr id="102" name="직선 화살표 연결선 383"/>
              <p:cNvCxnSpPr/>
              <p:nvPr/>
            </p:nvCxnSpPr>
            <p:spPr>
              <a:xfrm flipV="1">
                <a:off x="1142280" y="2286000"/>
                <a:ext cx="3600" cy="817200"/>
              </a:xfrm>
              <a:prstGeom prst="straightConnector1">
                <a:avLst/>
              </a:prstGeom>
              <a:ln w="28440">
                <a:solidFill>
                  <a:srgbClr val="7030a0"/>
                </a:solidFill>
                <a:miter/>
              </a:ln>
            </p:spPr>
          </p:cxnSp>
          <p:cxnSp>
            <p:nvCxnSpPr>
              <p:cNvPr id="103" name="직선 화살표 연결선 384"/>
              <p:cNvCxnSpPr/>
              <p:nvPr/>
            </p:nvCxnSpPr>
            <p:spPr>
              <a:xfrm flipV="1">
                <a:off x="7998120" y="2286000"/>
                <a:ext cx="3600" cy="817200"/>
              </a:xfrm>
              <a:prstGeom prst="straightConnector1">
                <a:avLst/>
              </a:prstGeom>
              <a:ln w="28440">
                <a:solidFill>
                  <a:srgbClr val="7030a0"/>
                </a:solidFill>
                <a:miter/>
              </a:ln>
            </p:spPr>
          </p:cxnSp>
          <p:cxnSp>
            <p:nvCxnSpPr>
              <p:cNvPr id="104" name="직선 화살표 연결선 385"/>
              <p:cNvCxnSpPr/>
              <p:nvPr/>
            </p:nvCxnSpPr>
            <p:spPr>
              <a:xfrm flipV="1">
                <a:off x="5711760" y="2306520"/>
                <a:ext cx="3600" cy="817200"/>
              </a:xfrm>
              <a:prstGeom prst="straightConnector1">
                <a:avLst/>
              </a:prstGeom>
              <a:ln w="28440">
                <a:solidFill>
                  <a:srgbClr val="7030a0"/>
                </a:solidFill>
                <a:miter/>
              </a:ln>
            </p:spPr>
          </p:cxnSp>
          <p:cxnSp>
            <p:nvCxnSpPr>
              <p:cNvPr id="105" name="直接箭头连接符 34"/>
              <p:cNvCxnSpPr/>
              <p:nvPr/>
            </p:nvCxnSpPr>
            <p:spPr>
              <a:xfrm>
                <a:off x="1142280" y="2286360"/>
                <a:ext cx="2786760" cy="2160"/>
              </a:xfrm>
              <a:prstGeom prst="straightConnector1">
                <a:avLst/>
              </a:prstGeom>
              <a:ln w="28440">
                <a:solidFill>
                  <a:srgbClr val="7030a0"/>
                </a:solidFill>
                <a:miter/>
                <a:tailEnd len="med" type="arrow" w="med"/>
              </a:ln>
            </p:spPr>
          </p:cxnSp>
          <p:cxnSp>
            <p:nvCxnSpPr>
              <p:cNvPr id="106" name="직선 화살표 연결선 382"/>
              <p:cNvCxnSpPr/>
              <p:nvPr/>
            </p:nvCxnSpPr>
            <p:spPr>
              <a:xfrm flipV="1">
                <a:off x="6854760" y="2286000"/>
                <a:ext cx="3600" cy="817200"/>
              </a:xfrm>
              <a:prstGeom prst="straightConnector1">
                <a:avLst/>
              </a:prstGeom>
              <a:ln w="28440">
                <a:solidFill>
                  <a:srgbClr val="7030a0"/>
                </a:solidFill>
                <a:miter/>
              </a:ln>
            </p:spPr>
          </p:cxnSp>
          <p:cxnSp>
            <p:nvCxnSpPr>
              <p:cNvPr id="107" name="直接箭头连接符 42"/>
              <p:cNvCxnSpPr/>
              <p:nvPr/>
            </p:nvCxnSpPr>
            <p:spPr>
              <a:xfrm flipH="1" flipV="1">
                <a:off x="5214600" y="2286000"/>
                <a:ext cx="2786760" cy="2160"/>
              </a:xfrm>
              <a:prstGeom prst="straightConnector1">
                <a:avLst/>
              </a:prstGeom>
              <a:ln w="28440">
                <a:solidFill>
                  <a:srgbClr val="7030a0"/>
                </a:solidFill>
                <a:miter/>
                <a:tailEnd len="med" type="arrow" w="med"/>
              </a:ln>
            </p:spPr>
          </p:cxnSp>
          <p:cxnSp>
            <p:nvCxnSpPr>
              <p:cNvPr id="108" name="직선 화살표 연결선 382"/>
              <p:cNvCxnSpPr/>
              <p:nvPr/>
            </p:nvCxnSpPr>
            <p:spPr>
              <a:xfrm flipV="1">
                <a:off x="2282040" y="2286000"/>
                <a:ext cx="3600" cy="817200"/>
              </a:xfrm>
              <a:prstGeom prst="straightConnector1">
                <a:avLst/>
              </a:prstGeom>
              <a:ln w="28440">
                <a:solidFill>
                  <a:srgbClr val="7030a0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3778238_132359742000_2.jpg"/>
          <p:cNvPicPr/>
          <p:nvPr/>
        </p:nvPicPr>
        <p:blipFill>
          <a:blip r:embed="rId1"/>
          <a:srcRect l="2192" t="4178" r="1409" b="557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5145120"/>
            <a:chOff x="0" y="0"/>
            <a:chExt cx="9144000" cy="5145120"/>
          </a:xfrm>
        </p:grpSpPr>
        <p:pic>
          <p:nvPicPr>
            <p:cNvPr id="111" name="图片 9" descr="f969ecf988092d3a024f56cf.jpg"/>
            <p:cNvPicPr/>
            <p:nvPr/>
          </p:nvPicPr>
          <p:blipFill>
            <a:blip r:embed="rId1"/>
            <a:srcRect l="0" t="0" r="0" b="26777"/>
            <a:stretch/>
          </p:blipFill>
          <p:spPr>
            <a:xfrm>
              <a:off x="0" y="0"/>
              <a:ext cx="9144000" cy="5145120"/>
            </a:xfrm>
            <a:prstGeom prst="rect">
              <a:avLst/>
            </a:prstGeom>
            <a:ln w="9360">
              <a:solidFill>
                <a:srgbClr val="7030a0"/>
              </a:solidFill>
              <a:miter/>
            </a:ln>
          </p:spPr>
        </p:pic>
        <p:sp>
          <p:nvSpPr>
            <p:cNvPr id="112" name="矩形 9"/>
            <p:cNvSpPr/>
            <p:nvPr/>
          </p:nvSpPr>
          <p:spPr>
            <a:xfrm>
              <a:off x="71280" y="857160"/>
              <a:ext cx="9001440" cy="414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TextBox 10" descr=""/>
          <p:cNvPicPr/>
          <p:nvPr/>
        </p:nvPicPr>
        <p:blipFill>
          <a:blip r:embed="rId2"/>
          <a:stretch/>
        </p:blipFill>
        <p:spPr>
          <a:xfrm>
            <a:off x="133200" y="244440"/>
            <a:ext cx="1079640" cy="54756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1166760" y="1176480"/>
            <a:ext cx="6762960" cy="3325680"/>
            <a:chOff x="1166760" y="1176480"/>
            <a:chExt cx="6762960" cy="3325680"/>
          </a:xfrm>
        </p:grpSpPr>
        <p:pic>
          <p:nvPicPr>
            <p:cNvPr id="115" name="Picture 75" descr=""/>
            <p:cNvPicPr/>
            <p:nvPr/>
          </p:nvPicPr>
          <p:blipFill>
            <a:blip r:embed="rId3"/>
            <a:stretch/>
          </p:blipFill>
          <p:spPr>
            <a:xfrm>
              <a:off x="2309760" y="3482640"/>
              <a:ext cx="1023840" cy="10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Line 7"/>
            <p:cNvSpPr/>
            <p:nvPr/>
          </p:nvSpPr>
          <p:spPr>
            <a:xfrm>
              <a:off x="3395520" y="1716480"/>
              <a:ext cx="543600" cy="0"/>
            </a:xfrm>
            <a:prstGeom prst="line">
              <a:avLst/>
            </a:prstGeom>
            <a:ln cap="rnd" w="19080">
              <a:solidFill>
                <a:srgbClr val="5c411e"/>
              </a:solidFill>
              <a:custDash>
                <a:ds d="100000" sp="1000"/>
              </a:custDash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5191200" y="1716480"/>
              <a:ext cx="543600" cy="0"/>
            </a:xfrm>
            <a:prstGeom prst="line">
              <a:avLst/>
            </a:prstGeom>
            <a:ln cap="rnd" w="19080">
              <a:solidFill>
                <a:srgbClr val="5c411e"/>
              </a:solidFill>
              <a:custDash>
                <a:ds d="100000" sp="1000"/>
              </a:custDash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rc 9"/>
            <p:cNvSpPr/>
            <p:nvPr/>
          </p:nvSpPr>
          <p:spPr>
            <a:xfrm>
              <a:off x="6905880" y="1695600"/>
              <a:ext cx="503280" cy="5036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503640"/>
                <a:gd name="textAreaBottom" fmla="*/ 504000 h 503640"/>
              </a:gdLst>
              <a:ahLst/>
              <a:rect l="textAreaLeft" t="textAreaTop" r="textAreaRight" b="textAreaBottom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9080">
              <a:solidFill>
                <a:srgbClr val="5c411e"/>
              </a:solidFill>
              <a:custDash>
                <a:ds d="100000" sp="1000"/>
              </a:custDash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rc 11"/>
            <p:cNvSpPr/>
            <p:nvPr/>
          </p:nvSpPr>
          <p:spPr>
            <a:xfrm rot="5400000">
              <a:off x="6949440" y="3578040"/>
              <a:ext cx="503640" cy="448920"/>
            </a:xfrm>
            <a:custGeom>
              <a:avLst/>
              <a:gdLst>
                <a:gd name="textAreaLeft" fmla="*/ 0 w 503640"/>
                <a:gd name="textAreaRight" fmla="*/ 504000 w 50364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9080">
              <a:solidFill>
                <a:srgbClr val="5c411e"/>
              </a:solidFill>
              <a:custDash>
                <a:ds d="100000" sp="1000"/>
              </a:custDash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4"/>
            <p:cNvSpPr/>
            <p:nvPr/>
          </p:nvSpPr>
          <p:spPr>
            <a:xfrm>
              <a:off x="5147280" y="4054320"/>
              <a:ext cx="543600" cy="0"/>
            </a:xfrm>
            <a:prstGeom prst="line">
              <a:avLst/>
            </a:prstGeom>
            <a:ln cap="rnd" w="19080">
              <a:solidFill>
                <a:srgbClr val="5c411e"/>
              </a:solidFill>
              <a:custDash>
                <a:ds d="100000" sp="1000"/>
              </a:custDash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5"/>
            <p:cNvSpPr/>
            <p:nvPr/>
          </p:nvSpPr>
          <p:spPr>
            <a:xfrm>
              <a:off x="3432960" y="4054320"/>
              <a:ext cx="543600" cy="0"/>
            </a:xfrm>
            <a:prstGeom prst="line">
              <a:avLst/>
            </a:prstGeom>
            <a:ln cap="rnd" w="19080">
              <a:solidFill>
                <a:srgbClr val="5c411e"/>
              </a:solidFill>
              <a:custDash>
                <a:ds d="100000" sp="1000"/>
              </a:custDash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rc 17"/>
            <p:cNvSpPr/>
            <p:nvPr/>
          </p:nvSpPr>
          <p:spPr>
            <a:xfrm rot="10800000">
              <a:off x="1687320" y="3553920"/>
              <a:ext cx="503280" cy="4478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9080">
              <a:solidFill>
                <a:srgbClr val="5c411e"/>
              </a:solidFill>
              <a:custDash>
                <a:ds d="100000" sp="1000"/>
              </a:custDash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rc 18"/>
            <p:cNvSpPr/>
            <p:nvPr/>
          </p:nvSpPr>
          <p:spPr>
            <a:xfrm rot="16200000">
              <a:off x="1615680" y="1773000"/>
              <a:ext cx="559080" cy="44784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9080">
              <a:solidFill>
                <a:srgbClr val="5c411e"/>
              </a:solidFill>
              <a:custDash>
                <a:ds d="100000" sp="1000"/>
              </a:custDash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75" descr=""/>
            <p:cNvPicPr/>
            <p:nvPr/>
          </p:nvPicPr>
          <p:blipFill>
            <a:blip r:embed="rId4"/>
            <a:stretch/>
          </p:blipFill>
          <p:spPr>
            <a:xfrm>
              <a:off x="1166760" y="2410560"/>
              <a:ext cx="1023840" cy="10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75" descr=""/>
            <p:cNvPicPr/>
            <p:nvPr/>
          </p:nvPicPr>
          <p:blipFill>
            <a:blip r:embed="rId5"/>
            <a:stretch/>
          </p:blipFill>
          <p:spPr>
            <a:xfrm>
              <a:off x="2238120" y="1176480"/>
              <a:ext cx="1023840" cy="10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5" descr=""/>
            <p:cNvPicPr/>
            <p:nvPr/>
          </p:nvPicPr>
          <p:blipFill>
            <a:blip r:embed="rId6"/>
            <a:stretch/>
          </p:blipFill>
          <p:spPr>
            <a:xfrm>
              <a:off x="4048200" y="3482640"/>
              <a:ext cx="1023840" cy="10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75" descr=""/>
            <p:cNvPicPr/>
            <p:nvPr/>
          </p:nvPicPr>
          <p:blipFill>
            <a:blip r:embed="rId7"/>
            <a:stretch/>
          </p:blipFill>
          <p:spPr>
            <a:xfrm>
              <a:off x="5834160" y="1176480"/>
              <a:ext cx="1023840" cy="10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75" descr=""/>
            <p:cNvPicPr/>
            <p:nvPr/>
          </p:nvPicPr>
          <p:blipFill>
            <a:blip r:embed="rId8"/>
            <a:stretch/>
          </p:blipFill>
          <p:spPr>
            <a:xfrm>
              <a:off x="4048200" y="1176480"/>
              <a:ext cx="1023840" cy="10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75" descr=""/>
            <p:cNvPicPr/>
            <p:nvPr/>
          </p:nvPicPr>
          <p:blipFill>
            <a:blip r:embed="rId9"/>
            <a:stretch/>
          </p:blipFill>
          <p:spPr>
            <a:xfrm>
              <a:off x="6905880" y="2410560"/>
              <a:ext cx="1023840" cy="10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75" descr=""/>
            <p:cNvPicPr/>
            <p:nvPr/>
          </p:nvPicPr>
          <p:blipFill>
            <a:blip r:embed="rId10"/>
            <a:stretch/>
          </p:blipFill>
          <p:spPr>
            <a:xfrm>
              <a:off x="5905440" y="3482640"/>
              <a:ext cx="1023840" cy="10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"/>
          <p:cNvSpPr/>
          <p:nvPr/>
        </p:nvSpPr>
        <p:spPr>
          <a:xfrm>
            <a:off x="7522200" y="46609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9144000" cy="5145120"/>
            <a:chOff x="0" y="0"/>
            <a:chExt cx="9144000" cy="5145120"/>
          </a:xfrm>
        </p:grpSpPr>
        <p:pic>
          <p:nvPicPr>
            <p:cNvPr id="133" name="图片 9" descr="f969ecf988092d3a024f56cf.jpg"/>
            <p:cNvPicPr/>
            <p:nvPr/>
          </p:nvPicPr>
          <p:blipFill>
            <a:blip r:embed="rId1"/>
            <a:srcRect l="0" t="0" r="0" b="26777"/>
            <a:stretch/>
          </p:blipFill>
          <p:spPr>
            <a:xfrm>
              <a:off x="0" y="0"/>
              <a:ext cx="9144000" cy="5145120"/>
            </a:xfrm>
            <a:prstGeom prst="rect">
              <a:avLst/>
            </a:prstGeom>
            <a:ln w="9360">
              <a:solidFill>
                <a:srgbClr val="7030a0"/>
              </a:solidFill>
              <a:miter/>
            </a:ln>
          </p:spPr>
        </p:pic>
        <p:sp>
          <p:nvSpPr>
            <p:cNvPr id="134" name="矩形 3"/>
            <p:cNvSpPr/>
            <p:nvPr/>
          </p:nvSpPr>
          <p:spPr>
            <a:xfrm>
              <a:off x="71280" y="857160"/>
              <a:ext cx="9001440" cy="414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TextBox 4" descr=""/>
          <p:cNvPicPr/>
          <p:nvPr/>
        </p:nvPicPr>
        <p:blipFill>
          <a:blip r:embed="rId2"/>
          <a:stretch/>
        </p:blipFill>
        <p:spPr>
          <a:xfrm>
            <a:off x="133200" y="244440"/>
            <a:ext cx="1079640" cy="547560"/>
          </a:xfrm>
          <a:prstGeom prst="rect">
            <a:avLst/>
          </a:prstGeom>
          <a:ln w="0">
            <a:noFill/>
          </a:ln>
        </p:spPr>
      </p:pic>
      <p:pic>
        <p:nvPicPr>
          <p:cNvPr id="136" name="组合 5" descr=""/>
          <p:cNvPicPr/>
          <p:nvPr/>
        </p:nvPicPr>
        <p:blipFill>
          <a:blip r:embed="rId3"/>
          <a:stretch/>
        </p:blipFill>
        <p:spPr>
          <a:xfrm>
            <a:off x="2719440" y="1122480"/>
            <a:ext cx="332748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3778238_132359742000_2.jpg"/>
          <p:cNvPicPr/>
          <p:nvPr/>
        </p:nvPicPr>
        <p:blipFill>
          <a:blip r:embed="rId1"/>
          <a:srcRect l="2192" t="4178" r="1409" b="557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01:23:50Z</dcterms:created>
  <dc:creator>http://www.eeppt.com</dc:creator>
  <dc:description>ppt模板下载网站 http://www.eeppt.com</dc:description>
  <dc:language>en-US</dc:language>
  <cp:lastModifiedBy/>
  <dcterms:modified xsi:type="dcterms:W3CDTF">2015-06-14T09:52:41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