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B71-ABD3-4C4C-836A-1B959933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9A4-2A6A-4579-8DA4-7845FE50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C91-40F4-43FD-AED8-25C50FE0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3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56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67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3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56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D5C-6B39-4762-B9BC-BCD8D5E8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7395-DD67-4B20-AE2B-5768D644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A7B8-9C24-48B0-A8EB-EA5085E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FB77-6CED-4C2C-8ED5-A3BF1F1C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C9E1-B5A3-42F5-B94C-A37A7D8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CCB-3866-430C-A53F-88B8D00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093E-9B63-49E8-BD58-1DE04FA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935B-D460-4982-BB4E-3F80DC2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B4D-4A18-4FB7-81BB-3BFAFB1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5E7-72E9-4072-9263-1710E72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9690-9F2F-42F3-A7F9-88DBCBB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776D-F6CD-4F6B-9468-7BDC433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1739-6C2E-4F78-8899-E03F5E6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32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7560" y="106632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67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32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7560" y="3710160"/>
            <a:ext cx="225720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26FC-986F-46B5-B0D4-9395D8CB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220-64AF-4605-B38A-93C268E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664-F574-43ED-8432-7F82E198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B55-8EEC-4B72-98BF-A0C4D250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ED9-A79D-4349-B54A-5A0F11A3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F91-8D83-469C-A4C2-14B44E7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8800" y="371016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555-4C7A-4A93-81AB-F8393BD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672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8800" y="1066320"/>
            <a:ext cx="34207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6720" y="3710160"/>
            <a:ext cx="701028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B72-4E9F-4BA5-9296-8B746BD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547-45DA-4C98-93B0-CBFD6189E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96720" y="1066320"/>
            <a:ext cx="701028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24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1424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2" marL="1143000" indent="-228600">
              <a:spcBef>
                <a:spcPts val="601"/>
              </a:spcBef>
              <a:buClr>
                <a:srgbClr val="1424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3" marL="1600200" indent="-228600">
              <a:spcBef>
                <a:spcPts val="601"/>
              </a:spcBef>
              <a:buClr>
                <a:srgbClr val="14246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4" marL="2057400" indent="-228600">
              <a:spcBef>
                <a:spcPts val="601"/>
              </a:spcBef>
              <a:buClr>
                <a:srgbClr val="14246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2466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29718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266-0242-4ECE-BE55-D3C4EC9DD3DA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24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424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42466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466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142466"/>
              </a:solidFill>
              <a:latin typeface="黑体"/>
            </a:endParaRPr>
          </a:p>
          <a:p>
            <a:pPr lvl="3" marL="1371600" algn="ctr">
              <a:spcBef>
                <a:spcPts val="400"/>
              </a:spcBef>
              <a:buClr>
                <a:srgbClr val="142466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4" marL="1828800" algn="ctr">
              <a:spcBef>
                <a:spcPts val="400"/>
              </a:spcBef>
              <a:buClr>
                <a:srgbClr val="142466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2466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66720" y="29718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3D</a:t>
            </a: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动画人物课件</a:t>
            </a:r>
            <a:r>
              <a:rPr b="1" lang="zh-CN" sz="3200" spc="-1" strike="noStrike">
                <a:solidFill>
                  <a:srgbClr val="d4deba"/>
                </a:solidFill>
                <a:latin typeface="黑体"/>
              </a:rPr>
              <a:t>PPT</a:t>
            </a:r>
            <a:r>
              <a:rPr b="1" lang="en-US" sz="3200" spc="-1" strike="noStrike">
                <a:solidFill>
                  <a:srgbClr val="d4deba"/>
                </a:solidFill>
                <a:latin typeface="黑体"/>
              </a:rPr>
              <a:t>模板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39621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4deba"/>
                </a:solidFill>
                <a:latin typeface="黑体"/>
              </a:rPr>
              <a:t>幻灯片之家 </a:t>
            </a:r>
            <a:r>
              <a:rPr b="1" lang="zh-CN" sz="2000" spc="-1" strike="noStrike">
                <a:solidFill>
                  <a:srgbClr val="d4deba"/>
                </a:solidFill>
                <a:latin typeface="黑体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8840"/>
            <a:ext cx="71625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4246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8840"/>
            <a:ext cx="71625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4771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34290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deba"/>
                </a:solidFill>
                <a:latin typeface="黑体"/>
                <a:ea typeface="宋体"/>
              </a:rPr>
              <a:t>The end,thank you!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18480" y="2514600"/>
            <a:ext cx="2149200" cy="2343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66720" y="39621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1" lang="en-US" sz="5400" spc="-1" strike="noStrike">
              <a:solidFill>
                <a:srgbClr val="d4deba"/>
              </a:solidFill>
              <a:latin typeface="黑体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819520" y="43434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04920" y="1371600"/>
            <a:ext cx="218736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2149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deba"/>
                </a:solidFill>
                <a:latin typeface="黑体"/>
              </a:rPr>
              <a:t>使用规范说明</a:t>
            </a:r>
            <a:endParaRPr b="1" lang="en-US" sz="3200" spc="-1" strike="noStrike">
              <a:solidFill>
                <a:srgbClr val="d4deba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黑体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黑体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黑体"/>
              </a:rPr>
              <a:t>：</a:t>
            </a: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42466"/>
              </a:solidFill>
              <a:latin typeface="黑体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67B-AC3F-4D88-A6FC-53AF975D0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5:33:31Z</dcterms:created>
  <dc:creator/>
  <dc:description/>
  <dc:language>en-US</dc:language>
  <cp:lastModifiedBy>eclipse</cp:lastModifiedBy>
  <dcterms:modified xsi:type="dcterms:W3CDTF">2015-07-04T08:48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