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EC5-02D3-4C71-96B7-37DE18B0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2D4-DEDC-4C48-9EDF-5ED7116D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F9B-656D-418B-B0FA-2EBEAE22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995-EFAB-40D5-93FF-88F7351E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3AE-C605-4DEE-819A-F9E88FC3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BD0D-35C2-40E5-9766-A8D56B05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029-9DAF-4C7A-A598-A874F548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078-D1FB-4BC0-B39F-989E65A3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6B54-534A-42FE-8E3F-B948AB87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D8F5-E54D-4CF5-BE91-26933E95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675-0150-464C-BC9A-D81779B4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540-F05B-4987-87DB-108FCB9A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9B4F-96BC-4254-96E1-83BD6D8C7D5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05CE-B343-4C20-8A89-4B1AC65762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jianjie/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1187280" y="0"/>
            <a:ext cx="109800" cy="558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936880" y="2155680"/>
            <a:ext cx="108000" cy="470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6"/>
          <p:cNvSpPr/>
          <p:nvPr/>
        </p:nvSpPr>
        <p:spPr>
          <a:xfrm>
            <a:off x="1646280" y="40464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7"/>
          <p:cNvSpPr/>
          <p:nvPr/>
        </p:nvSpPr>
        <p:spPr>
          <a:xfrm>
            <a:off x="1646280" y="123336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8"/>
          <p:cNvSpPr/>
          <p:nvPr/>
        </p:nvSpPr>
        <p:spPr>
          <a:xfrm>
            <a:off x="1646280" y="206208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"/>
          <p:cNvSpPr/>
          <p:nvPr/>
        </p:nvSpPr>
        <p:spPr>
          <a:xfrm>
            <a:off x="1646280" y="289080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0"/>
          <p:cNvSpPr/>
          <p:nvPr/>
        </p:nvSpPr>
        <p:spPr>
          <a:xfrm>
            <a:off x="1646280" y="371808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1"/>
          <p:cNvSpPr/>
          <p:nvPr/>
        </p:nvSpPr>
        <p:spPr>
          <a:xfrm>
            <a:off x="1646280" y="454644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4962600" y="2890800"/>
            <a:ext cx="72374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5"/>
          <p:cNvSpPr/>
          <p:nvPr/>
        </p:nvSpPr>
        <p:spPr>
          <a:xfrm flipV="1">
            <a:off x="6262560" y="3189960"/>
            <a:ext cx="593748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6"/>
          <p:cNvSpPr/>
          <p:nvPr/>
        </p:nvSpPr>
        <p:spPr>
          <a:xfrm>
            <a:off x="7205760" y="3490920"/>
            <a:ext cx="499428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7"/>
          <p:cNvSpPr/>
          <p:nvPr/>
        </p:nvSpPr>
        <p:spPr>
          <a:xfrm>
            <a:off x="7807320" y="3790800"/>
            <a:ext cx="43927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8"/>
          <p:cNvSpPr/>
          <p:nvPr/>
        </p:nvSpPr>
        <p:spPr>
          <a:xfrm>
            <a:off x="10580760" y="6372360"/>
            <a:ext cx="145800" cy="48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"/>
          <p:cNvSpPr/>
          <p:nvPr/>
        </p:nvSpPr>
        <p:spPr>
          <a:xfrm>
            <a:off x="0" y="2890800"/>
            <a:ext cx="12200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"/>
          <p:cNvSpPr/>
          <p:nvPr/>
        </p:nvSpPr>
        <p:spPr>
          <a:xfrm flipV="1">
            <a:off x="0" y="3189960"/>
            <a:ext cx="12200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"/>
          <p:cNvSpPr/>
          <p:nvPr/>
        </p:nvSpPr>
        <p:spPr>
          <a:xfrm flipV="1">
            <a:off x="0" y="3491280"/>
            <a:ext cx="12200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"/>
          <p:cNvSpPr/>
          <p:nvPr/>
        </p:nvSpPr>
        <p:spPr>
          <a:xfrm flipV="1">
            <a:off x="0" y="3790440"/>
            <a:ext cx="12200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5"/>
          <p:cNvSpPr/>
          <p:nvPr/>
        </p:nvSpPr>
        <p:spPr>
          <a:xfrm>
            <a:off x="1562040" y="1257480"/>
            <a:ext cx="35434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目录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6"/>
          <p:cNvSpPr/>
          <p:nvPr/>
        </p:nvSpPr>
        <p:spPr>
          <a:xfrm>
            <a:off x="5105520" y="2076480"/>
            <a:ext cx="34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cont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7"/>
          <p:cNvSpPr/>
          <p:nvPr/>
        </p:nvSpPr>
        <p:spPr>
          <a:xfrm>
            <a:off x="47628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1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8"/>
          <p:cNvSpPr/>
          <p:nvPr/>
        </p:nvSpPr>
        <p:spPr>
          <a:xfrm>
            <a:off x="335916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2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具体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9"/>
          <p:cNvSpPr/>
          <p:nvPr/>
        </p:nvSpPr>
        <p:spPr>
          <a:xfrm>
            <a:off x="624204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3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注意事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0"/>
          <p:cNvSpPr/>
          <p:nvPr/>
        </p:nvSpPr>
        <p:spPr>
          <a:xfrm>
            <a:off x="912492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4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总结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"/>
          <p:cNvSpPr/>
          <p:nvPr/>
        </p:nvSpPr>
        <p:spPr>
          <a:xfrm flipV="1">
            <a:off x="0" y="2890440"/>
            <a:ext cx="31622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"/>
          <p:cNvSpPr/>
          <p:nvPr/>
        </p:nvSpPr>
        <p:spPr>
          <a:xfrm>
            <a:off x="628560" y="33984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1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"/>
          <p:cNvSpPr/>
          <p:nvPr/>
        </p:nvSpPr>
        <p:spPr>
          <a:xfrm>
            <a:off x="3162240" y="1181160"/>
            <a:ext cx="36720" cy="56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314880" y="3009960"/>
            <a:ext cx="36360" cy="256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3467160" y="3409920"/>
            <a:ext cx="36360" cy="179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6686640" y="1638360"/>
            <a:ext cx="5505480" cy="47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0"/>
          <p:cNvSpPr/>
          <p:nvPr/>
        </p:nvSpPr>
        <p:spPr>
          <a:xfrm>
            <a:off x="6686640" y="6365880"/>
            <a:ext cx="5505480" cy="47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700"/>
                            </p:stCondLst>
                            <p:childTnLst>
                              <p:par>
                                <p:cTn id="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900"/>
                            </p:stCondLst>
                            <p:childTnLst>
                              <p:par>
                                <p:cTn id="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100"/>
                            </p:stCondLst>
                            <p:childTnLst>
                              <p:par>
                                <p:cTn id="2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5E-006 -1.11111E-006 L 1.25E-006 0.07292 E">
                                      <p:cBhvr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25E-006 -2.96296E-006 L 1.25E-006 -0.075 E">
                                      <p:cBhvr>
                                        <p:cTn id="36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3160800" y="-5448240"/>
            <a:ext cx="3636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"/>
          <p:cNvSpPr/>
          <p:nvPr/>
        </p:nvSpPr>
        <p:spPr>
          <a:xfrm>
            <a:off x="3197160" y="160956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2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具体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4"/>
          <p:cNvSpPr/>
          <p:nvPr/>
        </p:nvSpPr>
        <p:spPr>
          <a:xfrm rot="1539600">
            <a:off x="7445160" y="-993600"/>
            <a:ext cx="2247840" cy="888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 rot="2905200">
            <a:off x="8985600" y="309960"/>
            <a:ext cx="2247840" cy="837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 rot="1436400">
            <a:off x="10089720" y="1704600"/>
            <a:ext cx="2247840" cy="837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9" descr=""/>
          <p:cNvPicPr/>
          <p:nvPr/>
        </p:nvPicPr>
        <p:blipFill>
          <a:blip r:embed="rId1"/>
          <a:stretch/>
        </p:blipFill>
        <p:spPr>
          <a:xfrm>
            <a:off x="8166240" y="2160720"/>
            <a:ext cx="3535200" cy="4381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76320" y="2762280"/>
            <a:ext cx="5756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简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"/>
                            </p:stCondLst>
                            <p:childTnLst>
                              <p:par>
                                <p:cTn id="5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"/>
                            </p:stCondLst>
                            <p:childTnLst>
                              <p:par>
                                <p:cTn id="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"/>
                            </p:stCondLst>
                            <p:childTnLst>
                              <p:par>
                                <p:cTn id="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91667E-006 3.33333E-006 L 2.91667E-006 0.70069 E">
                                      <p:cBhvr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"/>
          <p:cNvSpPr/>
          <p:nvPr/>
        </p:nvSpPr>
        <p:spPr>
          <a:xfrm>
            <a:off x="3160800" y="-343080"/>
            <a:ext cx="3636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3313080" y="-343080"/>
            <a:ext cx="3672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3465360" y="-343080"/>
            <a:ext cx="3672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4"/>
          <p:cNvSpPr/>
          <p:nvPr/>
        </p:nvSpPr>
        <p:spPr>
          <a:xfrm>
            <a:off x="511200" y="66996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3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注意事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 rot="5400000">
            <a:off x="6157080" y="-1251720"/>
            <a:ext cx="36720" cy="129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 rot="5400000">
            <a:off x="6157080" y="-1099080"/>
            <a:ext cx="36360" cy="129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 rot="5400000">
            <a:off x="6157080" y="-946800"/>
            <a:ext cx="36360" cy="129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p:transition spd="slow">
    <p:push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"/>
                            </p:stCondLst>
                            <p:childTnLst>
                              <p:par>
                                <p:cTn id="9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"/>
                            </p:stCondLst>
                            <p:childTnLst>
                              <p:par>
                                <p:cTn id="9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00"/>
                            </p:stCondLst>
                            <p:childTnLst>
                              <p:par>
                                <p:cTn id="10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"/>
                            </p:stCondLst>
                            <p:childTnLst>
                              <p:par>
                                <p:cTn id="10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800"/>
                            </p:stCondLst>
                            <p:childTnLst>
                              <p:par>
                                <p:cTn id="1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00"/>
                            </p:stCondLst>
                            <p:childTnLst>
                              <p:par>
                                <p:cTn id="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400"/>
                            </p:stCondLst>
                            <p:childTnLst>
                              <p:par>
                                <p:cTn id="1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700"/>
                            </p:stCondLst>
                            <p:childTnLst>
                              <p:par>
                                <p:cTn id="1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300"/>
                            </p:stCondLst>
                            <p:childTnLst>
                              <p:par>
                                <p:cTn id="1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600"/>
                            </p:stCondLst>
                            <p:childTnLst>
                              <p:par>
                                <p:cTn id="1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900"/>
                            </p:stCondLst>
                            <p:childTnLst>
                              <p:par>
                                <p:cTn id="1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527-D3FB-4A04-9678-D6355E8014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"/>
          <p:cNvSpPr/>
          <p:nvPr/>
        </p:nvSpPr>
        <p:spPr>
          <a:xfrm rot="5400000">
            <a:off x="6157080" y="-1251720"/>
            <a:ext cx="36720" cy="129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"/>
          <p:cNvSpPr/>
          <p:nvPr/>
        </p:nvSpPr>
        <p:spPr>
          <a:xfrm rot="5400000">
            <a:off x="6157080" y="-1099080"/>
            <a:ext cx="36360" cy="129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 rot="5400000">
            <a:off x="6157080" y="-946800"/>
            <a:ext cx="36360" cy="129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5"/>
          <p:cNvSpPr/>
          <p:nvPr/>
        </p:nvSpPr>
        <p:spPr>
          <a:xfrm>
            <a:off x="912492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4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总结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1"/>
          <p:cNvSpPr/>
          <p:nvPr/>
        </p:nvSpPr>
        <p:spPr>
          <a:xfrm>
            <a:off x="3863880" y="1003320"/>
            <a:ext cx="5634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谢谢观赏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9390240" y="-82440"/>
            <a:ext cx="107640" cy="470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2571840" y="2155680"/>
            <a:ext cx="108000" cy="470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10580760" y="6372360"/>
            <a:ext cx="145800" cy="48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2:04:00Z</dcterms:created>
  <dc:creator/>
  <dc:description/>
  <dc:language>en-US</dc:language>
  <cp:lastModifiedBy/>
  <dcterms:modified xsi:type="dcterms:W3CDTF">2015-07-03T23:53:21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