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0CC-745E-4617-82B0-9144A586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562-8207-4B8F-B58C-BB51A6F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B83-74D9-4F83-93AE-32275063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F44-54FD-4A7D-B4F1-061615AE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D24-3C42-48BA-800A-7217DE2C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A5C4-7345-4FBF-8131-C321498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63D-2C44-45AA-B547-C615687C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D70-BEDA-4533-8B68-4F678400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4AAA-DB89-4AE7-AE42-0C2D5A2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88F-CD0E-46E0-B332-DDF3A843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7CA7-E2B1-46E4-ACD2-8E19ECD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743-A821-4449-B598-B879E738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4C68-D3C0-4AFD-9F05-D19D122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C18-DDCC-4C25-B5E8-D69E420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51F-DF9C-4FF9-9AF3-41672D7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EFCB-A5C7-4098-97F9-73ED0942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006F-612B-4FA8-B37F-1EE181CA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CAA-85C7-4A69-87ED-3893D21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B34-51DC-42DB-BE54-89DF5CE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915-0F95-4C05-BB16-46806382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C8D-C811-4AEF-8030-40D06F4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4AF-9DF3-4473-B1F4-C078B9D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C23-4CA2-4337-9448-5BEB2FF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53A-58B2-405B-9A6C-B316F65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EC9-6C44-46C5-9286-CFEAA0DE58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D21C-09D8-45C6-A4B4-992740B0A2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gongzuo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5640" y="2707920"/>
            <a:ext cx="6697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简洁风格工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2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3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4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5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40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3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6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9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2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5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8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61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4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7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3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4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9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0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5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6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1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2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8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1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4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476280"/>
            <a:ext cx="652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月度工作总结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0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2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6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0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3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5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9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1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2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7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9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3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8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10"/>
              <p:cNvSpPr/>
              <p:nvPr/>
            </p:nvSpPr>
            <p:spPr>
              <a:xfrm rot="13500000">
                <a:off x="87264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0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1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5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6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8"/>
              <p:cNvSpPr/>
              <p:nvPr/>
            </p:nvSpPr>
            <p:spPr>
              <a:xfrm rot="13500000">
                <a:off x="520920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8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19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2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5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8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1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4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7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0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3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6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49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2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5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8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1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4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8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1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4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7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0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3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6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89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2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7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0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4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8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2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5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8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1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4F8-BF54-4F13-8BA8-290A5ABC2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An</dc:creator>
  <dc:description/>
  <dc:language>en-US</dc:language>
  <cp:lastModifiedBy/>
  <dcterms:modified xsi:type="dcterms:W3CDTF">2015-07-04T09:07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