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4D6-4EE9-449B-946B-0D91F4D2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3E7-8376-49B1-80BD-A6A36A5A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EDD-F344-45F1-865F-7921067C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46A-91DE-40BF-980E-045AF31E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6BE-3177-4373-9155-1037C9AC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59F-B04F-4EBC-8E8D-F13EE5AA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4E6-50A1-49CF-8DE9-EFB9D878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4B7-395A-40FD-9781-114BFA6A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ACA-7923-4BF1-B651-9B1F9277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23E-83D9-4DBC-9596-B8FD661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FF8-13E1-466D-A176-4266F03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025-0039-4FB0-BC88-BDAFF3A0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E252-E6D2-48F4-9EBA-28846E0F808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00"/>
                </a:solidFill>
                <a:latin typeface="华文隶书"/>
                <a:ea typeface="华文隶书"/>
              </a:rPr>
              <a:t>精美插画幻灯片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02240" y="338940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DAC-76D2-4035-A212-D93B5EE85D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28:1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7-04T09:08:38Z</dcterms:modified>
  <cp:revision>6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