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0F2C-34F4-4924-8067-8D0A1D4A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8CAF-3B60-4B9A-BD5A-14DA396F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6314-A7BC-4E1B-8ECB-44C1A6955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D93D-6EA6-4EDC-852E-4EB2C3715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A6B4-7DBB-4A7B-89C5-7C36E675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897D-DF77-4142-B888-6F8ED8A7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1783-35AF-4F7F-A718-DC7A95E3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EDE3-09E6-45E8-87EC-AE000C8A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8A5B-F956-45E3-9E97-3AD846AC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A779-0F8C-4760-B090-4C9888E8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62A7-017B-43D7-AB41-C284872F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5864-B4EB-402E-99FE-04CB7EC7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EFEA-D23C-42D5-915A-77CECDADF1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14720" y="1643040"/>
            <a:ext cx="528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精美礼盒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18320" y="2637000"/>
            <a:ext cx="33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107E-0457-4848-8AFE-76BA695124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An</dc:creator>
  <dc:description/>
  <dc:language>en-US</dc:language>
  <cp:lastModifiedBy/>
  <dcterms:modified xsi:type="dcterms:W3CDTF">2015-07-04T09:08:47Z</dcterms:modified>
  <cp:revision>8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