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FF0B-F419-4450-8D22-1F4790073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619280" y="381168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3B09-5235-460B-B3AD-C3227997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30892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60EF-912E-46D4-BFBA-D69075ADD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05396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488640" y="76500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61928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05396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488640" y="3811680"/>
            <a:ext cx="23184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7454-4C35-47F9-B59A-628E72C2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B66A-2224-44DD-AC1A-A4BDD3ABB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6087-5749-407A-96BD-EB89FD53C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3EAC-1BA2-4FBE-9B06-DF61CA849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00C5-30FD-47ED-AA72-D77BFFE93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979280" y="115560"/>
            <a:ext cx="6840360" cy="267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50000"/>
              </a:lnSpc>
              <a:spcBef>
                <a:spcPts val="451"/>
              </a:spcBef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F236-4BB6-4C68-A843-8694ED4D0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246-6479-4E60-B0A5-6FECB0E01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308920" y="381168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03956-B473-4098-911F-DC005A69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61928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08920" y="765000"/>
            <a:ext cx="351360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619280" y="3811680"/>
            <a:ext cx="7200720" cy="278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8981-81FC-4601-85A9-71FFFDF9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"/>
          <p:cNvPicPr/>
          <p:nvPr/>
        </p:nvPicPr>
        <p:blipFill>
          <a:blip r:embed="rId2"/>
          <a:srcRect l="0" t="0" r="288" b="1642"/>
          <a:stretch/>
        </p:blipFill>
        <p:spPr>
          <a:xfrm>
            <a:off x="-7920" y="-4680"/>
            <a:ext cx="9151920" cy="6862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979280" y="115560"/>
            <a:ext cx="6840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en-US" sz="2400" spc="-1" strike="noStrike">
                <a:solidFill>
                  <a:srgbClr val="3c3c3c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</a:tabLst>
              <a:defRPr b="1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</a:tabLst>
            </a:pPr>
            <a:fld id="{50F7F487-DDC4-4FE9-A778-DC65112EC10E}" type="datetime">
              <a:rPr b="1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26/7/28</a:t>
            </a:fld>
            <a:endParaRPr b="1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</a:tabLst>
            </a:pP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</a:tabLst>
              <a:defRPr b="1" lang="zh-CN" sz="12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</a:tabLst>
            </a:pPr>
            <a:fld id="{648FC391-DC43-4970-8334-EDDA12605693}" type="slidenum">
              <a:rPr b="1" lang="zh-CN" sz="12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1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619280" y="765000"/>
            <a:ext cx="720072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2" marL="9144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3" marL="13716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4" marL="182880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5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  <a:p>
            <a:pPr lvl="6" marL="1828800">
              <a:lnSpc>
                <a:spcPct val="150000"/>
              </a:lnSpc>
              <a:spcBef>
                <a:spcPts val="451"/>
              </a:spcBef>
              <a:buClr>
                <a:srgbClr val="262626"/>
              </a:buClr>
              <a:buSzPct val="25000"/>
              <a:buFont typeface="Arial"/>
              <a:buChar char="•"/>
            </a:pPr>
            <a:r>
              <a:rPr b="0" lang="en-US" sz="1800" spc="-1" strike="noStrike">
                <a:solidFill>
                  <a:srgbClr val="3c3c3c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moban/gongzuo/" TargetMode="External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www.eeppt.com/moban/gongzuo/" TargetMode="External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7" descr=""/>
          <p:cNvPicPr/>
          <p:nvPr/>
        </p:nvPicPr>
        <p:blipFill>
          <a:blip r:embed="rId1"/>
          <a:srcRect l="576" t="390" r="576" b="2090"/>
          <a:stretch/>
        </p:blipFill>
        <p:spPr>
          <a:xfrm>
            <a:off x="1908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575160"/>
            <a:ext cx="81374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5400" spc="-1" strike="noStrike">
                <a:solidFill>
                  <a:srgbClr val="3b3b3b"/>
                </a:solidFill>
                <a:latin typeface="微软雅黑"/>
                <a:ea typeface="微软雅黑"/>
              </a:rPr>
              <a:t>大学生职业生涯规划</a:t>
            </a:r>
            <a:r>
              <a:rPr b="1" lang="zh-CN" sz="5400" spc="-1" strike="noStrike">
                <a:solidFill>
                  <a:srgbClr val="3b3b3b"/>
                </a:solidFill>
                <a:latin typeface="微软雅黑"/>
                <a:ea typeface="微软雅黑"/>
              </a:rPr>
              <a:t>PPT</a:t>
            </a:r>
            <a:endParaRPr b="1" lang="en-US" sz="5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671360" y="5472720"/>
            <a:ext cx="3328560" cy="52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387080" y="4941720"/>
            <a:ext cx="62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4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692000" y="692280"/>
            <a:ext cx="68403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设定行动计划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826920" y="1773360"/>
            <a:ext cx="7848720" cy="4319640"/>
            <a:chOff x="826920" y="1773360"/>
            <a:chExt cx="7848720" cy="4319640"/>
          </a:xfrm>
        </p:grpSpPr>
        <p:sp>
          <p:nvSpPr>
            <p:cNvPr id="247" name=""/>
            <p:cNvSpPr/>
            <p:nvPr/>
          </p:nvSpPr>
          <p:spPr>
            <a:xfrm>
              <a:off x="2610000" y="1773360"/>
              <a:ext cx="6065640" cy="2094120"/>
            </a:xfrm>
            <a:prstGeom prst="rightArrow">
              <a:avLst>
                <a:gd name="adj1" fmla="val 75000"/>
                <a:gd name="adj2" fmla="val 49120"/>
              </a:avLst>
            </a:prstGeom>
            <a:solidFill>
              <a:srgbClr val="cae2f8">
                <a:alpha val="89000"/>
              </a:srgbClr>
            </a:solidFill>
            <a:ln w="25560">
              <a:solidFill>
                <a:srgbClr val="cae2f8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826920" y="2241000"/>
              <a:ext cx="1779480" cy="1159920"/>
            </a:xfrm>
            <a:prstGeom prst="roundRect">
              <a:avLst>
                <a:gd name="adj" fmla="val 16667"/>
              </a:avLst>
            </a:pr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82360" y="2297520"/>
              <a:ext cx="166824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应对劣势</a:t>
              </a:r>
              <a:endParaRPr b="1" lang="en-US" sz="2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610000" y="3998880"/>
              <a:ext cx="6065640" cy="2094120"/>
            </a:xfrm>
            <a:prstGeom prst="rightArrow">
              <a:avLst>
                <a:gd name="adj1" fmla="val 75000"/>
                <a:gd name="adj2" fmla="val 49120"/>
              </a:avLst>
            </a:prstGeom>
            <a:solidFill>
              <a:srgbClr val="fee5c8">
                <a:alpha val="89000"/>
              </a:srgbClr>
            </a:solidFill>
            <a:ln w="25560">
              <a:solidFill>
                <a:srgbClr val="fee5c8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826920" y="4544640"/>
              <a:ext cx="1779480" cy="1159920"/>
            </a:xfrm>
            <a:prstGeom prst="roundRect">
              <a:avLst>
                <a:gd name="adj" fmla="val 16667"/>
              </a:avLst>
            </a:prstGeom>
            <a:solidFill>
              <a:srgbClr val="fdbe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82360" y="4601160"/>
              <a:ext cx="1668240" cy="104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6560" rIns="106560" tIns="53280" bIns="532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225"/>
                </a:spcAft>
                <a:tabLst>
                  <a:tab algn="l" pos="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应对威胁</a:t>
              </a:r>
              <a:endParaRPr b="1" lang="en-US" sz="28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06AA-3520-4EF8-AA2C-6AA0553F02BD}" type="slidenum">
              <a:t>10</a:t>
            </a:fld>
          </a:p>
        </p:txBody>
      </p:sp>
    </p:spTree>
  </p:cSld>
  <p:transition spd="slow">
    <p:fade/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dur="indefinite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9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46200" y="476280"/>
            <a:ext cx="6842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生涯愿景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10960" y="836640"/>
            <a:ext cx="8936280" cy="5905440"/>
            <a:chOff x="210960" y="836640"/>
            <a:chExt cx="8936280" cy="5905440"/>
          </a:xfrm>
        </p:grpSpPr>
        <p:sp>
          <p:nvSpPr>
            <p:cNvPr id="255" name=""/>
            <p:cNvSpPr/>
            <p:nvPr/>
          </p:nvSpPr>
          <p:spPr>
            <a:xfrm>
              <a:off x="210960" y="836640"/>
              <a:ext cx="8936280" cy="1636560"/>
            </a:xfrm>
            <a:prstGeom prst="rightArrow">
              <a:avLst>
                <a:gd name="adj1" fmla="val 50000"/>
                <a:gd name="adj2" fmla="val 3974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0960" y="1245600"/>
              <a:ext cx="861120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短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960" y="2101320"/>
              <a:ext cx="2059560" cy="3027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10960" y="2101320"/>
              <a:ext cx="2059560" cy="30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270520" y="1381680"/>
              <a:ext cx="6876720" cy="1636560"/>
            </a:xfrm>
            <a:prstGeom prst="rightArrow">
              <a:avLst>
                <a:gd name="adj1" fmla="val 50000"/>
                <a:gd name="adj2" fmla="val 3974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270520" y="1791000"/>
              <a:ext cx="655128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中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70520" y="2646720"/>
              <a:ext cx="2059560" cy="295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270520" y="2646720"/>
              <a:ext cx="2059560" cy="295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330440" y="1927080"/>
              <a:ext cx="4816800" cy="1636560"/>
            </a:xfrm>
            <a:prstGeom prst="rightArrow">
              <a:avLst>
                <a:gd name="adj1" fmla="val 50000"/>
                <a:gd name="adj2" fmla="val 3974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330440" y="2336400"/>
              <a:ext cx="449136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长期目标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330440" y="3192120"/>
              <a:ext cx="2059560" cy="2970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eb0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330440" y="3192120"/>
              <a:ext cx="2059560" cy="297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390360" y="2472480"/>
              <a:ext cx="2756880" cy="1636560"/>
            </a:xfrm>
            <a:prstGeom prst="rightArrow">
              <a:avLst>
                <a:gd name="adj1" fmla="val 50000"/>
                <a:gd name="adj2" fmla="val 39743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390360" y="2881800"/>
              <a:ext cx="2431440" cy="81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254160" tIns="68760" bIns="20664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人生理想</a:t>
              </a:r>
              <a:endParaRPr b="1" lang="en-US" sz="18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390360" y="3737520"/>
              <a:ext cx="2078640" cy="300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a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390360" y="3737520"/>
              <a:ext cx="2078640" cy="30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68760" bIns="68760" anchor="t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7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6A0F-84F5-4178-A023-635535F5A08B}" type="slidenum">
              <a:t>11</a:t>
            </a:fld>
          </a:p>
        </p:txBody>
      </p:sp>
    </p:spTree>
  </p:cSld>
  <p:transition spd="slow">
    <p:fade/>
  </p:transition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7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2400" spc="-1" strike="noStrike">
                <a:solidFill>
                  <a:srgbClr val="3c3c3c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6923c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</a:tabLst>
            </a:pPr>
            <a:r>
              <a:rPr b="1" lang="zh-CN" sz="1400" spc="-1" strike="noStrike">
                <a:solidFill>
                  <a:srgbClr val="262626"/>
                </a:solidFill>
                <a:latin typeface="Arial"/>
              </a:rPr>
              <a:t>www.eeppt.com</a:t>
            </a:r>
            <a:endParaRPr b="1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1712-37D7-4086-9518-447B321ACB5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403280" y="835200"/>
            <a:ext cx="684216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及时评估标准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618920" y="765000"/>
            <a:ext cx="72738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3c3c3c"/>
              </a:buClr>
              <a:buSzPct val="25000"/>
              <a:buFont typeface="Arial"/>
              <a:buChar char="•"/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76DA-BC9B-4821-B17B-833C2CDD5A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087640" y="2198520"/>
            <a:ext cx="5400720" cy="197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3600" spc="-1" strike="noStrike">
                <a:solidFill>
                  <a:srgbClr val="262626"/>
                </a:solidFill>
                <a:latin typeface="Academy Engraved LET"/>
              </a:rPr>
              <a:t>Thanks</a:t>
            </a:r>
            <a:br>
              <a:rPr sz="3600"/>
            </a:br>
            <a:r>
              <a:rPr b="0" lang="en-US" sz="3600" spc="-1" strike="noStrike">
                <a:solidFill>
                  <a:srgbClr val="262626"/>
                </a:solidFill>
                <a:latin typeface="Academy Engraved LET"/>
              </a:rPr>
              <a:t>Any Question</a:t>
            </a:r>
            <a:r>
              <a:rPr b="0" lang="zh-CN" sz="3600" spc="-1" strike="noStrike">
                <a:solidFill>
                  <a:srgbClr val="262626"/>
                </a:solidFill>
                <a:latin typeface="Academy Engraved LET"/>
              </a:rPr>
              <a:t>？</a:t>
            </a:r>
            <a:endParaRPr b="1" lang="en-US" sz="36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3076920" y="4021560"/>
            <a:ext cx="3423600" cy="302400"/>
          </a:xfrm>
          <a:prstGeom prst="rect">
            <a:avLst/>
          </a:prstGeom>
          <a:solidFill>
            <a:srgbClr val="0082b3"/>
          </a:solidFill>
          <a:ln w="0">
            <a:noFill/>
          </a:ln>
        </p:spPr>
        <p:txBody>
          <a:bodyPr lIns="90000" rIns="90000" tIns="46800" bIns="46800" anchor="ctr">
            <a:normAutofit fontScale="65000"/>
          </a:bodyPr>
          <a:p>
            <a:pPr algn="ctr">
              <a:lnSpc>
                <a:spcPct val="150000"/>
              </a:lnSpc>
              <a:spcBef>
                <a:spcPts val="349"/>
              </a:spcBef>
              <a:tabLst>
                <a:tab algn="l" pos="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谢谢大家</a:t>
            </a:r>
            <a:endParaRPr b="0" lang="en-US" sz="14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B2CE-FB56-43AB-A3EA-6DF94DF85C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539640" y="1197000"/>
            <a:ext cx="8209080" cy="4280040"/>
            <a:chOff x="539640" y="1197000"/>
            <a:chExt cx="8209080" cy="4280040"/>
          </a:xfrm>
        </p:grpSpPr>
        <p:sp>
          <p:nvSpPr>
            <p:cNvPr id="47" name=""/>
            <p:cNvSpPr/>
            <p:nvPr/>
          </p:nvSpPr>
          <p:spPr>
            <a:xfrm>
              <a:off x="1186920" y="1197000"/>
              <a:ext cx="6979320" cy="4280040"/>
            </a:xfrm>
            <a:prstGeom prst="rightArrow">
              <a:avLst>
                <a:gd name="adj1" fmla="val 50000"/>
                <a:gd name="adj2" fmla="val 50007"/>
              </a:avLst>
            </a:prstGeom>
            <a:solidFill>
              <a:srgbClr val="cae2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96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5936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个人生涯规划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72260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77696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自我认知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90592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b008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992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职业生涯机会评估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0892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432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确定职业发展目标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27220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bbb59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2656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设定行动计划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5552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adee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50952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及时评估调整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638840" y="2480760"/>
              <a:ext cx="1109880" cy="1711800"/>
            </a:xfrm>
            <a:custGeom>
              <a:avLst/>
              <a:gdLst>
                <a:gd name="textAreaLeft" fmla="*/ 54000 w 1109880"/>
                <a:gd name="textAreaRight" fmla="*/ 1055880 w 1109880"/>
                <a:gd name="textAreaTop" fmla="*/ 54000 h 1711800"/>
                <a:gd name="textAreaBottom" fmla="*/ 1657800 h 1711800"/>
              </a:gdLst>
              <a:ahLst/>
              <a:rect l="textAreaLeft" t="textAreaTop" r="textAreaRight" b="textAreaBottom"/>
              <a:pathLst>
                <a:path w="21600" h="33311">
                  <a:moveTo>
                    <a:pt x="3600" y="0"/>
                  </a:moveTo>
                  <a:arcTo wR="3600" hR="3600" stAng="16200000" swAng="-5400000"/>
                  <a:lnTo>
                    <a:pt x="0" y="29711"/>
                  </a:lnTo>
                  <a:arcTo wR="3600" hR="3600" stAng="10800000" swAng="-5400000"/>
                  <a:lnTo>
                    <a:pt x="18000" y="3331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c00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92840" y="2535120"/>
              <a:ext cx="1001520" cy="16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79920" bIns="799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913"/>
                </a:spcAft>
                <a:tabLst>
                  <a:tab algn="l" pos="0"/>
                </a:tabLst>
              </a:pPr>
              <a:r>
                <a:rPr b="1" lang="zh-CN" sz="2100" spc="-1" strike="noStrike">
                  <a:solidFill>
                    <a:srgbClr val="ffffff"/>
                  </a:solidFill>
                  <a:latin typeface="Arial"/>
                </a:rPr>
                <a:t>结束语</a:t>
              </a:r>
              <a:endParaRPr b="1" lang="en-US" sz="21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295A-6A6A-4CF3-B5ED-7B4DF02648FA}" type="slidenum">
              <a:t>2</a:t>
            </a:fld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3203640" y="851040"/>
            <a:ext cx="38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spcBef>
                <a:spcPts val="2500"/>
              </a:spcBef>
              <a:tabLst>
                <a:tab algn="l" pos="0"/>
              </a:tabLst>
            </a:pPr>
            <a:r>
              <a:rPr b="1" lang="zh-CN" sz="4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明确职业方向</a:t>
            </a:r>
            <a:endParaRPr b="1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03280" y="765000"/>
            <a:ext cx="684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生涯愿景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98080" y="1773000"/>
            <a:ext cx="748188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3c3c3c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51040" y="444600"/>
            <a:ext cx="653076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400" spc="-1" strike="noStrike" u="sng">
                <a:solidFill>
                  <a:srgbClr val="76923c"/>
                </a:solidFill>
                <a:uFillTx/>
                <a:latin typeface="Arial"/>
                <a:hlinkClick r:id="rId1"/>
              </a:rPr>
              <a:t>月度工作总结ppt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262626"/>
                </a:solidFill>
                <a:latin typeface="Arial"/>
              </a:rPr>
              <a:t>http://www.eeppt.com/moban/gongzuo/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896000" y="1052640"/>
            <a:ext cx="4248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新魏"/>
                <a:ea typeface="华文新魏"/>
              </a:rPr>
              <a:t>自我评估</a:t>
            </a:r>
            <a:endParaRPr b="1" lang="en-US" sz="72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324000" y="333360"/>
            <a:ext cx="4824360" cy="6048360"/>
            <a:chOff x="324000" y="333360"/>
            <a:chExt cx="4824360" cy="6048360"/>
          </a:xfrm>
        </p:grpSpPr>
        <p:sp>
          <p:nvSpPr>
            <p:cNvPr id="69" name=""/>
            <p:cNvSpPr/>
            <p:nvPr/>
          </p:nvSpPr>
          <p:spPr>
            <a:xfrm>
              <a:off x="324000" y="66780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24000" y="66780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65200" y="33336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6880" y="36576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姓名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24000" y="169632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ffc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24000" y="169632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65200" y="136188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6880" y="139428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学校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24000" y="272484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eb008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24000" y="272484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5200" y="239040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96880" y="242280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院系班级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24000" y="375336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24000" y="375336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5200" y="341892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6880" y="345132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性格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4000" y="478188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24000" y="478188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65200" y="444744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6880" y="447984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兴趣爱好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24000" y="5810400"/>
              <a:ext cx="4824360" cy="571320"/>
            </a:xfrm>
            <a:prstGeom prst="rect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ad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24000" y="5810400"/>
              <a:ext cx="482436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74400" rIns="374400" tIns="414720" bIns="113040" anchor="t">
              <a:noAutofit/>
            </a:bodyPr>
            <a:p>
              <a:pPr lvl="1" marL="228600" indent="-228600">
                <a:lnSpc>
                  <a:spcPct val="90000"/>
                </a:lnSpc>
                <a:spcAft>
                  <a:spcPts val="414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5200" y="5475960"/>
              <a:ext cx="3377160" cy="6692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96880" y="5508360"/>
              <a:ext cx="3313800" cy="60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7800" rIns="127800" tIns="0" bIns="0" anchor="ctr">
              <a:noAutofit/>
            </a:bodyPr>
            <a:p>
              <a:pPr marL="914400" indent="-914400">
                <a:lnSpc>
                  <a:spcPct val="90000"/>
                </a:lnSpc>
                <a:spcAft>
                  <a:spcPts val="964"/>
                </a:spcAft>
                <a:tabLst>
                  <a:tab algn="l" pos="0"/>
                </a:tabLst>
              </a:pPr>
              <a:r>
                <a:rPr b="1" lang="zh-CN" sz="2200" spc="-1" strike="noStrike">
                  <a:solidFill>
                    <a:srgbClr val="ffffff"/>
                  </a:solidFill>
                  <a:latin typeface="Arial"/>
                </a:rPr>
                <a:t>自我评价 </a:t>
              </a:r>
              <a:endParaRPr b="1" lang="en-US" sz="22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75686-A595-4367-A296-F4B1430282D8}" type="slidenum">
              <a:t>5</a:t>
            </a:fld>
          </a:p>
        </p:txBody>
      </p:sp>
    </p:spTree>
  </p:cSld>
  <p:transition spd="slow">
    <p:push dir="u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9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050920" y="404640"/>
            <a:ext cx="684216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环境评估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834920" y="1557360"/>
            <a:ext cx="6893280" cy="4906800"/>
            <a:chOff x="1834920" y="1557360"/>
            <a:chExt cx="6893280" cy="4906800"/>
          </a:xfrm>
        </p:grpSpPr>
        <p:sp>
          <p:nvSpPr>
            <p:cNvPr id="95" name=""/>
            <p:cNvSpPr/>
            <p:nvPr/>
          </p:nvSpPr>
          <p:spPr>
            <a:xfrm rot="5400000">
              <a:off x="1570320" y="182268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7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835280" y="217548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家庭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rot="5400000">
              <a:off x="5325840" y="-69876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007ea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069720" y="161316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rot="5400000">
              <a:off x="1570320" y="339372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835280" y="374652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教育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rot="5400000">
              <a:off x="5325840" y="87264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069720" y="318528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 rot="5400000">
              <a:off x="1570320" y="4965120"/>
              <a:ext cx="1763640" cy="1234440"/>
            </a:xfrm>
            <a:custGeom>
              <a:avLst/>
              <a:gdLst>
                <a:gd name="textAreaLeft" fmla="*/ 0 w 1763640"/>
                <a:gd name="textAreaRight" fmla="*/ 1764000 w 1763640"/>
                <a:gd name="textAreaTop" fmla="*/ 0 h 1234440"/>
                <a:gd name="textAreaBottom" fmla="*/ 1234800 h 123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4041" y="0"/>
                  </a:lnTo>
                  <a:lnTo>
                    <a:pt x="21600" y="10800"/>
                  </a:lnTo>
                  <a:lnTo>
                    <a:pt x="14041" y="21600"/>
                  </a:lnTo>
                  <a:lnTo>
                    <a:pt x="0" y="21600"/>
                  </a:lnTo>
                  <a:lnTo>
                    <a:pt x="7559" y="1080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835280" y="5317920"/>
              <a:ext cx="1234440" cy="52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5120" rIns="15120" tIns="15120" bIns="1512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049"/>
                </a:spcAft>
                <a:tabLst>
                  <a:tab algn="l" pos="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</a:rPr>
                <a:t>社会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5400000">
              <a:off x="5325840" y="2444040"/>
              <a:ext cx="1146240" cy="5658480"/>
            </a:xfrm>
            <a:prstGeom prst="pie">
              <a:avLst/>
            </a:prstGeom>
            <a:solidFill>
              <a:srgbClr val="ffffff">
                <a:alpha val="89000"/>
              </a:srgbClr>
            </a:solidFill>
            <a:ln w="9360">
              <a:solidFill>
                <a:srgbClr val="5db7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69720" y="4756680"/>
              <a:ext cx="5602320" cy="103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62240" rIns="41400" tIns="41400" bIns="4140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1213"/>
                </a:spcAft>
                <a:buClr>
                  <a:srgbClr val="000000"/>
                </a:buClr>
                <a:buFont typeface="-윤고딕130"/>
                <a:buChar char="•"/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9489-4C4F-49A9-A50F-0CC6B7BB77D4}" type="slidenum">
              <a:t>6</a:t>
            </a:fld>
          </a:p>
        </p:txBody>
      </p:sp>
    </p:spTree>
  </p:cSld>
  <p:transition spd="slow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15" descr=""/>
          <p:cNvPicPr/>
          <p:nvPr/>
        </p:nvPicPr>
        <p:blipFill>
          <a:blip r:embed="rId1"/>
          <a:stretch/>
        </p:blipFill>
        <p:spPr>
          <a:xfrm>
            <a:off x="1763640" y="1014480"/>
            <a:ext cx="6639120" cy="5583240"/>
          </a:xfrm>
          <a:prstGeom prst="rect">
            <a:avLst/>
          </a:prstGeom>
          <a:ln w="0">
            <a:noFill/>
          </a:ln>
        </p:spPr>
      </p:pic>
      <p:sp>
        <p:nvSpPr>
          <p:cNvPr id="108" name="TextBox 16"/>
          <p:cNvSpPr/>
          <p:nvPr/>
        </p:nvSpPr>
        <p:spPr>
          <a:xfrm>
            <a:off x="4330800" y="3328920"/>
            <a:ext cx="150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gency FB"/>
                <a:ea typeface="微软雅黑"/>
              </a:rPr>
              <a:t>会展策划师</a:t>
            </a:r>
            <a:endParaRPr b="1" lang="en-US" sz="2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5989680" y="1332000"/>
            <a:ext cx="12430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gency FB"/>
                <a:ea typeface="微软雅黑"/>
              </a:rPr>
              <a:t>01</a:t>
            </a:r>
            <a:endParaRPr b="1" lang="en-US" sz="5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TextBox 19"/>
          <p:cNvSpPr/>
          <p:nvPr/>
        </p:nvSpPr>
        <p:spPr>
          <a:xfrm>
            <a:off x="7020000" y="480996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2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TextBox 21"/>
          <p:cNvSpPr/>
          <p:nvPr/>
        </p:nvSpPr>
        <p:spPr>
          <a:xfrm>
            <a:off x="2973240" y="571032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3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TextBox 23"/>
          <p:cNvSpPr/>
          <p:nvPr/>
        </p:nvSpPr>
        <p:spPr>
          <a:xfrm>
            <a:off x="1979640" y="2184480"/>
            <a:ext cx="12430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 algn="ctr">
              <a:lnSpc>
                <a:spcPct val="80000"/>
              </a:lnSpc>
              <a:tabLst>
                <a:tab algn="l" pos="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gency FB"/>
                <a:ea typeface="微软雅黑"/>
              </a:rPr>
              <a:t>04</a:t>
            </a:r>
            <a:endParaRPr b="1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879560" y="252360"/>
            <a:ext cx="68407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3b3b3b"/>
                </a:solidFill>
                <a:latin typeface="微软雅黑"/>
                <a:ea typeface="微软雅黑"/>
              </a:rPr>
              <a:t>职业认识</a:t>
            </a:r>
            <a:endParaRPr b="1" lang="en-US" sz="4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46320" y="36684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个人职业定位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pic>
        <p:nvPicPr>
          <p:cNvPr id="115" name="Picture 125" descr=""/>
          <p:cNvPicPr/>
          <p:nvPr/>
        </p:nvPicPr>
        <p:blipFill>
          <a:blip r:embed="rId1">
            <a:lum bright="-30000"/>
          </a:blip>
          <a:stretch/>
        </p:blipFill>
        <p:spPr>
          <a:xfrm>
            <a:off x="2994120" y="5386320"/>
            <a:ext cx="4110120" cy="1138320"/>
          </a:xfrm>
          <a:prstGeom prst="rect">
            <a:avLst/>
          </a:prstGeom>
          <a:ln w="0">
            <a:noFill/>
          </a:ln>
        </p:spPr>
      </p:pic>
      <p:grpSp>
        <p:nvGrpSpPr>
          <p:cNvPr id="116" name="Group 166"/>
          <p:cNvGrpSpPr/>
          <p:nvPr/>
        </p:nvGrpSpPr>
        <p:grpSpPr>
          <a:xfrm>
            <a:off x="3282840" y="2144880"/>
            <a:ext cx="3471840" cy="3466800"/>
            <a:chOff x="3282840" y="2144880"/>
            <a:chExt cx="3471840" cy="3466800"/>
          </a:xfrm>
        </p:grpSpPr>
        <p:sp>
          <p:nvSpPr>
            <p:cNvPr id="117" name="Oval 6"/>
            <p:cNvSpPr/>
            <p:nvPr/>
          </p:nvSpPr>
          <p:spPr>
            <a:xfrm>
              <a:off x="3282840" y="2144880"/>
              <a:ext cx="3471840" cy="3466800"/>
            </a:xfrm>
            <a:prstGeom prst="ellipse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8" name="Oval 8"/>
            <p:cNvSpPr/>
            <p:nvPr/>
          </p:nvSpPr>
          <p:spPr>
            <a:xfrm>
              <a:off x="3294000" y="2153880"/>
              <a:ext cx="3449520" cy="3447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19" name="Oval 9"/>
            <p:cNvSpPr/>
            <p:nvPr/>
          </p:nvSpPr>
          <p:spPr>
            <a:xfrm>
              <a:off x="3649680" y="2509560"/>
              <a:ext cx="2739960" cy="2738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0" name="Oval 10"/>
            <p:cNvSpPr/>
            <p:nvPr/>
          </p:nvSpPr>
          <p:spPr>
            <a:xfrm>
              <a:off x="3992400" y="2850840"/>
              <a:ext cx="2052720" cy="20541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1" name="Oval 11"/>
            <p:cNvSpPr/>
            <p:nvPr/>
          </p:nvSpPr>
          <p:spPr>
            <a:xfrm>
              <a:off x="4316400" y="3176280"/>
              <a:ext cx="1407960" cy="14032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2" name="Oval 12"/>
            <p:cNvSpPr/>
            <p:nvPr/>
          </p:nvSpPr>
          <p:spPr>
            <a:xfrm flipV="1">
              <a:off x="4597200" y="3455640"/>
              <a:ext cx="846360" cy="846000"/>
            </a:xfrm>
            <a:prstGeom prst="ellipse">
              <a:avLst/>
            </a:prstGeom>
            <a:solidFill>
              <a:srgbClr val="00ade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3" name="Text Box 67"/>
            <p:cNvSpPr/>
            <p:nvPr/>
          </p:nvSpPr>
          <p:spPr>
            <a:xfrm>
              <a:off x="4902120" y="229680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1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4" name="Text Box 67"/>
            <p:cNvSpPr/>
            <p:nvPr/>
          </p:nvSpPr>
          <p:spPr>
            <a:xfrm>
              <a:off x="4902120" y="263664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2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5" name="Text Box 67"/>
            <p:cNvSpPr/>
            <p:nvPr/>
          </p:nvSpPr>
          <p:spPr>
            <a:xfrm>
              <a:off x="4902120" y="2962080"/>
              <a:ext cx="26496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6" name="Text Box 67"/>
            <p:cNvSpPr/>
            <p:nvPr/>
          </p:nvSpPr>
          <p:spPr>
            <a:xfrm>
              <a:off x="4902120" y="3314520"/>
              <a:ext cx="264960" cy="28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 algn="ctr">
                <a:lnSpc>
                  <a:spcPct val="60000"/>
                </a:lnSpc>
                <a:spcBef>
                  <a:spcPts val="1500"/>
                </a:spcBef>
                <a:tabLst>
                  <a:tab algn="l" pos="0"/>
                </a:tabLst>
              </a:pPr>
              <a:r>
                <a:rPr b="1" lang="en-US" sz="2400" spc="-1" strike="noStrike">
                  <a:solidFill>
                    <a:srgbClr val="262626"/>
                  </a:solidFill>
                  <a:latin typeface="Arial"/>
                  <a:ea typeface="微软雅黑"/>
                </a:rPr>
                <a:t>4</a:t>
              </a: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27" name="Group 117"/>
          <p:cNvGrpSpPr/>
          <p:nvPr/>
        </p:nvGrpSpPr>
        <p:grpSpPr>
          <a:xfrm>
            <a:off x="4191120" y="3208320"/>
            <a:ext cx="609480" cy="609480"/>
            <a:chOff x="4191120" y="3208320"/>
            <a:chExt cx="609480" cy="609480"/>
          </a:xfrm>
        </p:grpSpPr>
        <p:sp>
          <p:nvSpPr>
            <p:cNvPr id="128" name="Oval 113"/>
            <p:cNvSpPr/>
            <p:nvPr/>
          </p:nvSpPr>
          <p:spPr>
            <a:xfrm>
              <a:off x="4286520" y="330372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29" name="Oval 115"/>
            <p:cNvSpPr/>
            <p:nvPr/>
          </p:nvSpPr>
          <p:spPr>
            <a:xfrm>
              <a:off x="4407120" y="3424320"/>
              <a:ext cx="177840" cy="177840"/>
            </a:xfrm>
            <a:prstGeom prst="ellipse">
              <a:avLst/>
            </a:prstGeom>
            <a:solidFill>
              <a:srgbClr val="bcbcbc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0" name="Oval 116"/>
            <p:cNvSpPr/>
            <p:nvPr/>
          </p:nvSpPr>
          <p:spPr>
            <a:xfrm>
              <a:off x="4191120" y="320832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31" name="Group 135"/>
          <p:cNvGrpSpPr/>
          <p:nvPr/>
        </p:nvGrpSpPr>
        <p:grpSpPr>
          <a:xfrm>
            <a:off x="5305320" y="3352680"/>
            <a:ext cx="609480" cy="609480"/>
            <a:chOff x="5305320" y="3352680"/>
            <a:chExt cx="609480" cy="609480"/>
          </a:xfrm>
        </p:grpSpPr>
        <p:sp>
          <p:nvSpPr>
            <p:cNvPr id="132" name="Oval 136"/>
            <p:cNvSpPr/>
            <p:nvPr/>
          </p:nvSpPr>
          <p:spPr>
            <a:xfrm>
              <a:off x="5400720" y="344808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3" name="Oval 137"/>
            <p:cNvSpPr/>
            <p:nvPr/>
          </p:nvSpPr>
          <p:spPr>
            <a:xfrm>
              <a:off x="5521320" y="356868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4" name="Oval 138"/>
            <p:cNvSpPr/>
            <p:nvPr/>
          </p:nvSpPr>
          <p:spPr>
            <a:xfrm>
              <a:off x="5305320" y="335268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35" name="Group 139"/>
          <p:cNvGrpSpPr/>
          <p:nvPr/>
        </p:nvGrpSpPr>
        <p:grpSpPr>
          <a:xfrm>
            <a:off x="4728240" y="3162240"/>
            <a:ext cx="722520" cy="722880"/>
            <a:chOff x="4728240" y="3162240"/>
            <a:chExt cx="722520" cy="722880"/>
          </a:xfrm>
        </p:grpSpPr>
        <p:sp>
          <p:nvSpPr>
            <p:cNvPr id="136" name="Oval 140"/>
            <p:cNvSpPr/>
            <p:nvPr/>
          </p:nvSpPr>
          <p:spPr>
            <a:xfrm rot="15481200">
              <a:off x="4879800" y="331380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7" name="Oval 141"/>
            <p:cNvSpPr/>
            <p:nvPr/>
          </p:nvSpPr>
          <p:spPr>
            <a:xfrm rot="15481200">
              <a:off x="5000400" y="343476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38" name="Oval 142"/>
            <p:cNvSpPr/>
            <p:nvPr/>
          </p:nvSpPr>
          <p:spPr>
            <a:xfrm rot="15481200">
              <a:off x="4784400" y="321876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39" name="Group 203"/>
          <p:cNvGrpSpPr/>
          <p:nvPr/>
        </p:nvGrpSpPr>
        <p:grpSpPr>
          <a:xfrm>
            <a:off x="2544840" y="2384280"/>
            <a:ext cx="1953720" cy="1729080"/>
            <a:chOff x="2544840" y="2384280"/>
            <a:chExt cx="1953720" cy="1729080"/>
          </a:xfrm>
        </p:grpSpPr>
        <p:grpSp>
          <p:nvGrpSpPr>
            <p:cNvPr id="140" name="Group 204"/>
            <p:cNvGrpSpPr/>
            <p:nvPr/>
          </p:nvGrpSpPr>
          <p:grpSpPr>
            <a:xfrm>
              <a:off x="2544840" y="2384280"/>
              <a:ext cx="1864440" cy="1729080"/>
              <a:chOff x="2544840" y="2384280"/>
              <a:chExt cx="1864440" cy="1729080"/>
            </a:xfrm>
          </p:grpSpPr>
          <p:sp>
            <p:nvSpPr>
              <p:cNvPr id="141" name="Freeform 205"/>
              <p:cNvSpPr/>
              <p:nvPr/>
            </p:nvSpPr>
            <p:spPr>
              <a:xfrm rot="19522800">
                <a:off x="3452040" y="2945160"/>
                <a:ext cx="779040" cy="869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2" name="Freeform 206"/>
              <p:cNvSpPr/>
              <p:nvPr/>
            </p:nvSpPr>
            <p:spPr>
              <a:xfrm rot="19522800">
                <a:off x="2656800" y="3145320"/>
                <a:ext cx="1069200" cy="728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3" name="Freeform 207"/>
              <p:cNvSpPr/>
              <p:nvPr/>
            </p:nvSpPr>
            <p:spPr>
              <a:xfrm rot="19522800">
                <a:off x="2851920" y="2517120"/>
                <a:ext cx="816840" cy="11149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64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4" name="Freeform 208"/>
              <p:cNvSpPr/>
              <p:nvPr/>
            </p:nvSpPr>
            <p:spPr>
              <a:xfrm rot="19522800">
                <a:off x="3090600" y="3008880"/>
                <a:ext cx="640440" cy="885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5" name="Freeform 209"/>
              <p:cNvSpPr/>
              <p:nvPr/>
            </p:nvSpPr>
            <p:spPr>
              <a:xfrm rot="19522800">
                <a:off x="2966760" y="2887200"/>
                <a:ext cx="926280" cy="673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1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210"/>
            <p:cNvGrpSpPr/>
            <p:nvPr/>
          </p:nvGrpSpPr>
          <p:grpSpPr>
            <a:xfrm>
              <a:off x="4110120" y="3341160"/>
              <a:ext cx="388440" cy="304200"/>
              <a:chOff x="4110120" y="3341160"/>
              <a:chExt cx="388440" cy="304200"/>
            </a:xfrm>
          </p:grpSpPr>
          <p:sp>
            <p:nvSpPr>
              <p:cNvPr id="147" name="Freeform 211"/>
              <p:cNvSpPr/>
              <p:nvPr/>
            </p:nvSpPr>
            <p:spPr>
              <a:xfrm rot="19522800">
                <a:off x="4343400" y="3443400"/>
                <a:ext cx="129960" cy="127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1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48" name="Freeform 212"/>
              <p:cNvSpPr/>
              <p:nvPr/>
            </p:nvSpPr>
            <p:spPr>
              <a:xfrm rot="19522800">
                <a:off x="4150800" y="3385800"/>
                <a:ext cx="224640" cy="214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9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49" name="Group 213"/>
            <p:cNvGrpSpPr/>
            <p:nvPr/>
          </p:nvGrpSpPr>
          <p:grpSpPr>
            <a:xfrm>
              <a:off x="4128480" y="3395880"/>
              <a:ext cx="267840" cy="166680"/>
              <a:chOff x="4128480" y="3395880"/>
              <a:chExt cx="267840" cy="166680"/>
            </a:xfrm>
          </p:grpSpPr>
          <p:sp>
            <p:nvSpPr>
              <p:cNvPr id="150" name="Freeform 214"/>
              <p:cNvSpPr/>
              <p:nvPr/>
            </p:nvSpPr>
            <p:spPr>
              <a:xfrm rot="19522800">
                <a:off x="4173120" y="3430800"/>
                <a:ext cx="127440" cy="104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1" name="Freeform 215"/>
              <p:cNvSpPr/>
              <p:nvPr/>
            </p:nvSpPr>
            <p:spPr>
              <a:xfrm rot="19522800">
                <a:off x="4147560" y="3423960"/>
                <a:ext cx="132840" cy="109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2" name="Freeform 216"/>
              <p:cNvSpPr/>
              <p:nvPr/>
            </p:nvSpPr>
            <p:spPr>
              <a:xfrm rot="19522800">
                <a:off x="4195080" y="3436920"/>
                <a:ext cx="123120" cy="99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3" name="Freeform 217"/>
              <p:cNvSpPr/>
              <p:nvPr/>
            </p:nvSpPr>
            <p:spPr>
              <a:xfrm rot="19522800">
                <a:off x="4262040" y="3455280"/>
                <a:ext cx="104040" cy="835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4" name="Freeform 218"/>
              <p:cNvSpPr/>
              <p:nvPr/>
            </p:nvSpPr>
            <p:spPr>
              <a:xfrm rot="19522800">
                <a:off x="4242960" y="3450240"/>
                <a:ext cx="107640" cy="89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5" name="Freeform 219"/>
              <p:cNvSpPr/>
              <p:nvPr/>
            </p:nvSpPr>
            <p:spPr>
              <a:xfrm rot="19522800">
                <a:off x="4281840" y="3459600"/>
                <a:ext cx="99720" cy="81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257"/>
          <p:cNvGrpSpPr/>
          <p:nvPr/>
        </p:nvGrpSpPr>
        <p:grpSpPr>
          <a:xfrm>
            <a:off x="5601960" y="2478240"/>
            <a:ext cx="2000160" cy="1701720"/>
            <a:chOff x="5601960" y="2478240"/>
            <a:chExt cx="2000160" cy="1701720"/>
          </a:xfrm>
        </p:grpSpPr>
        <p:grpSp>
          <p:nvGrpSpPr>
            <p:cNvPr id="157" name="Group 254"/>
            <p:cNvGrpSpPr/>
            <p:nvPr/>
          </p:nvGrpSpPr>
          <p:grpSpPr>
            <a:xfrm>
              <a:off x="5687280" y="2478240"/>
              <a:ext cx="1914840" cy="1701720"/>
              <a:chOff x="5687280" y="2478240"/>
              <a:chExt cx="1914840" cy="1701720"/>
            </a:xfrm>
          </p:grpSpPr>
          <p:sp>
            <p:nvSpPr>
              <p:cNvPr id="158" name="Freeform 239"/>
              <p:cNvSpPr/>
              <p:nvPr/>
            </p:nvSpPr>
            <p:spPr>
              <a:xfrm rot="7222800">
                <a:off x="5870160" y="3078720"/>
                <a:ext cx="778320" cy="869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5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59" name="Freeform 240"/>
              <p:cNvSpPr/>
              <p:nvPr/>
            </p:nvSpPr>
            <p:spPr>
              <a:xfrm rot="7222800">
                <a:off x="6260760" y="2759040"/>
                <a:ext cx="1068480" cy="72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0" name="Freeform 241"/>
              <p:cNvSpPr/>
              <p:nvPr/>
            </p:nvSpPr>
            <p:spPr>
              <a:xfrm rot="7222800">
                <a:off x="6506640" y="2988360"/>
                <a:ext cx="816480" cy="111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1" name="Freeform 242"/>
              <p:cNvSpPr/>
              <p:nvPr/>
            </p:nvSpPr>
            <p:spPr>
              <a:xfrm rot="7222800">
                <a:off x="6298560" y="2820960"/>
                <a:ext cx="639000" cy="88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2" name="Freeform 243"/>
              <p:cNvSpPr/>
              <p:nvPr/>
            </p:nvSpPr>
            <p:spPr>
              <a:xfrm rot="7222800">
                <a:off x="6235920" y="3141360"/>
                <a:ext cx="9244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63" name="Group 256"/>
            <p:cNvGrpSpPr/>
            <p:nvPr/>
          </p:nvGrpSpPr>
          <p:grpSpPr>
            <a:xfrm>
              <a:off x="5601960" y="3436920"/>
              <a:ext cx="375480" cy="306360"/>
              <a:chOff x="5601960" y="3436920"/>
              <a:chExt cx="375480" cy="306360"/>
            </a:xfrm>
          </p:grpSpPr>
          <p:sp>
            <p:nvSpPr>
              <p:cNvPr id="164" name="Freeform 245"/>
              <p:cNvSpPr/>
              <p:nvPr/>
            </p:nvSpPr>
            <p:spPr>
              <a:xfrm rot="7222800">
                <a:off x="5626080" y="3570120"/>
                <a:ext cx="130680" cy="13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5" name="Freeform 246"/>
              <p:cNvSpPr/>
              <p:nvPr/>
            </p:nvSpPr>
            <p:spPr>
              <a:xfrm rot="7222800">
                <a:off x="5711760" y="3480120"/>
                <a:ext cx="226800" cy="21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66" name="Group 255"/>
            <p:cNvGrpSpPr/>
            <p:nvPr/>
          </p:nvGrpSpPr>
          <p:grpSpPr>
            <a:xfrm>
              <a:off x="5706360" y="3492720"/>
              <a:ext cx="253080" cy="180720"/>
              <a:chOff x="5706360" y="3492720"/>
              <a:chExt cx="253080" cy="180720"/>
            </a:xfrm>
          </p:grpSpPr>
          <p:sp>
            <p:nvSpPr>
              <p:cNvPr id="167" name="Freeform 248"/>
              <p:cNvSpPr/>
              <p:nvPr/>
            </p:nvSpPr>
            <p:spPr>
              <a:xfrm rot="7222800">
                <a:off x="5804280" y="3535200"/>
                <a:ext cx="120600" cy="108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8" name="Freeform 249"/>
              <p:cNvSpPr/>
              <p:nvPr/>
            </p:nvSpPr>
            <p:spPr>
              <a:xfrm rot="7222800">
                <a:off x="5815440" y="3519360"/>
                <a:ext cx="126360" cy="11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69" name="Freeform 250"/>
              <p:cNvSpPr/>
              <p:nvPr/>
            </p:nvSpPr>
            <p:spPr>
              <a:xfrm rot="7222800">
                <a:off x="5775120" y="3535920"/>
                <a:ext cx="116280" cy="101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0" name="Freeform 251"/>
              <p:cNvSpPr/>
              <p:nvPr/>
            </p:nvSpPr>
            <p:spPr>
              <a:xfrm rot="7222800">
                <a:off x="5736600" y="3566520"/>
                <a:ext cx="99360" cy="8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1" name="Freeform 252"/>
              <p:cNvSpPr/>
              <p:nvPr/>
            </p:nvSpPr>
            <p:spPr>
              <a:xfrm rot="7222800">
                <a:off x="5750640" y="3556800"/>
                <a:ext cx="102600" cy="91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2" name="Freeform 253"/>
              <p:cNvSpPr/>
              <p:nvPr/>
            </p:nvSpPr>
            <p:spPr>
              <a:xfrm rot="7222800">
                <a:off x="5719320" y="3562920"/>
                <a:ext cx="95040" cy="8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295"/>
          <p:cNvGrpSpPr/>
          <p:nvPr/>
        </p:nvGrpSpPr>
        <p:grpSpPr>
          <a:xfrm>
            <a:off x="5237640" y="4020480"/>
            <a:ext cx="1553040" cy="1597680"/>
            <a:chOff x="5237640" y="4020480"/>
            <a:chExt cx="1553040" cy="1597680"/>
          </a:xfrm>
        </p:grpSpPr>
        <p:grpSp>
          <p:nvGrpSpPr>
            <p:cNvPr id="174" name="Group 292"/>
            <p:cNvGrpSpPr/>
            <p:nvPr/>
          </p:nvGrpSpPr>
          <p:grpSpPr>
            <a:xfrm>
              <a:off x="5296320" y="4073400"/>
              <a:ext cx="1494360" cy="1544760"/>
              <a:chOff x="5296320" y="4073400"/>
              <a:chExt cx="1494360" cy="1544760"/>
            </a:xfrm>
          </p:grpSpPr>
          <p:sp>
            <p:nvSpPr>
              <p:cNvPr id="175" name="Freeform 277"/>
              <p:cNvSpPr/>
              <p:nvPr/>
            </p:nvSpPr>
            <p:spPr>
              <a:xfrm rot="10843800">
                <a:off x="5301720" y="4078080"/>
                <a:ext cx="755640" cy="84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5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6" name="Freeform 278"/>
              <p:cNvSpPr/>
              <p:nvPr/>
            </p:nvSpPr>
            <p:spPr>
              <a:xfrm rot="10843800">
                <a:off x="5747760" y="4410000"/>
                <a:ext cx="1038240" cy="70776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7" name="Freeform 279"/>
              <p:cNvSpPr/>
              <p:nvPr/>
            </p:nvSpPr>
            <p:spPr>
              <a:xfrm rot="10843800">
                <a:off x="5572080" y="4530600"/>
                <a:ext cx="792000" cy="108252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8" name="Freeform 280"/>
              <p:cNvSpPr/>
              <p:nvPr/>
            </p:nvSpPr>
            <p:spPr>
              <a:xfrm rot="10843800">
                <a:off x="5751360" y="4256280"/>
                <a:ext cx="620640" cy="86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79" name="Freeform 281"/>
              <p:cNvSpPr/>
              <p:nvPr/>
            </p:nvSpPr>
            <p:spPr>
              <a:xfrm rot="10843800">
                <a:off x="5469840" y="4527360"/>
                <a:ext cx="898560" cy="65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294"/>
            <p:cNvGrpSpPr/>
            <p:nvPr/>
          </p:nvGrpSpPr>
          <p:grpSpPr>
            <a:xfrm>
              <a:off x="5237640" y="4020480"/>
              <a:ext cx="281520" cy="262080"/>
              <a:chOff x="5237640" y="4020480"/>
              <a:chExt cx="281520" cy="262080"/>
            </a:xfrm>
          </p:grpSpPr>
          <p:sp>
            <p:nvSpPr>
              <p:cNvPr id="181" name="Freeform 283"/>
              <p:cNvSpPr/>
              <p:nvPr/>
            </p:nvSpPr>
            <p:spPr>
              <a:xfrm rot="10843800">
                <a:off x="5238360" y="4020840"/>
                <a:ext cx="127080" cy="12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2" name="Freeform 284"/>
              <p:cNvSpPr/>
              <p:nvPr/>
            </p:nvSpPr>
            <p:spPr>
              <a:xfrm rot="10843800">
                <a:off x="5300280" y="4073400"/>
                <a:ext cx="217440" cy="2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183" name="Group 293"/>
            <p:cNvGrpSpPr/>
            <p:nvPr/>
          </p:nvGrpSpPr>
          <p:grpSpPr>
            <a:xfrm>
              <a:off x="5309280" y="4092120"/>
              <a:ext cx="198360" cy="175320"/>
              <a:chOff x="5309280" y="4092120"/>
              <a:chExt cx="198360" cy="175320"/>
            </a:xfrm>
          </p:grpSpPr>
          <p:sp>
            <p:nvSpPr>
              <p:cNvPr id="184" name="Freeform 286"/>
              <p:cNvSpPr/>
              <p:nvPr/>
            </p:nvSpPr>
            <p:spPr>
              <a:xfrm rot="10843800">
                <a:off x="5363640" y="4147560"/>
                <a:ext cx="123840" cy="10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5" name="Freeform 287"/>
              <p:cNvSpPr/>
              <p:nvPr/>
            </p:nvSpPr>
            <p:spPr>
              <a:xfrm rot="10843800">
                <a:off x="5376240" y="4160160"/>
                <a:ext cx="130320" cy="10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6" name="Freeform 288"/>
              <p:cNvSpPr/>
              <p:nvPr/>
            </p:nvSpPr>
            <p:spPr>
              <a:xfrm rot="10843800">
                <a:off x="5350680" y="4138200"/>
                <a:ext cx="120600" cy="95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7" name="Freeform 289"/>
              <p:cNvSpPr/>
              <p:nvPr/>
            </p:nvSpPr>
            <p:spPr>
              <a:xfrm rot="10843800">
                <a:off x="5322240" y="4101480"/>
                <a:ext cx="101880" cy="8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8" name="Freeform 290"/>
              <p:cNvSpPr/>
              <p:nvPr/>
            </p:nvSpPr>
            <p:spPr>
              <a:xfrm rot="10843800">
                <a:off x="5330160" y="4113000"/>
                <a:ext cx="10656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89" name="Freeform 291"/>
              <p:cNvSpPr/>
              <p:nvPr/>
            </p:nvSpPr>
            <p:spPr>
              <a:xfrm rot="10843800">
                <a:off x="5309640" y="4092480"/>
                <a:ext cx="96840" cy="7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139"/>
          <p:cNvGrpSpPr/>
          <p:nvPr/>
        </p:nvGrpSpPr>
        <p:grpSpPr>
          <a:xfrm>
            <a:off x="5089680" y="3870360"/>
            <a:ext cx="609480" cy="609480"/>
            <a:chOff x="5089680" y="3870360"/>
            <a:chExt cx="609480" cy="609480"/>
          </a:xfrm>
        </p:grpSpPr>
        <p:sp>
          <p:nvSpPr>
            <p:cNvPr id="191" name="Oval 140"/>
            <p:cNvSpPr/>
            <p:nvPr/>
          </p:nvSpPr>
          <p:spPr>
            <a:xfrm>
              <a:off x="5185080" y="396576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92" name="Oval 141"/>
            <p:cNvSpPr/>
            <p:nvPr/>
          </p:nvSpPr>
          <p:spPr>
            <a:xfrm>
              <a:off x="5305680" y="4086360"/>
              <a:ext cx="177840" cy="177840"/>
            </a:xfrm>
            <a:prstGeom prst="ellipse">
              <a:avLst/>
            </a:prstGeom>
            <a:solidFill>
              <a:srgbClr val="6d0303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193" name="Oval 142"/>
            <p:cNvSpPr/>
            <p:nvPr/>
          </p:nvSpPr>
          <p:spPr>
            <a:xfrm>
              <a:off x="5089680" y="387036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194" name="Group 295"/>
          <p:cNvGrpSpPr/>
          <p:nvPr/>
        </p:nvGrpSpPr>
        <p:grpSpPr>
          <a:xfrm>
            <a:off x="4910040" y="1670760"/>
            <a:ext cx="1603800" cy="1811880"/>
            <a:chOff x="4910040" y="1670760"/>
            <a:chExt cx="1603800" cy="1811880"/>
          </a:xfrm>
        </p:grpSpPr>
        <p:grpSp>
          <p:nvGrpSpPr>
            <p:cNvPr id="195" name="Group 292"/>
            <p:cNvGrpSpPr/>
            <p:nvPr/>
          </p:nvGrpSpPr>
          <p:grpSpPr>
            <a:xfrm>
              <a:off x="4910040" y="1670760"/>
              <a:ext cx="1603800" cy="1730880"/>
              <a:chOff x="4910040" y="1670760"/>
              <a:chExt cx="1603800" cy="1730880"/>
            </a:xfrm>
          </p:grpSpPr>
          <p:sp>
            <p:nvSpPr>
              <p:cNvPr id="196" name="Freeform 277"/>
              <p:cNvSpPr/>
              <p:nvPr/>
            </p:nvSpPr>
            <p:spPr>
              <a:xfrm rot="4339800">
                <a:off x="5049000" y="2491200"/>
                <a:ext cx="755640" cy="84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15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7" name="Freeform 278"/>
              <p:cNvSpPr/>
              <p:nvPr/>
            </p:nvSpPr>
            <p:spPr>
              <a:xfrm rot="4339800">
                <a:off x="4972320" y="1918800"/>
                <a:ext cx="1038240" cy="70776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8" name="Freeform 279"/>
              <p:cNvSpPr/>
              <p:nvPr/>
            </p:nvSpPr>
            <p:spPr>
              <a:xfrm rot="4339800">
                <a:off x="5481720" y="1917720"/>
                <a:ext cx="792000" cy="1082520"/>
              </a:xfrm>
              <a:prstGeom prst="pie">
                <a:avLst/>
              </a:prstGeom>
              <a:solidFill>
                <a:srgbClr val="ab050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199" name="Freeform 280"/>
              <p:cNvSpPr/>
              <p:nvPr/>
            </p:nvSpPr>
            <p:spPr>
              <a:xfrm rot="4339800">
                <a:off x="5172120" y="2061720"/>
                <a:ext cx="620640" cy="860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0" name="Freeform 281"/>
              <p:cNvSpPr/>
              <p:nvPr/>
            </p:nvSpPr>
            <p:spPr>
              <a:xfrm rot="4339800">
                <a:off x="5238360" y="2245680"/>
                <a:ext cx="898560" cy="655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01" name="Group 294"/>
            <p:cNvGrpSpPr/>
            <p:nvPr/>
          </p:nvGrpSpPr>
          <p:grpSpPr>
            <a:xfrm>
              <a:off x="5071320" y="3136680"/>
              <a:ext cx="266040" cy="345960"/>
              <a:chOff x="5071320" y="3136680"/>
              <a:chExt cx="266040" cy="345960"/>
            </a:xfrm>
          </p:grpSpPr>
          <p:sp>
            <p:nvSpPr>
              <p:cNvPr id="202" name="Freeform 283"/>
              <p:cNvSpPr/>
              <p:nvPr/>
            </p:nvSpPr>
            <p:spPr>
              <a:xfrm rot="4339800">
                <a:off x="5086800" y="3340080"/>
                <a:ext cx="127080" cy="1252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88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3" name="Freeform 284"/>
              <p:cNvSpPr/>
              <p:nvPr/>
            </p:nvSpPr>
            <p:spPr>
              <a:xfrm rot="4339800">
                <a:off x="5096520" y="3167640"/>
                <a:ext cx="217440" cy="20772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rot="5400000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04" name="Group 293"/>
            <p:cNvGrpSpPr/>
            <p:nvPr/>
          </p:nvGrpSpPr>
          <p:grpSpPr>
            <a:xfrm>
              <a:off x="5126040" y="3151440"/>
              <a:ext cx="173880" cy="241200"/>
              <a:chOff x="5126040" y="3151440"/>
              <a:chExt cx="173880" cy="241200"/>
            </a:xfrm>
          </p:grpSpPr>
          <p:sp>
            <p:nvSpPr>
              <p:cNvPr id="205" name="Freeform 286"/>
              <p:cNvSpPr/>
              <p:nvPr/>
            </p:nvSpPr>
            <p:spPr>
              <a:xfrm rot="4339800">
                <a:off x="5157360" y="3199680"/>
                <a:ext cx="123840" cy="1000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6" name="Freeform 287"/>
              <p:cNvSpPr/>
              <p:nvPr/>
            </p:nvSpPr>
            <p:spPr>
              <a:xfrm rot="4339800">
                <a:off x="5164200" y="3176280"/>
                <a:ext cx="130320" cy="106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7" name="Freeform 288"/>
              <p:cNvSpPr/>
              <p:nvPr/>
            </p:nvSpPr>
            <p:spPr>
              <a:xfrm rot="4339800">
                <a:off x="5152680" y="3219480"/>
                <a:ext cx="120600" cy="95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8" name="Freeform 289"/>
              <p:cNvSpPr/>
              <p:nvPr/>
            </p:nvSpPr>
            <p:spPr>
              <a:xfrm rot="4339800">
                <a:off x="5132160" y="3276360"/>
                <a:ext cx="101880" cy="81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09" name="Freeform 290"/>
              <p:cNvSpPr/>
              <p:nvPr/>
            </p:nvSpPr>
            <p:spPr>
              <a:xfrm rot="4339800">
                <a:off x="5139720" y="3260160"/>
                <a:ext cx="106560" cy="856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0" name="Freeform 291"/>
              <p:cNvSpPr/>
              <p:nvPr/>
            </p:nvSpPr>
            <p:spPr>
              <a:xfrm rot="4339800">
                <a:off x="5130000" y="3294720"/>
                <a:ext cx="96840" cy="792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2658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grpSp>
        <p:nvGrpSpPr>
          <p:cNvPr id="211" name="Group 135"/>
          <p:cNvGrpSpPr/>
          <p:nvPr/>
        </p:nvGrpSpPr>
        <p:grpSpPr>
          <a:xfrm>
            <a:off x="4412520" y="3814920"/>
            <a:ext cx="718200" cy="717840"/>
            <a:chOff x="4412520" y="3814920"/>
            <a:chExt cx="718200" cy="717840"/>
          </a:xfrm>
        </p:grpSpPr>
        <p:sp>
          <p:nvSpPr>
            <p:cNvPr id="212" name="Oval 136"/>
            <p:cNvSpPr/>
            <p:nvPr/>
          </p:nvSpPr>
          <p:spPr>
            <a:xfrm rot="10114800">
              <a:off x="4561920" y="3963600"/>
              <a:ext cx="419040" cy="41904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13" name="Oval 137"/>
            <p:cNvSpPr/>
            <p:nvPr/>
          </p:nvSpPr>
          <p:spPr>
            <a:xfrm rot="10114800">
              <a:off x="4682160" y="4084200"/>
              <a:ext cx="177840" cy="177840"/>
            </a:xfrm>
            <a:prstGeom prst="ellipse">
              <a:avLst/>
            </a:prstGeom>
            <a:solidFill>
              <a:srgbClr val="5f5f5f"/>
            </a:solidFill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14" name="Oval 138"/>
            <p:cNvSpPr/>
            <p:nvPr/>
          </p:nvSpPr>
          <p:spPr>
            <a:xfrm rot="10114800">
              <a:off x="4466880" y="3868920"/>
              <a:ext cx="609480" cy="609480"/>
            </a:xfrm>
            <a:prstGeom prst="ellipse">
              <a:avLst/>
            </a:prstGeom>
            <a:noFill/>
            <a:ln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grpSp>
        <p:nvGrpSpPr>
          <p:cNvPr id="215" name="Group 257"/>
          <p:cNvGrpSpPr/>
          <p:nvPr/>
        </p:nvGrpSpPr>
        <p:grpSpPr>
          <a:xfrm>
            <a:off x="3179160" y="4169160"/>
            <a:ext cx="1612080" cy="1694880"/>
            <a:chOff x="3179160" y="4169160"/>
            <a:chExt cx="1612080" cy="1694880"/>
          </a:xfrm>
        </p:grpSpPr>
        <p:grpSp>
          <p:nvGrpSpPr>
            <p:cNvPr id="216" name="Group 254"/>
            <p:cNvGrpSpPr/>
            <p:nvPr/>
          </p:nvGrpSpPr>
          <p:grpSpPr>
            <a:xfrm>
              <a:off x="3179160" y="4242960"/>
              <a:ext cx="1612080" cy="1621080"/>
              <a:chOff x="3179160" y="4242960"/>
              <a:chExt cx="1612080" cy="1621080"/>
            </a:xfrm>
          </p:grpSpPr>
          <p:sp>
            <p:nvSpPr>
              <p:cNvPr id="217" name="Freeform 239"/>
              <p:cNvSpPr/>
              <p:nvPr/>
            </p:nvSpPr>
            <p:spPr>
              <a:xfrm rot="15888000">
                <a:off x="3933720" y="4234680"/>
                <a:ext cx="778320" cy="869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35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8" name="Freeform 240"/>
              <p:cNvSpPr/>
              <p:nvPr/>
            </p:nvSpPr>
            <p:spPr>
              <a:xfrm rot="15888000">
                <a:off x="3579840" y="4934520"/>
                <a:ext cx="1068480" cy="728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19" name="Freeform 241"/>
              <p:cNvSpPr/>
              <p:nvPr/>
            </p:nvSpPr>
            <p:spPr>
              <a:xfrm rot="15888000">
                <a:off x="3362760" y="4467960"/>
                <a:ext cx="816480" cy="11145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197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0" name="Freeform 242"/>
              <p:cNvSpPr/>
              <p:nvPr/>
            </p:nvSpPr>
            <p:spPr>
              <a:xfrm rot="15888000">
                <a:off x="3856320" y="4636800"/>
                <a:ext cx="639000" cy="8874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1" name="Freeform 243"/>
              <p:cNvSpPr/>
              <p:nvPr/>
            </p:nvSpPr>
            <p:spPr>
              <a:xfrm rot="15888000">
                <a:off x="3523680" y="4615920"/>
                <a:ext cx="924480" cy="6746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22" name="Group 256"/>
            <p:cNvGrpSpPr/>
            <p:nvPr/>
          </p:nvGrpSpPr>
          <p:grpSpPr>
            <a:xfrm>
              <a:off x="4511880" y="4169160"/>
              <a:ext cx="272880" cy="308880"/>
              <a:chOff x="4511880" y="4169160"/>
              <a:chExt cx="272880" cy="308880"/>
            </a:xfrm>
          </p:grpSpPr>
          <p:sp>
            <p:nvSpPr>
              <p:cNvPr id="223" name="Freeform 245"/>
              <p:cNvSpPr/>
              <p:nvPr/>
            </p:nvSpPr>
            <p:spPr>
              <a:xfrm rot="15888000">
                <a:off x="4647960" y="4174200"/>
                <a:ext cx="130680" cy="1317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8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4" name="Freeform 246"/>
              <p:cNvSpPr/>
              <p:nvPr/>
            </p:nvSpPr>
            <p:spPr>
              <a:xfrm rot="15888000">
                <a:off x="4518000" y="4245120"/>
                <a:ext cx="226800" cy="2196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255"/>
            <p:cNvGrpSpPr/>
            <p:nvPr/>
          </p:nvGrpSpPr>
          <p:grpSpPr>
            <a:xfrm>
              <a:off x="4534200" y="4257720"/>
              <a:ext cx="182520" cy="208080"/>
              <a:chOff x="4534200" y="4257720"/>
              <a:chExt cx="182520" cy="208080"/>
            </a:xfrm>
          </p:grpSpPr>
          <p:sp>
            <p:nvSpPr>
              <p:cNvPr id="226" name="Freeform 248"/>
              <p:cNvSpPr/>
              <p:nvPr/>
            </p:nvSpPr>
            <p:spPr>
              <a:xfrm rot="15888000">
                <a:off x="4539240" y="4324320"/>
                <a:ext cx="120600" cy="1080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7" name="Freeform 249"/>
              <p:cNvSpPr/>
              <p:nvPr/>
            </p:nvSpPr>
            <p:spPr>
              <a:xfrm rot="15888000">
                <a:off x="4532760" y="4340880"/>
                <a:ext cx="126360" cy="11304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8" name="Freeform 250"/>
              <p:cNvSpPr/>
              <p:nvPr/>
            </p:nvSpPr>
            <p:spPr>
              <a:xfrm rot="15888000">
                <a:off x="4568400" y="4311360"/>
                <a:ext cx="116280" cy="10188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29" name="Freeform 251"/>
              <p:cNvSpPr/>
              <p:nvPr/>
            </p:nvSpPr>
            <p:spPr>
              <a:xfrm rot="15888000">
                <a:off x="4602600" y="4274280"/>
                <a:ext cx="99360" cy="8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30" name="Freeform 252"/>
              <p:cNvSpPr/>
              <p:nvPr/>
            </p:nvSpPr>
            <p:spPr>
              <a:xfrm rot="15888000">
                <a:off x="4591440" y="4285440"/>
                <a:ext cx="102600" cy="9180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  <p:sp>
            <p:nvSpPr>
              <p:cNvPr id="231" name="Freeform 253"/>
              <p:cNvSpPr/>
              <p:nvPr/>
            </p:nvSpPr>
            <p:spPr>
              <a:xfrm rot="15888000">
                <a:off x="4622400" y="4266000"/>
                <a:ext cx="95040" cy="84960"/>
              </a:xfrm>
              <a:prstGeom prst="pi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ffff"/>
                  </a:gs>
                </a:gsLst>
                <a:lin ang="6276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pPr marL="914400" indent="-914400">
                  <a:lnSpc>
                    <a:spcPct val="100000"/>
                  </a:lnSpc>
                  <a:tabLst>
                    <a:tab algn="l" pos="0"/>
                  </a:tabLst>
                </a:pPr>
                <a:endParaRPr b="1" lang="en-US" sz="2400" spc="-1" strike="noStrike">
                  <a:solidFill>
                    <a:srgbClr val="262626"/>
                  </a:solidFill>
                  <a:latin typeface="Arial"/>
                </a:endParaRPr>
              </a:p>
            </p:txBody>
          </p:sp>
        </p:grpSp>
      </p:grpSp>
      <p:sp>
        <p:nvSpPr>
          <p:cNvPr id="232" name=""/>
          <p:cNvSpPr/>
          <p:nvPr/>
        </p:nvSpPr>
        <p:spPr>
          <a:xfrm>
            <a:off x="900000" y="6453360"/>
            <a:ext cx="78501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</a:tabLst>
            </a:pPr>
            <a:r>
              <a:rPr b="1" lang="zh-CN" sz="2400" spc="-1" strike="noStrike" u="sng">
                <a:solidFill>
                  <a:srgbClr val="76923c"/>
                </a:solidFill>
                <a:uFillTx/>
                <a:latin typeface="Arial"/>
                <a:hlinkClick r:id="rId2"/>
              </a:rPr>
              <a:t>工作总结ppt模板</a:t>
            </a:r>
            <a:r>
              <a:rPr b="1" lang="en-US" sz="2400" spc="-1" strike="noStrike">
                <a:solidFill>
                  <a:srgbClr val="262626"/>
                </a:solidFill>
                <a:latin typeface="Arial"/>
              </a:rPr>
              <a:t>http://www.eeppt.com/moban/gongzuo/</a:t>
            </a:r>
            <a:endParaRPr b="1" lang="en-US" sz="2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3815-0D4D-49D6-91E6-FE066F4592CD}" type="slidenum">
              <a:t>8</a:t>
            </a:fld>
          </a:p>
        </p:txBody>
      </p:sp>
    </p:spTree>
  </p:cSld>
  <p:transition spd="slow">
    <p:fade/>
  </p:transition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dur="indefinite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684072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1" lang="zh-CN" sz="4000" spc="-1" strike="noStrike">
                <a:solidFill>
                  <a:srgbClr val="3c3c3c"/>
                </a:solidFill>
                <a:latin typeface="微软雅黑"/>
              </a:rPr>
              <a:t>职业生涯评估</a:t>
            </a:r>
            <a:endParaRPr b="1" lang="en-US" sz="4000" spc="-1" strike="noStrike">
              <a:solidFill>
                <a:srgbClr val="3c3c3c"/>
              </a:solidFill>
              <a:latin typeface="微软雅黑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1042560" y="1484280"/>
            <a:ext cx="7777080" cy="4681440"/>
            <a:chOff x="1042560" y="1484280"/>
            <a:chExt cx="7777080" cy="4681440"/>
          </a:xfrm>
        </p:grpSpPr>
        <p:sp>
          <p:nvSpPr>
            <p:cNvPr id="235" name=""/>
            <p:cNvSpPr/>
            <p:nvPr/>
          </p:nvSpPr>
          <p:spPr>
            <a:xfrm rot="16200000">
              <a:off x="1816560" y="710280"/>
              <a:ext cx="2340720" cy="3888360"/>
            </a:xfrm>
            <a:prstGeom prst="pie">
              <a:avLst/>
            </a:prstGeom>
            <a:solidFill>
              <a:srgbClr val="eb008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42920" y="148428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931280" y="1484280"/>
              <a:ext cx="3888360" cy="2340720"/>
            </a:xfrm>
            <a:prstGeom prst="pie">
              <a:avLst/>
            </a:prstGeom>
            <a:solidFill>
              <a:srgbClr val="a400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931280" y="148428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0800000">
              <a:off x="1042560" y="3825000"/>
              <a:ext cx="3888360" cy="2340720"/>
            </a:xfrm>
            <a:prstGeom prst="pie">
              <a:avLst/>
            </a:prstGeom>
            <a:solidFill>
              <a:srgbClr val="0003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42920" y="441036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080" rIns="64080" tIns="64080" bIns="6408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5400000">
              <a:off x="5704560" y="3051000"/>
              <a:ext cx="2340720" cy="3888360"/>
            </a:xfrm>
            <a:prstGeom prst="pie">
              <a:avLst/>
            </a:prstGeom>
            <a:solidFill>
              <a:srgbClr val="00aaeb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931280" y="4410360"/>
              <a:ext cx="3888360" cy="175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13760" rIns="113760" tIns="113760" bIns="1137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</a:tabLst>
              </a:pPr>
              <a:endParaRPr b="1" lang="en-US" sz="1600" spc="-1" strike="noStrike">
                <a:solidFill>
                  <a:srgbClr val="262626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900" spc="-1" strike="noStrike">
                <a:solidFill>
                  <a:srgbClr val="262626"/>
                </a:solidFill>
                <a:latin typeface="Arial"/>
              </a:endParaRPr>
            </a:p>
            <a:p>
              <a:pPr marL="914400" indent="-914400" algn="ctr">
                <a:lnSpc>
                  <a:spcPct val="90000"/>
                </a:lnSpc>
                <a:spcAft>
                  <a:spcPts val="388"/>
                </a:spcAft>
                <a:tabLst>
                  <a:tab algn="l" pos="0"/>
                </a:tabLst>
              </a:pPr>
              <a:endParaRPr b="1" lang="en-US" sz="9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764880" y="3239640"/>
              <a:ext cx="2333160" cy="1170360"/>
            </a:xfrm>
            <a:prstGeom prst="roundRect">
              <a:avLst>
                <a:gd name="adj" fmla="val 16667"/>
              </a:avLst>
            </a:prstGeom>
            <a:solidFill>
              <a:srgbClr val="f7cbda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262626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822120" y="3296880"/>
              <a:ext cx="2218680" cy="105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37160" rIns="137160" tIns="137160" bIns="137160" anchor="ctr">
              <a:noAutofit/>
            </a:bodyPr>
            <a:p>
              <a:pPr marL="914400" indent="-914400" algn="ctr">
                <a:lnSpc>
                  <a:spcPct val="90000"/>
                </a:lnSpc>
                <a:spcAft>
                  <a:spcPts val="1576"/>
                </a:spcAft>
                <a:tabLst>
                  <a:tab algn="l" pos="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SWOT </a:t>
              </a:r>
              <a:endParaRPr b="1" lang="en-US" sz="3600" spc="-1" strike="noStrike">
                <a:solidFill>
                  <a:srgbClr val="262626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C4B3-CE99-4838-A209-3358138D8914}" type="slidenum">
              <a:t>9</a:t>
            </a:fld>
          </a:p>
        </p:txBody>
      </p:sp>
    </p:spTree>
  </p:cSld>
  <p:transition spd="slow">
    <p:fade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51:00Z</dcterms:created>
  <dc:creator/>
  <dc:description/>
  <dc:language>en-US</dc:language>
  <cp:lastModifiedBy/>
  <dcterms:modified xsi:type="dcterms:W3CDTF">2015-07-04T09:08:57Z</dcterms:modified>
  <cp:revision>20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IP等级">
    <vt:lpwstr>2</vt:lpwstr>
  </property>
  <property fmtid="{D5CDD505-2E9C-101B-9397-08002B2CF9AE}" pid="4" name="价格">
    <vt:lpwstr>20</vt:lpwstr>
  </property>
  <property fmtid="{D5CDD505-2E9C-101B-9397-08002B2CF9AE}" pid="5" name="使用说明">
    <vt:lpwstr>PPT背景模板是PPT文档的格式、布局、图形效果整套美化方案，应用后不会改变PPT演示文稿本身的内容，仅仅使内容格式发生变化。点击【套用到文档】按钮即可套用该模板。</vt:lpwstr>
  </property>
  <property fmtid="{D5CDD505-2E9C-101B-9397-08002B2CF9AE}" pid="6" name="使用软件">
    <vt:lpwstr>ppt</vt:lpwstr>
  </property>
  <property fmtid="{D5CDD505-2E9C-101B-9397-08002B2CF9AE}" pid="7" name="关键字">
    <vt:lpwstr>PPT背景模板 EN PPT 格式 时尚 蓝 蓝色 灰 灰色 浅灰 典雅 复古 曲线 线 线条 抽象 动态 动感 年轻 活力 青春 简洁 渐变 背景 V2</vt:lpwstr>
  </property>
  <property fmtid="{D5CDD505-2E9C-101B-9397-08002B2CF9AE}" pid="8" name="操作代码">
    <vt:lpwstr>2</vt:lpwstr>
  </property>
  <property fmtid="{D5CDD505-2E9C-101B-9397-08002B2CF9AE}" pid="9" name="是否可购买">
    <vt:lpwstr>1</vt:lpwstr>
  </property>
  <property fmtid="{D5CDD505-2E9C-101B-9397-08002B2CF9AE}" pid="10" name="显示VIP等级">
    <vt:lpwstr>2</vt:lpwstr>
  </property>
  <property fmtid="{D5CDD505-2E9C-101B-9397-08002B2CF9AE}" pid="11" name="标题">
    <vt:lpwstr>灰色曲线背景</vt:lpwstr>
  </property>
  <property fmtid="{D5CDD505-2E9C-101B-9397-08002B2CF9AE}" pid="12" name="模板ID">
    <vt:lpwstr>A30220130527A06</vt:lpwstr>
  </property>
  <property fmtid="{D5CDD505-2E9C-101B-9397-08002B2CF9AE}" pid="13" name="模板缩略图">
    <vt:lpwstr>A30220130527A06.png</vt:lpwstr>
  </property>
  <property fmtid="{D5CDD505-2E9C-101B-9397-08002B2CF9AE}" pid="14" name="相关案例">
    <vt:lpwstr>854</vt:lpwstr>
  </property>
  <property fmtid="{D5CDD505-2E9C-101B-9397-08002B2CF9AE}" pid="15" name="缩略图标题">
    <vt:lpwstr>灰色曲线背景</vt:lpwstr>
  </property>
  <property fmtid="{D5CDD505-2E9C-101B-9397-08002B2CF9AE}" pid="16" name="适用软件">
    <vt:lpwstr>PowerPoint 2007及以上版本</vt:lpwstr>
  </property>
  <property fmtid="{D5CDD505-2E9C-101B-9397-08002B2CF9AE}" pid="17" name="附件ID">
    <vt:lpwstr>A30220130527A0601</vt:lpwstr>
  </property>
  <property fmtid="{D5CDD505-2E9C-101B-9397-08002B2CF9AE}" pid="18" name="附件缩略图">
    <vt:lpwstr>A30220130527A0601.png</vt:lpwstr>
  </property>
  <property fmtid="{D5CDD505-2E9C-101B-9397-08002B2CF9AE}" pid="19" name="附件路径">
    <vt:lpwstr>A30220130527A0601.pptx</vt:lpwstr>
  </property>
</Properties>
</file>