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B10-975D-4B92-BF8C-8789426A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B98-84FB-4516-8AC6-272115E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4A4-2931-45F7-A89E-2EA9AA8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272-498E-49DA-A3BB-B9D98AD2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CB2-631F-435C-804C-147672D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800-692A-4D50-AB99-3EE2AA23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0E8-27AB-439D-8E21-AEF6226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7BA-4EB0-4563-929B-A4D3677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CE9-01F2-49DF-A868-DD0CEC5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811-F2D0-4622-B69C-396746C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D25-08A5-4F0B-B0A7-D9637D60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AA6-C2DB-4DD6-A8C7-A60DF473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C21-9089-429C-B043-A34B6D3EC34A}" type="datetime">
              <a:rPr b="0" lang="en-US" sz="24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216-76AB-4A60-BFA1-03AF752E35C6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116000" y="236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江西师范大学论文答辩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7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80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85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289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295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297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0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0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0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0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12800" y="286056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1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1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24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25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30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31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35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36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4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34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50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52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55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57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Microsoft Sans Serif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64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36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046160"/>
                <a:ext cx="107208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71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73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75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76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78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83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85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86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88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Microsoft Sans Serif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98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400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2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05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06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07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10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12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16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17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20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22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26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27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30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32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5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37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38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41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43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47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48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51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53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57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58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61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27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63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4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6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68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69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71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4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295720"/>
                <a:ext cx="1071360" cy="45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10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638172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文答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6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8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30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5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7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9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4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6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8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3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5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7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168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2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36"/>
            <p:cNvSpPr/>
            <p:nvPr/>
          </p:nvSpPr>
          <p:spPr>
            <a:xfrm>
              <a:off x="2714400" y="3325680"/>
              <a:ext cx="105228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7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2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87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2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197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0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08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12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14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18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20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2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3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35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39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40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43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47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48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53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5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5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同侧圆角矩形 19"/>
            <p:cNvGrpSpPr/>
            <p:nvPr/>
          </p:nvGrpSpPr>
          <p:grpSpPr>
            <a:xfrm>
              <a:off x="785880" y="1000440"/>
              <a:ext cx="1143000" cy="499320"/>
              <a:chOff x="785880" y="1000440"/>
              <a:chExt cx="1143000" cy="499320"/>
            </a:xfrm>
          </p:grpSpPr>
          <p:pic>
            <p:nvPicPr>
              <p:cNvPr id="26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160"/>
                <a:ext cx="107244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66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69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72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2Z</dcterms:created>
  <dc:creator>An</dc:creator>
  <dc:description/>
  <dc:language>en-US</dc:language>
  <cp:lastModifiedBy>a</cp:lastModifiedBy>
  <dcterms:modified xsi:type="dcterms:W3CDTF">2015-07-04T09:08:0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