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B931-AA01-43B4-BADA-AC68B893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CE55-EEDA-41D2-AED6-E2FF64B1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7E6-A569-4742-9653-FF0E5CCA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B930-0FC3-49D7-B53A-4D01E5A3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4AF6-BAE2-41A7-8C0B-30D42686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3635-8E14-4068-971F-53D0AB9A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D9EC-0271-4C32-9BC1-E128EBD6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1BF4-F905-42E4-8B3B-2CFFD587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195A-9457-4C25-992F-60061D23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C8A4-790B-46F4-9EFD-6B982213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34CE-5397-4F3F-9785-2972850A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A029-CBBE-499C-9054-E472FCD3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4384-BFFC-4A05-9ED0-A6E87410F8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atong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286080" y="2071800"/>
            <a:ext cx="52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卡通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模板下载免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22320" y="285444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6237360"/>
            <a:ext cx="6427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卡通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kato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B5D5-2F3E-4BD0-92A1-03F5DC8AE6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/>
  <dc:language>en-US</dc:language>
  <cp:lastModifiedBy/>
  <dcterms:modified xsi:type="dcterms:W3CDTF">2015-07-04T09:09:07Z</dcterms:modified>
  <cp:revision>8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