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E6B-6A29-4226-8BB5-6F75131C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32E-EFCE-4FE4-A740-4E62D7C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39B-7845-4A64-8A68-A17AD478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A3E3-6DE6-4EA5-B3AA-73DDFD8E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CC9D-4149-482A-8D97-32D48DDF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4C55-A97A-455E-A425-AB9F1455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D599-3D4A-496A-8562-4313CA9A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42E4-3F33-47A5-98BF-40DE70FF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8878-361F-4B19-B194-ECDD7430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2D52-03D4-4FA4-9A22-4F1581FC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D648-9832-4EA5-B639-F8D9CAE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BA9-30BA-4E13-AF82-BC3A9F07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5886-F9D0-4D48-8B7F-C0B62BD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B61F-2441-41B4-AF3B-ED5C5B2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5824-6B3E-42A8-8622-2335A23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8B72-17F0-4A68-8CEC-0A49DA51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36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3520" y="160020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36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3520" y="3964320"/>
            <a:ext cx="2650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BE4-76F0-42C9-AA1C-5128FE58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6E7-7F2F-45A3-B0FF-2632E8DC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43C-348C-489D-BD09-3AB4F57A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9122-2181-4141-BBF3-ABC75837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9B3E-2A37-4E59-9EB4-6B1454DF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9EE-5AAF-4E43-929A-AB6E0771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432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E65-15E6-4F0A-866D-77E92DA0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00200"/>
            <a:ext cx="401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3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E35-F996-46A2-A35C-0C432CB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87200" indent="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56232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74952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FEC9-B75D-4872-BDF1-9BF5D95371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18FD-2F59-4F2D-9B7F-D348035954E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页脚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1"/>
          <p:cNvSpPr/>
          <p:nvPr/>
        </p:nvSpPr>
        <p:spPr>
          <a:xfrm>
            <a:off x="2340000" y="2811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405080" y="5373720"/>
            <a:ext cx="6561000" cy="576360"/>
            <a:chOff x="1405080" y="5373720"/>
            <a:chExt cx="6561000" cy="576360"/>
          </a:xfrm>
        </p:grpSpPr>
        <p:sp>
          <p:nvSpPr>
            <p:cNvPr id="84" name=""/>
            <p:cNvSpPr/>
            <p:nvPr/>
          </p:nvSpPr>
          <p:spPr>
            <a:xfrm>
              <a:off x="7302240" y="537372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g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405080" y="5373720"/>
              <a:ext cx="663840" cy="576360"/>
            </a:xfrm>
            <a:prstGeom prst="flowChartDelay">
              <a:avLst/>
            </a:prstGeom>
            <a:solidFill>
              <a:srgbClr val="bfbfbf"/>
            </a:solidFill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&lt;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900000" y="6165720"/>
            <a:ext cx="7407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方正粗宋_GBK"/>
                <a:ea typeface="方正粗宋_GBK"/>
              </a:rPr>
              <a:t>Quotes from Lei Feng in Chinese and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-6480" y="0"/>
            <a:ext cx="9044280" cy="5133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91240" y="5445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e9e9e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9e9e9e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直接连接符 4"/>
          <p:cNvSpPr/>
          <p:nvPr/>
        </p:nvSpPr>
        <p:spPr>
          <a:xfrm>
            <a:off x="600120" y="5384880"/>
            <a:ext cx="800568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组合 1"/>
          <p:cNvGrpSpPr/>
          <p:nvPr/>
        </p:nvGrpSpPr>
        <p:grpSpPr>
          <a:xfrm>
            <a:off x="844560" y="216000"/>
            <a:ext cx="4462560" cy="5816520"/>
            <a:chOff x="844560" y="216000"/>
            <a:chExt cx="4462560" cy="58165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978480" y="518760"/>
              <a:ext cx="4137840" cy="46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192888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64040" y="2989440"/>
              <a:ext cx="5816520" cy="2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5653080" y="1012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当祖国和人民处在最危急的关头，我就挺身而出，不怕牺牲。生为人民生，死为人民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13"/>
          <p:cNvSpPr/>
          <p:nvPr/>
        </p:nvSpPr>
        <p:spPr>
          <a:xfrm>
            <a:off x="600120" y="5381640"/>
            <a:ext cx="822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hen my motherland and her people are at the critical moment, I won’t hesitate to step forward and sacrifice my life. I was born and will die for the people fearless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1"/>
          <p:cNvGrpSpPr/>
          <p:nvPr/>
        </p:nvGrpSpPr>
        <p:grpSpPr>
          <a:xfrm>
            <a:off x="900000" y="189000"/>
            <a:ext cx="4468680" cy="6335640"/>
            <a:chOff x="900000" y="189000"/>
            <a:chExt cx="4468680" cy="633564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900000" y="621000"/>
              <a:ext cx="4406400" cy="46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49120" y="3285360"/>
              <a:ext cx="619164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37040" y="3033360"/>
              <a:ext cx="5976000" cy="2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5365800" y="7732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人的生命是有限的，可是，为人民服务是无限的，我要把有限的生命，投入到无限的“为人民服务”之中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re is a limit to one's life, but no limit to serving the people. I would devote my short life to the lifelong career of serving the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组合 1"/>
          <p:cNvGrpSpPr/>
          <p:nvPr/>
        </p:nvGrpSpPr>
        <p:grpSpPr>
          <a:xfrm>
            <a:off x="828720" y="333360"/>
            <a:ext cx="4336920" cy="6191280"/>
            <a:chOff x="828720" y="333360"/>
            <a:chExt cx="4336920" cy="61912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828720" y="621360"/>
              <a:ext cx="4266360" cy="483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10420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192636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7"/>
          <p:cNvSpPr/>
          <p:nvPr/>
        </p:nvSpPr>
        <p:spPr>
          <a:xfrm>
            <a:off x="5365800" y="132876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在工作上，要向积极性最高的同志看齐；在生活上，要向水平最低的同志看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should model ourselves after comrades with the most ambition in work while keep up with those who has the lowest living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组合 1"/>
          <p:cNvGrpSpPr/>
          <p:nvPr/>
        </p:nvGrpSpPr>
        <p:grpSpPr>
          <a:xfrm>
            <a:off x="826920" y="365040"/>
            <a:ext cx="4554720" cy="6145200"/>
            <a:chOff x="826920" y="365040"/>
            <a:chExt cx="4554720" cy="61452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6920" y="556560"/>
              <a:ext cx="4503600" cy="512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04480" y="3403440"/>
              <a:ext cx="5938200" cy="2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274840" y="3196440"/>
              <a:ext cx="593820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365800" y="14112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钉子有两个长处：一个是挤劲，一个是钻劲，我们在学习上也要提倡钉子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00120" y="5381640"/>
            <a:ext cx="8221680" cy="1373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The nail has two advantages: one is squeezing and the other is drilling , which should be advocated in our stu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090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640" y="1269720"/>
            <a:ext cx="89298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820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15FC-A511-4C30-9888-4940A4CF03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 rot="19730400">
            <a:off x="117360" y="179280"/>
            <a:ext cx="962640" cy="509400"/>
          </a:xfrm>
          <a:prstGeom prst="roundRect">
            <a:avLst>
              <a:gd name="adj" fmla="val 16662"/>
            </a:avLst>
          </a:prstGeom>
          <a:solidFill>
            <a:srgbClr val="4472c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雷锋语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组合 1"/>
          <p:cNvGrpSpPr/>
          <p:nvPr/>
        </p:nvGrpSpPr>
        <p:grpSpPr>
          <a:xfrm>
            <a:off x="873000" y="333360"/>
            <a:ext cx="4464000" cy="6191280"/>
            <a:chOff x="873000" y="333360"/>
            <a:chExt cx="4464000" cy="619128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873000" y="520200"/>
              <a:ext cx="4377960" cy="48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rcRect l="0" t="0" r="-4935" b="0"/>
            <a:stretch/>
          </p:blipFill>
          <p:spPr>
            <a:xfrm rot="5400000">
              <a:off x="-207828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"/>
            <a:srcRect l="0" t="0" r="-4935" b="0"/>
            <a:stretch/>
          </p:blipFill>
          <p:spPr>
            <a:xfrm rot="5400000">
              <a:off x="2097720" y="3285720"/>
              <a:ext cx="6191280" cy="28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直接连接符 6"/>
          <p:cNvSpPr/>
          <p:nvPr/>
        </p:nvSpPr>
        <p:spPr>
          <a:xfrm>
            <a:off x="722160" y="5384880"/>
            <a:ext cx="7883640" cy="0"/>
          </a:xfrm>
          <a:prstGeom prst="line">
            <a:avLst/>
          </a:prstGeom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5365800" y="216072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自己活着，就是为了使别人过得更美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600120" y="5381640"/>
            <a:ext cx="82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方正北魏楷书简体"/>
                <a:ea typeface="方正北魏楷书简体"/>
              </a:rPr>
              <a:t>We live to better others liv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05:45:00Z</dcterms:created>
  <dc:creator>An</dc:creator>
  <dc:description/>
  <dc:language>en-US</dc:language>
  <cp:lastModifiedBy/>
  <dcterms:modified xsi:type="dcterms:W3CDTF">2015-07-04T09:10:43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