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6C6-8036-4F41-AE01-4FD3C207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8F1-E01C-4484-A67D-AE9CFD5B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542-50E7-471C-9F75-60B75889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449-5A64-4528-93A3-1D6CB003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F7B-450C-4317-8743-0A1779C0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53C-66CD-4606-953C-FC8ACBB1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977-ED5C-4023-BA80-F5C05377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17F-3917-4198-9C60-F15660EF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838-8678-4CD4-9A32-BD096FA9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2D9-70A5-4F24-B339-E876C86F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CC0-CC71-40D0-B193-DF9A50C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E03-C5EC-4E5D-9CF7-0842EDA3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4EB1-F7D9-4B8C-993D-799646FF701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84BF-54FE-4A93-9D99-077CED95E2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52280" y="8734320"/>
            <a:ext cx="744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87520" y="3456000"/>
            <a:ext cx="59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浪漫情人节</a:t>
            </a: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9" descr=""/>
          <p:cNvPicPr/>
          <p:nvPr/>
        </p:nvPicPr>
        <p:blipFill>
          <a:blip r:embed="rId1"/>
          <a:stretch/>
        </p:blipFill>
        <p:spPr>
          <a:xfrm>
            <a:off x="0" y="6048360"/>
            <a:ext cx="4645080" cy="309564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16"/>
          <p:cNvSpPr/>
          <p:nvPr/>
        </p:nvSpPr>
        <p:spPr>
          <a:xfrm>
            <a:off x="2421000" y="5292720"/>
            <a:ext cx="3724200" cy="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8"/>
          <p:cNvSpPr/>
          <p:nvPr/>
        </p:nvSpPr>
        <p:spPr>
          <a:xfrm>
            <a:off x="6134040" y="5184720"/>
            <a:ext cx="216000" cy="216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25" descr=""/>
          <p:cNvPicPr/>
          <p:nvPr/>
        </p:nvPicPr>
        <p:blipFill>
          <a:blip r:embed="rId2"/>
          <a:srcRect l="2598" t="8283" r="23583" b="12769"/>
          <a:stretch/>
        </p:blipFill>
        <p:spPr>
          <a:xfrm>
            <a:off x="476280" y="826920"/>
            <a:ext cx="54720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0" descr=""/>
          <p:cNvPicPr/>
          <p:nvPr/>
        </p:nvPicPr>
        <p:blipFill>
          <a:blip r:embed="rId1"/>
          <a:srcRect l="262" t="0" r="0" b="265"/>
          <a:stretch/>
        </p:blipFill>
        <p:spPr>
          <a:xfrm>
            <a:off x="0" y="0"/>
            <a:ext cx="6875640" cy="5721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1"/>
          <p:cNvSpPr/>
          <p:nvPr/>
        </p:nvSpPr>
        <p:spPr>
          <a:xfrm>
            <a:off x="1584360" y="669456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我能想到最浪漫的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2"/>
          <p:cNvSpPr/>
          <p:nvPr/>
        </p:nvSpPr>
        <p:spPr>
          <a:xfrm>
            <a:off x="692280" y="721692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就是和你出现在同一张寻人启事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1"/>
          <p:cNvSpPr/>
          <p:nvPr/>
        </p:nvSpPr>
        <p:spPr>
          <a:xfrm>
            <a:off x="1901880" y="7169040"/>
            <a:ext cx="30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见不到你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1359000" y="771984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书体坊硬笔行书3500"/>
                <a:ea typeface="书体坊硬笔行书3500"/>
              </a:rPr>
              <a:t>想把爱航运到你的身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0" y="169236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"/>
          <p:cNvPicPr/>
          <p:nvPr/>
        </p:nvPicPr>
        <p:blipFill>
          <a:blip r:embed="rId1"/>
          <a:srcRect l="3904" t="2088" r="27348" b="-351"/>
          <a:stretch/>
        </p:blipFill>
        <p:spPr>
          <a:xfrm>
            <a:off x="-28440" y="0"/>
            <a:ext cx="4267080" cy="9183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653000" y="2189160"/>
            <a:ext cx="1724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3"/>
          <p:cNvSpPr/>
          <p:nvPr/>
        </p:nvSpPr>
        <p:spPr>
          <a:xfrm flipV="1">
            <a:off x="5514840" y="0"/>
            <a:ext cx="0" cy="19080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4"/>
          <p:cNvSpPr/>
          <p:nvPr/>
        </p:nvSpPr>
        <p:spPr>
          <a:xfrm flipV="1">
            <a:off x="5514840" y="7236000"/>
            <a:ext cx="0" cy="19080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52360"/>
            <a:ext cx="6154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00" y="1693800"/>
            <a:ext cx="6696000" cy="69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465880" y="444600"/>
            <a:ext cx="1041120" cy="46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E1D-DB40-42ED-9989-E93796DFEA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5:30:00Z</dcterms:created>
  <dc:creator/>
  <dc:description/>
  <dc:language>en-US</dc:language>
  <cp:lastModifiedBy/>
  <dcterms:modified xsi:type="dcterms:W3CDTF">2015-07-03T15:42:14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