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9CB-1FE2-4BDA-8E6D-1E5643D7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748-43A5-485D-AFF2-FFAE0362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34D-B036-4EE9-B136-5EFA9344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05A-FCA6-412F-B799-DF9F8F88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85D-1D62-4A43-9CF9-165FA793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ED6-BA16-4C93-B2A2-3CE7811E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82C-16AB-4052-830C-250ED1AF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AEF-6750-42B6-973E-B0DF4488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2D1-1700-440B-BC90-700F87F4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3ED-9778-4F9D-96FA-51810199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B5A-F384-4B51-B44F-3B999F0E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696-48E6-4DCB-9193-BADC059E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D910-2B8B-44E4-8085-4A5180AEDBC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0226-1FA3-4A20-9550-8093937CF8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atong/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米奇卡通幻灯片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525960" y="314172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877000"/>
            <a:ext cx="6427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卡通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kat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 Placeholder 2" descr=""/>
          <p:cNvPicPr/>
          <p:nvPr/>
        </p:nvPicPr>
        <p:blipFill>
          <a:blip r:embed="rId3"/>
          <a:stretch/>
        </p:blipFill>
        <p:spPr>
          <a:xfrm>
            <a:off x="2247840" y="2576520"/>
            <a:ext cx="4648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747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8109000" y="23493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BE5-1449-4B5B-9B24-C8D2E3B98F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21:00Z</dcterms:created>
  <dc:creator>An</dc:creator>
  <dc:description/>
  <dc:language>en-US</dc:language>
  <cp:lastModifiedBy/>
  <dcterms:modified xsi:type="dcterms:W3CDTF">2015-07-04T09:10:57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