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BBE-AEC4-49F4-923B-0EE4E990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9FE-FD48-4309-9967-5F12ACCD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6D8-785C-4FE1-9C82-5B67A29C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5BE-DAA3-4850-BDA1-6EF925E4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AE7-B6D7-4A6E-9E6D-E3AD2B93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365A-D9B6-4077-B1DD-9039B079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DB4-35D5-4C8D-89C0-3A3F3780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FA6-972A-4C27-969C-64C9FBE3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E0F-C1CA-466A-98AA-2E97DAC3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0BF4-E821-4B0A-AC13-FF6F79C2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AD6-288A-4B3E-8B67-558C005B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BD8-7F86-4456-B755-D72062E3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14440" indent="399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371600" indent="-457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28800" indent="-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28800" indent="-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28800" indent="-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5bb9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A49E-02FC-477F-9717-5E56F6E823E9}" type="datetime">
              <a:rPr b="0" lang="en-US" sz="1100" spc="-1" strike="noStrike">
                <a:solidFill>
                  <a:srgbClr val="c5bb9b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5bb9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1E04-C94C-4807-937E-1FCD2F3422AE}" type="slidenum">
              <a:rPr b="1" lang="en-US" sz="1200" spc="-1" strike="noStrike">
                <a:solidFill>
                  <a:srgbClr val="c5bb9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flourish2.png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0" y="280044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汉仪大宋简"/>
                <a:ea typeface="汉仪大宋简"/>
              </a:rPr>
              <a:t>欧美花边</a:t>
            </a:r>
            <a:r>
              <a:rPr b="0" lang="zh-CN" sz="4800" spc="-1" strike="noStrike">
                <a:solidFill>
                  <a:srgbClr val="000000"/>
                </a:solidFill>
                <a:latin typeface="汉仪大宋简"/>
                <a:ea typeface="汉仪大宋简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汉仪大宋简"/>
                <a:ea typeface="汉仪大宋简"/>
              </a:rPr>
              <a:t>背景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0" y="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02320" y="342900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aramond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aramond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aramond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8C2-2744-4C55-B4F4-C609D90119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3:58:00Z</dcterms:created>
  <dc:creator>Harley Benson</dc:creator>
  <dc:description/>
  <dc:language>en-US</dc:language>
  <cp:lastModifiedBy>a</cp:lastModifiedBy>
  <dcterms:modified xsi:type="dcterms:W3CDTF">2015-07-04T09:11:53Z</dcterms:modified>
  <cp:revision>75</cp:revision>
  <dc:subject/>
  <dc:title>The royal wed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