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7DD-3F93-459B-93C5-A9B5B061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DDA-FE8D-4E09-9BA0-A3F2729C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56B-A090-465C-B3D4-60531B3B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BE1-B035-4D0F-A575-A78628E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7809-A60B-4BE1-AD6D-9B6872B9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E9C-4A7A-41C6-AD9E-1B8030E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369-6ED4-4B10-BB51-7AD8C52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638-8A06-4668-858A-E4AE4CE3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E00-1626-47D3-ADAD-7C1B3D3D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C7B7-342D-4156-92FD-9B355534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5C5F-42D6-45A6-9BD7-158EEDB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289-7B79-48D5-B1D2-AB897327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B98-6F76-483A-A747-70CEC2D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A84-76E5-4A58-99A8-C6CC181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63B0-CEB3-4A2B-BDEA-D2C3CAB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3B67-2C39-41CA-9AED-33518A15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AED3-B823-4635-A6C1-C2CC45D9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14E9-C766-48F9-BE94-17B6FF8F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6579-765A-4535-8AB7-8DEF8C13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DED7-444A-4A11-B123-E0DA2A1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77DD-A32A-4B3B-B6B5-33A3899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F92D-33CE-471D-9667-83A735E1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112-C937-41BC-B069-C14EED2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8CDD-B4D6-47FE-90CA-FDE1990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8651-7397-4119-9508-7B6AFDF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B3B1-5C8B-478C-B6ED-9E675E7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560D-4BBE-4414-9922-53BFF1A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584C-3511-419C-9A93-86848260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30E8-CF9A-40E0-A07E-95E99299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72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400" y="160956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904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72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400" y="4095000"/>
            <a:ext cx="266976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DCCB-B025-45A6-8118-7A41B0DA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992-C2DB-4A97-81DC-9E6AEE3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530-6CB0-4DFE-9D72-20F284F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BE0-7AD5-4838-B611-74D0332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8ED-6729-4585-BB65-7F5C019B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9500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FFC-E219-46FD-AA56-49A3428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609560"/>
            <a:ext cx="404604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4095000"/>
            <a:ext cx="829152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5AC-C194-4AC9-B2D3-3F5A6F6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F4D-5660-44B3-BEDF-493CB20737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5CD3-0EBD-4E08-9929-FEF09EABD1DE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609560"/>
            <a:ext cx="82915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0" t="1362" r="16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EA0-5BE1-4E93-B6F8-FC5F71B0A292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1761840" y="2417400"/>
            <a:ext cx="449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28711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宋体"/>
              </a:rPr>
              <a:t>秋天的枫叶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宋体"/>
              </a:rPr>
              <a:t>PPT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宋体"/>
              </a:rPr>
              <a:t>模板</a:t>
            </a:r>
            <a:endParaRPr b="1" lang="en-US" sz="66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25" name=""/>
          <p:cNvSpPr/>
          <p:nvPr/>
        </p:nvSpPr>
        <p:spPr>
          <a:xfrm>
            <a:off x="2816640" y="3429000"/>
            <a:ext cx="426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  <a:ea typeface="宋体"/>
              </a:rPr>
              <a:t>Insert your text here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8711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幼圆"/>
              </a:rPr>
              <a:t>：</a:t>
            </a:r>
            <a:endParaRPr b="0" lang="en-US" sz="15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5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幼圆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幼圆"/>
              </a:rPr>
              <a:t>：</a:t>
            </a:r>
            <a:endParaRPr b="0" lang="en-US" sz="15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871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8A8-C321-4D78-9A7F-07034DEA2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4:07:09Z</dcterms:created>
  <dc:creator>An</dc:creator>
  <dc:description/>
  <dc:language>en-US</dc:language>
  <cp:lastModifiedBy/>
  <dcterms:modified xsi:type="dcterms:W3CDTF">2015-07-04T09:12:5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