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A9F-B485-42C1-896F-3EEB250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77F-8DAB-4F09-9F41-D25B4FC6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42E-523C-49C5-8062-AADB1B47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C6C-61F6-4055-A0BB-015F5EBF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099-1FCE-4383-B8BF-6ADA85D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555-7A55-432A-B0B2-2356A51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80C-8CE6-41E8-B28A-DBF0729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A09-940C-455D-AAFD-6FCAE82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90E-9B2F-47A4-85F8-01B4759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D1F-2173-4E59-B580-4D485266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697-2A15-4A09-BEAB-09CA582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E27-8EE2-48A2-9770-B286475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365-FDEA-4A60-AE69-A42AF08FCC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/moban/dabian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7"/>
          <p:cNvSpPr/>
          <p:nvPr/>
        </p:nvSpPr>
        <p:spPr>
          <a:xfrm>
            <a:off x="324000" y="330840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清新简洁毕业论文答辩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导师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6560" y="6310440"/>
            <a:ext cx="632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18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64D-1768-40D7-B977-83E867AF8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7-04T09:12:14Z</dcterms:modified>
  <cp:revision>2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