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61D-0B80-4FE2-8F30-7B5BF36D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1EC-0108-45A6-AE3E-C6EC62F2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246-0997-4443-AF08-0BF6BFAD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632-3855-4D41-9876-FB09877F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DEC-B511-4238-92B2-724B6654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9E6-E59B-46C6-B4A7-E6D24AF2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843-3402-4C8D-A1D9-179ADCED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979-FAF2-4F7F-AAC0-1B49FDF9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EED-A4EF-4FDF-B94B-69D74C7B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9B6-F319-48AC-BDAD-137E3D5D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A26-90A3-4485-A2EE-3B5D6D8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B31-49C9-49EF-8046-6ED6817D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51F2-64B6-40BA-B2E6-FC308213B4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1710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生日蛋糕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686680" y="213372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C54-1319-46A3-A8DD-33BDC9311F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5:10:08Z</dcterms:created>
  <dc:creator/>
  <dc:description/>
  <dc:language>en-US</dc:language>
  <cp:lastModifiedBy/>
  <dcterms:modified xsi:type="dcterms:W3CDTF">2015-07-04T09:13:1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ea02000000000001024140</vt:lpwstr>
  </property>
</Properties>
</file>