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43803-CD48-438F-9B5B-7137AAAF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00E72-6A30-46A0-8C35-9BC0324C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51E30-4F47-4FA5-96D0-5E47D954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B4A0B-8F63-438A-9D2F-FA002723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7C172-437C-4A21-AFF9-51150372DB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C43AE-E70F-4770-A27E-3A032574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8E657-75B5-4EA3-9E69-281B1AFA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BEEC7-89BA-48D6-8DFB-01BBA2AF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5C933-5853-4DD3-BB0E-FB886654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A8DB0-DD56-4144-BF7F-E5B1C3FB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6C4C5-25EF-4726-99AF-B50DC29B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ED0B9-9F36-4752-9C37-B1F6ABA1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2A845-D426-4797-A335-035E88F1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87613-FFA3-4C65-926E-C1438233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7FC67-4851-47C7-B490-BB219DD5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816A1-C2E5-4C97-ACA1-8880E9BA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5CA93-799B-4135-A8E8-182468D83B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AC309-1D3D-4636-82A4-C9B01FCA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E947D-0C2B-40DB-8BC6-7446E9F3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7469-2E92-4FF1-B5A8-7BC70AC8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27E7D-D55D-4CA6-98C6-DC6EAACC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404E9-B41B-411B-BB8E-3484E0CE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D7C3C-D396-4ED0-AF87-7AF8D21C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99AA3-8ECF-42ED-86AF-C9909164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151E-0A26-4DED-A56A-F4B2306F3948}" type="slidenum"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940B-1516-48A5-AAA1-DB9F607635FF}" type="slidenum">
              <a:rPr b="0" lang="en-US" sz="1200" spc="-1" strike="noStrike">
                <a:solidFill>
                  <a:srgbClr val="898989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871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童幻世界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484000" y="1924200"/>
            <a:ext cx="5319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3"/>
          <p:cNvSpPr/>
          <p:nvPr/>
        </p:nvSpPr>
        <p:spPr>
          <a:xfrm>
            <a:off x="252360" y="1060560"/>
            <a:ext cx="857268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6d90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标题 1" descr=""/>
          <p:cNvPicPr/>
          <p:nvPr/>
        </p:nvPicPr>
        <p:blipFill>
          <a:blip r:embed="rId2"/>
          <a:stretch/>
        </p:blipFill>
        <p:spPr>
          <a:xfrm>
            <a:off x="652320" y="1122480"/>
            <a:ext cx="622476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F97D-B9A0-482A-A97E-C332C4C911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7:22:49Z</dcterms:created>
  <dc:creator/>
  <dc:description/>
  <dc:language>en-US</dc:language>
  <cp:lastModifiedBy>微软用户</cp:lastModifiedBy>
  <dcterms:modified xsi:type="dcterms:W3CDTF">2015-07-04T08:39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