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5DBD-0DA8-4B9A-B4E5-9AF88AE3A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82072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887280"/>
            <a:ext cx="82072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A4D1E-F594-4B81-9FFA-9C9B9F4D1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8728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8728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5837-A797-44D5-9282-63A5FCE2F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26180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26180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88728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88728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88728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7D001-7487-440F-999A-D541CA1D5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261800"/>
            <a:ext cx="820728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8207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4005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261800"/>
            <a:ext cx="4005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842920" y="34884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261800"/>
            <a:ext cx="4005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88728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261800"/>
            <a:ext cx="820728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8330-425C-4F7D-B3D1-3691BE3BB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4005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8728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887280"/>
            <a:ext cx="82072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82072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887280"/>
            <a:ext cx="82072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88728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8728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26180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26180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88728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88728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887280"/>
            <a:ext cx="26424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8207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BE39-950C-4782-9DD8-9E44536A7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4005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261800"/>
            <a:ext cx="4005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EF44-9CA7-4EBC-B6EC-A9C4C16AB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8A03-B8DD-4DFF-89E8-6D08282E0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842920" y="34884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53615-0875-4A6C-8555-B8837B3FC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261800"/>
            <a:ext cx="4005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88728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E6E4-B57E-4077-8451-2DFF5D0F2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4005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8728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F938-CFE9-41A1-9802-7754BDC0F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261800"/>
            <a:ext cx="4005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87280"/>
            <a:ext cx="82072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C584-808C-444F-946D-527F1DA98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61800"/>
            <a:ext cx="8207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b4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A7C49F2-A46F-4D56-9723-837A0BF1D1A4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094280"/>
            <a:ext cx="5408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b4de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b4de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katon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094280"/>
            <a:ext cx="5408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童趣演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76280" y="520488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1844640"/>
            <a:ext cx="1366920" cy="2664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1463760" y="4483080"/>
            <a:ext cx="1820880" cy="843120"/>
          </a:xfrm>
          <a:custGeom>
            <a:avLst/>
            <a:gdLst>
              <a:gd name="textAreaLeft" fmla="*/ 278640 w 1820880"/>
              <a:gd name="textAreaRight" fmla="*/ 1542240 w 1820880"/>
              <a:gd name="textAreaTop" fmla="*/ 128880 h 843120"/>
              <a:gd name="textAreaBottom" fmla="*/ 714240 h 84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01" y="21600"/>
                </a:lnTo>
                <a:lnTo>
                  <a:pt x="2799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641600" y="4858560"/>
            <a:ext cx="1447560" cy="1429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712520" y="3598200"/>
            <a:ext cx="1297800" cy="1293840"/>
            <a:chOff x="1712520" y="3598200"/>
            <a:chExt cx="1297800" cy="1293840"/>
          </a:xfrm>
        </p:grpSpPr>
        <p:grpSp>
          <p:nvGrpSpPr>
            <p:cNvPr id="86" name=""/>
            <p:cNvGrpSpPr/>
            <p:nvPr/>
          </p:nvGrpSpPr>
          <p:grpSpPr>
            <a:xfrm>
              <a:off x="1712520" y="3598200"/>
              <a:ext cx="1297800" cy="1293840"/>
              <a:chOff x="1712520" y="3598200"/>
              <a:chExt cx="1297800" cy="1293840"/>
            </a:xfrm>
          </p:grpSpPr>
          <p:sp>
            <p:nvSpPr>
              <p:cNvPr id="87" name=""/>
              <p:cNvSpPr/>
              <p:nvPr/>
            </p:nvSpPr>
            <p:spPr>
              <a:xfrm rot="649800">
                <a:off x="1806480" y="3692520"/>
                <a:ext cx="1109880" cy="110484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808080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649800">
                <a:off x="1868400" y="3752280"/>
                <a:ext cx="984960" cy="983880"/>
              </a:xfrm>
              <a:prstGeom prst="ellipse">
                <a:avLst/>
              </a:prstGeom>
              <a:gradFill rotWithShape="0">
                <a:gsLst>
                  <a:gs pos="0">
                    <a:srgbClr val="0095b8">
                      <a:alpha val="90196"/>
                    </a:srgbClr>
                  </a:gs>
                  <a:gs pos="100000">
                    <a:srgbClr val="00b4de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未知"/>
            <p:cNvSpPr/>
            <p:nvPr/>
          </p:nvSpPr>
          <p:spPr>
            <a:xfrm rot="16200000">
              <a:off x="2069280" y="4021920"/>
              <a:ext cx="421560" cy="84420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 rot="5400000">
              <a:off x="2207880" y="3612600"/>
              <a:ext cx="421560" cy="84420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785960" y="3995640"/>
            <a:ext cx="1127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87640" y="1844640"/>
            <a:ext cx="1366920" cy="2664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3659040" y="4483080"/>
            <a:ext cx="1820880" cy="843120"/>
          </a:xfrm>
          <a:custGeom>
            <a:avLst/>
            <a:gdLst>
              <a:gd name="textAreaLeft" fmla="*/ 278640 w 1820880"/>
              <a:gd name="textAreaRight" fmla="*/ 1542240 w 1820880"/>
              <a:gd name="textAreaTop" fmla="*/ 128880 h 843120"/>
              <a:gd name="textAreaBottom" fmla="*/ 714240 h 84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01" y="21600"/>
                </a:lnTo>
                <a:lnTo>
                  <a:pt x="2799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836880" y="4858560"/>
            <a:ext cx="1447920" cy="1429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908160" y="3598200"/>
            <a:ext cx="1297440" cy="1293480"/>
            <a:chOff x="3908160" y="3598200"/>
            <a:chExt cx="1297440" cy="1293480"/>
          </a:xfrm>
        </p:grpSpPr>
        <p:grpSp>
          <p:nvGrpSpPr>
            <p:cNvPr id="96" name=""/>
            <p:cNvGrpSpPr/>
            <p:nvPr/>
          </p:nvGrpSpPr>
          <p:grpSpPr>
            <a:xfrm>
              <a:off x="3908160" y="3598200"/>
              <a:ext cx="1297440" cy="1293480"/>
              <a:chOff x="3908160" y="3598200"/>
              <a:chExt cx="1297440" cy="1293480"/>
            </a:xfrm>
          </p:grpSpPr>
          <p:sp>
            <p:nvSpPr>
              <p:cNvPr id="97" name=""/>
              <p:cNvSpPr/>
              <p:nvPr/>
            </p:nvSpPr>
            <p:spPr>
              <a:xfrm rot="649800">
                <a:off x="4002120" y="3692520"/>
                <a:ext cx="1109520" cy="110484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808080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649800">
                <a:off x="4064040" y="3752280"/>
                <a:ext cx="984600" cy="983880"/>
              </a:xfrm>
              <a:prstGeom prst="ellipse">
                <a:avLst/>
              </a:prstGeom>
              <a:gradFill rotWithShape="0">
                <a:gsLst>
                  <a:gs pos="0">
                    <a:srgbClr val="0095b8">
                      <a:alpha val="90196"/>
                    </a:srgbClr>
                  </a:gs>
                  <a:gs pos="100000">
                    <a:srgbClr val="00b4de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未知"/>
            <p:cNvSpPr/>
            <p:nvPr/>
          </p:nvSpPr>
          <p:spPr>
            <a:xfrm rot="16200000">
              <a:off x="4264560" y="4021920"/>
              <a:ext cx="421560" cy="843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 rot="5400000">
              <a:off x="4403520" y="3612600"/>
              <a:ext cx="421560" cy="843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981600" y="3995640"/>
            <a:ext cx="1126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75360" y="1844640"/>
            <a:ext cx="1366920" cy="2664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5846760" y="4483080"/>
            <a:ext cx="1820880" cy="843120"/>
          </a:xfrm>
          <a:custGeom>
            <a:avLst/>
            <a:gdLst>
              <a:gd name="textAreaLeft" fmla="*/ 278640 w 1820880"/>
              <a:gd name="textAreaRight" fmla="*/ 1542240 w 1820880"/>
              <a:gd name="textAreaTop" fmla="*/ 128880 h 843120"/>
              <a:gd name="textAreaBottom" fmla="*/ 714240 h 84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01" y="21600"/>
                </a:lnTo>
                <a:lnTo>
                  <a:pt x="2799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024600" y="4858560"/>
            <a:ext cx="1447920" cy="1429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095880" y="3598200"/>
            <a:ext cx="1297440" cy="1293480"/>
            <a:chOff x="6095880" y="3598200"/>
            <a:chExt cx="1297440" cy="1293480"/>
          </a:xfrm>
        </p:grpSpPr>
        <p:grpSp>
          <p:nvGrpSpPr>
            <p:cNvPr id="106" name=""/>
            <p:cNvGrpSpPr/>
            <p:nvPr/>
          </p:nvGrpSpPr>
          <p:grpSpPr>
            <a:xfrm>
              <a:off x="6095880" y="3598200"/>
              <a:ext cx="1297440" cy="1293480"/>
              <a:chOff x="6095880" y="3598200"/>
              <a:chExt cx="1297440" cy="1293480"/>
            </a:xfrm>
          </p:grpSpPr>
          <p:sp>
            <p:nvSpPr>
              <p:cNvPr id="107" name=""/>
              <p:cNvSpPr/>
              <p:nvPr/>
            </p:nvSpPr>
            <p:spPr>
              <a:xfrm rot="649800">
                <a:off x="6189840" y="3692520"/>
                <a:ext cx="1109520" cy="110484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808080">
                      <a:alpha val="90196"/>
                    </a:srgbClr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649800">
                <a:off x="6251760" y="3752280"/>
                <a:ext cx="984600" cy="983880"/>
              </a:xfrm>
              <a:prstGeom prst="ellipse">
                <a:avLst/>
              </a:prstGeom>
              <a:gradFill rotWithShape="0">
                <a:gsLst>
                  <a:gs pos="0">
                    <a:srgbClr val="0095b8">
                      <a:alpha val="90196"/>
                    </a:srgbClr>
                  </a:gs>
                  <a:gs pos="100000">
                    <a:srgbClr val="00b4de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未知"/>
            <p:cNvSpPr/>
            <p:nvPr/>
          </p:nvSpPr>
          <p:spPr>
            <a:xfrm rot="16200000">
              <a:off x="6452280" y="4021920"/>
              <a:ext cx="421560" cy="843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627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 rot="5400000">
              <a:off x="6591240" y="3612600"/>
              <a:ext cx="421560" cy="8438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168960" y="3995640"/>
            <a:ext cx="1127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1844640"/>
            <a:ext cx="13669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7640" y="1844640"/>
            <a:ext cx="13669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4720" y="1844640"/>
            <a:ext cx="13669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049560" y="2421000"/>
            <a:ext cx="863640" cy="1146240"/>
            <a:chOff x="3049560" y="2421000"/>
            <a:chExt cx="863640" cy="1146240"/>
          </a:xfrm>
        </p:grpSpPr>
        <p:sp>
          <p:nvSpPr>
            <p:cNvPr id="116" name=""/>
            <p:cNvSpPr/>
            <p:nvPr/>
          </p:nvSpPr>
          <p:spPr>
            <a:xfrm rot="16200000">
              <a:off x="2908080" y="2562120"/>
              <a:ext cx="1146240" cy="863640"/>
            </a:xfrm>
            <a:prstGeom prst="downArrow">
              <a:avLst>
                <a:gd name="adj1" fmla="val 52074"/>
                <a:gd name="adj2" fmla="val 57903"/>
              </a:avLst>
            </a:prstGeom>
            <a:gradFill rotWithShape="0">
              <a:gsLst>
                <a:gs pos="0">
                  <a:srgbClr val="0095b8">
                    <a:alpha val="0"/>
                  </a:srgbClr>
                </a:gs>
                <a:gs pos="100000">
                  <a:srgbClr val="00b4d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200000">
              <a:off x="3019320" y="2687760"/>
              <a:ext cx="895320" cy="612720"/>
            </a:xfrm>
            <a:prstGeom prst="downArrow">
              <a:avLst>
                <a:gd name="adj1" fmla="val 52074"/>
                <a:gd name="adj2" fmla="val 57903"/>
              </a:avLst>
            </a:pr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ffffff">
                    <a:alpha val="4235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249880" y="2421000"/>
            <a:ext cx="863640" cy="1146240"/>
            <a:chOff x="5249880" y="2421000"/>
            <a:chExt cx="863640" cy="1146240"/>
          </a:xfrm>
        </p:grpSpPr>
        <p:sp>
          <p:nvSpPr>
            <p:cNvPr id="119" name=""/>
            <p:cNvSpPr/>
            <p:nvPr/>
          </p:nvSpPr>
          <p:spPr>
            <a:xfrm rot="16200000">
              <a:off x="5108400" y="2562120"/>
              <a:ext cx="1146240" cy="863640"/>
            </a:xfrm>
            <a:prstGeom prst="downArrow">
              <a:avLst>
                <a:gd name="adj1" fmla="val 52074"/>
                <a:gd name="adj2" fmla="val 57903"/>
              </a:avLst>
            </a:prstGeom>
            <a:gradFill rotWithShape="0">
              <a:gsLst>
                <a:gs pos="0">
                  <a:srgbClr val="0095b8">
                    <a:alpha val="0"/>
                  </a:srgbClr>
                </a:gs>
                <a:gs pos="100000">
                  <a:srgbClr val="00b4d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5219640" y="2687760"/>
              <a:ext cx="895320" cy="612720"/>
            </a:xfrm>
            <a:prstGeom prst="downArrow">
              <a:avLst>
                <a:gd name="adj1" fmla="val 52074"/>
                <a:gd name="adj2" fmla="val 57903"/>
              </a:avLst>
            </a:prstGeom>
            <a:gradFill rotWithShape="0">
              <a:gsLst>
                <a:gs pos="0">
                  <a:srgbClr val="808080">
                    <a:alpha val="0"/>
                  </a:srgbClr>
                </a:gs>
                <a:gs pos="100000">
                  <a:srgbClr val="ffffff">
                    <a:alpha val="4235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2920" y="348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1800"/>
            <a:ext cx="8207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6454800"/>
            <a:ext cx="6427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458a"/>
                </a:solidFill>
                <a:uFillTx/>
                <a:latin typeface="Arial"/>
                <a:hlinkClick r:id="rId1"/>
              </a:rPr>
              <a:t>卡通ppt模板下载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http://www.eeppt.com/moban/katong/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094280"/>
            <a:ext cx="5408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谢谢欣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458a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4316-1782-47F1-ABD3-87E945702A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1:54Z</dcterms:created>
  <dc:creator/>
  <dc:description/>
  <dc:language>en-US</dc:language>
  <cp:lastModifiedBy/>
  <dcterms:modified xsi:type="dcterms:W3CDTF">2015-07-04T08:38:4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