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9F5-843D-47FC-8F47-755E3AD9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2324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3DD-1DA9-41E5-A024-0AC401AD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33E-1B49-45F5-8225-E0EDB518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D24-F2A2-4692-8700-4AF58DB2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D23F-342B-4C6D-A237-7C6C3DE9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EEA6-DE53-49C7-A8CD-3164459D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D818-408A-4696-8691-E3058E5A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1C06-E48F-43BC-A39B-8926A0B1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214F-8AA8-4348-AFC3-57342285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6560" y="1123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61A7-5EF1-42CC-A258-60319FC9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A629-BC2F-4B60-A560-25F1A990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BDE-694F-4544-AB84-AFC1757A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3243-818E-4154-85E5-93537D2E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DF4C-1490-4BB3-AE7F-C5164DA7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2324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A5FA-5FAE-4147-BC2B-57664056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B42B-FB7C-46B0-A43B-FBA9FDF6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A303-AB11-407E-9A3C-2AF2AAB8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641-4D81-4665-B661-FC454BB1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D40-0043-446E-90C8-B6E10724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09D-15A6-485B-A3E2-C6F03680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560" y="1123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C39-C755-452E-969F-72F1E84A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BD5-032F-4D69-ACAF-1D08AD72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EE5-66A3-4A78-B11B-7382990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5E3-32B5-4938-8F7A-4A7C07E0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9461-AEBC-49DA-A32E-C701FC317E78}" type="datetime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DE0C-1317-4CE6-A0EA-005888418B70}" type="slidenum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221000"/>
            <a:ext cx="835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229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4920"/>
            <a:ext cx="3111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9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A2AC-EED1-44A2-9A88-28BEAF953732}" type="slidenum"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  <a:p>
            <a:pPr lvl="1" marL="457200" indent="457200">
              <a:spcBef>
                <a:spcPts val="499"/>
              </a:spcBef>
              <a:buClr>
                <a:srgbClr val="333333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333333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Calibri"/>
            </a:endParaRPr>
          </a:p>
          <a:p>
            <a:pPr lvl="3" marL="1371600" indent="-457200">
              <a:spcBef>
                <a:spcPts val="400"/>
              </a:spcBef>
              <a:buClr>
                <a:srgbClr val="333333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  <a:p>
            <a:pPr lvl="4" marL="1828800" indent="-914400">
              <a:spcBef>
                <a:spcPts val="400"/>
              </a:spcBef>
              <a:buClr>
                <a:srgbClr val="333333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4221000"/>
            <a:ext cx="835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0504d"/>
                </a:solidFill>
                <a:latin typeface="Calibri"/>
              </a:rPr>
              <a:t>涂鸦</a:t>
            </a:r>
            <a:r>
              <a:rPr b="1" lang="zh-CN" sz="5000" spc="-1" strike="noStrike">
                <a:solidFill>
                  <a:srgbClr val="c0504d"/>
                </a:solidFill>
                <a:latin typeface="Calibri"/>
              </a:rPr>
              <a:t>ppt</a:t>
            </a:r>
            <a:r>
              <a:rPr b="1" lang="zh-CN" sz="5000" spc="-1" strike="noStrike">
                <a:solidFill>
                  <a:srgbClr val="c0504d"/>
                </a:solidFill>
                <a:latin typeface="Calibri"/>
              </a:rPr>
              <a:t>模板</a:t>
            </a:r>
            <a:endParaRPr b="1" lang="en-US" sz="5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66560" y="5733720"/>
            <a:ext cx="6878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1" lang="en-US" sz="1400" spc="-1" strike="noStrike">
              <a:solidFill>
                <a:srgbClr val="cc99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E18-7A4A-4C59-B2B7-83D3A9642F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7:42:00Z</dcterms:created>
  <dc:creator>USER</dc:creator>
  <dc:description/>
  <dc:language>en-US</dc:language>
  <cp:lastModifiedBy>a</cp:lastModifiedBy>
  <dcterms:modified xsi:type="dcterms:W3CDTF">2015-07-04T08:36:53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