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11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7.gif" ContentType="image/gif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C9B2-8401-4E46-8CD9-B9C188B4E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1660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C27D-3780-4452-BB76-46A0EC7D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1660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ED12-6576-4C8A-8C48-4100329C2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1736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1736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1660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1660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1660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0BA2-BAFB-4FC2-B03B-5F648E1C9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CC4D-52B4-4816-85B8-016A2B5F0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17360"/>
            <a:ext cx="822960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9A74-6967-4BE8-9F8A-9C9208A8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82296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9D29-974F-46BA-A4A2-01C3FF4E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40158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17360"/>
            <a:ext cx="40158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299E6-58A8-449A-894C-EFBBCDB8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685C-F31D-4381-919D-0CED26AE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6560" y="1125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6DAC-D7EF-44A2-B2D3-5CCF732F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17360"/>
            <a:ext cx="40158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4EFC-2CFA-4A01-A0B4-0D046FE0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17360"/>
            <a:ext cx="822960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DCD4-132A-4F00-B225-D44B1990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40158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1660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9BEB-4736-4156-A35F-ADFE8A4E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180E-F078-47F2-A4CC-F1A53FB8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1660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ED8A-DC21-4B6F-B144-9BF2FDA8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1660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1A3B8-9860-44EF-B22C-D4DFBE794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1736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1736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1660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1660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1660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1FBC-67D4-4ECD-9EA4-71FD42B64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ED319-7F24-4AE0-B6C5-0DE6D3C6D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917360"/>
            <a:ext cx="822960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4BC9B-1841-4267-8865-E1B04A75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82296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B6A80-BD07-4922-968E-478531B5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40158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17360"/>
            <a:ext cx="40158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50A02-1BF0-4178-A992-D73E5457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307D6-B475-4FB7-9BF4-DAB9EA49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82296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F24C-D7BD-4195-9B3C-AE5F3AFB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66560" y="1125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CFA92-C1BA-4342-BD09-DDBAC49F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17360"/>
            <a:ext cx="40158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9CC7D-23A8-4B49-A4FC-9A242707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40158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11660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89CD8-D1C5-49F2-A96A-48D057DA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E25E0-04C3-493C-88E2-1B7D012F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11660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47512-EF10-41A3-922D-6AA4CD2A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11660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A7F65-04C0-4F35-87DC-1BADF08FC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91736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91736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11660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11660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11660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61BF6-2324-43BB-949A-6ABCA25F4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40158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17360"/>
            <a:ext cx="40158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DFF9-CD4D-4682-891C-016462A9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BF27-A5B6-49CF-BC88-ADCD5B62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6560" y="1125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CA45-7968-4C1E-A681-954457C9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17360"/>
            <a:ext cx="40158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7944-08F6-4483-8F77-5DD7AB3D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40158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1660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2322-2713-4B4C-A40D-F84122EF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39F6-1832-4216-9031-712C09AC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7B48-48D4-4B6F-9DEA-B7D241BA9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17360"/>
            <a:ext cx="82296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9985-EBDA-4893-892B-B80FCC7FB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7191-8254-4A04-A3A2-EEB670182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8720" y="1989000"/>
            <a:ext cx="482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EC81-2101-48E9-8372-6940F82623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  <a:ea typeface="迷你简稚艺"/>
              </a:rPr>
              <a:t>还好我是个胖子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2360" y="2204640"/>
            <a:ext cx="8217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还好我是个胖子，无聊的时候可以捏捏肚子。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还好我是个胖子，起床的时候可以捏捏肚子。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还好我是个胖子，寂寞的时候可以捏捏肚子。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还好我是个胖子，上课的时候可以捏捏肚子。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还好我是个胖子，难过的时候可以捏捏肚子。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92360" y="189000"/>
            <a:ext cx="1149120" cy="114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  <a:ea typeface="迷你简稚艺"/>
              </a:rPr>
              <a:t>每个人心中，都有一只妖孽哇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55640" y="2204640"/>
            <a:ext cx="59785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天晚上在家里上网，旺旺突然跳了出来窗口来对我说：“亲，我怀孕了”哥顿时一惊，心说自己没闯什么祸吧？ 正发愣，那人又说：“明天去医院检查。” 心想你丫到底是谁，难道还要我陪你去检查，想讹我不成？正琢磨着，那人又说：“只能后天给你发货了” 靠，原来下午在丫那里买过东西。。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81080" y="2565360"/>
            <a:ext cx="266364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迷你简毡笔黑"/>
              </a:rPr>
              <a:t>小明一岁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8280" y="1917360"/>
            <a:ext cx="81457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迷你简毡笔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迷你简毡笔黑"/>
                <a:ea typeface="迷你简毡笔黑"/>
              </a:rPr>
              <a:t>小明一岁时，他第一次喊爷爷，于是爷爷死了。没多久他第一次喊妈妈，于是妈妈死了。再后来，他喊爸爸，于是隔壁的王木匠死了</a:t>
            </a:r>
            <a:r>
              <a:rPr b="0" lang="en-US" sz="2400" spc="-1" strike="noStrike">
                <a:solidFill>
                  <a:srgbClr val="009999"/>
                </a:solidFill>
                <a:latin typeface="迷你简毡笔黑"/>
                <a:ea typeface="迷你简毡笔黑"/>
              </a:rPr>
              <a:t>.</a:t>
            </a:r>
            <a:r>
              <a:rPr b="0" lang="zh-CN" sz="2400" spc="-1" strike="noStrike">
                <a:solidFill>
                  <a:srgbClr val="009999"/>
                </a:solidFill>
                <a:latin typeface="迷你简毡笔黑"/>
                <a:ea typeface="迷你简毡笔黑"/>
              </a:rPr>
              <a:t>一位清华博士指出，这个笑话有</a:t>
            </a:r>
            <a:r>
              <a:rPr b="0" lang="en-US" sz="2400" spc="-1" strike="noStrike">
                <a:solidFill>
                  <a:srgbClr val="009999"/>
                </a:solidFill>
                <a:latin typeface="迷你简毡笔黑"/>
                <a:ea typeface="迷你简毡笔黑"/>
              </a:rPr>
              <a:t>bug</a:t>
            </a:r>
            <a:r>
              <a:rPr b="0" lang="zh-CN" sz="2400" spc="-1" strike="noStrike">
                <a:solidFill>
                  <a:srgbClr val="009999"/>
                </a:solidFill>
                <a:latin typeface="迷你简毡笔黑"/>
                <a:ea typeface="迷你简毡笔黑"/>
              </a:rPr>
              <a:t>，喊爷爷时应该是隔壁王木匠的爹死掉</a:t>
            </a:r>
            <a:r>
              <a:rPr b="0" lang="en-US" sz="2400" spc="-1" strike="noStrike">
                <a:solidFill>
                  <a:srgbClr val="009999"/>
                </a:solidFill>
                <a:latin typeface="迷你简毡笔黑"/>
                <a:ea typeface="迷你简毡笔黑"/>
              </a:rPr>
              <a:t>.</a:t>
            </a:r>
            <a:r>
              <a:rPr b="0" lang="zh-CN" sz="2400" spc="-1" strike="noStrike">
                <a:solidFill>
                  <a:srgbClr val="009999"/>
                </a:solidFill>
                <a:latin typeface="迷你简毡笔黑"/>
                <a:ea typeface="迷你简毡笔黑"/>
              </a:rPr>
              <a:t>而一位交大的同学指出：隔壁木匠的母亲知道这不是个</a:t>
            </a:r>
            <a:r>
              <a:rPr b="0" lang="en-US" sz="2400" spc="-1" strike="noStrike">
                <a:solidFill>
                  <a:srgbClr val="009999"/>
                </a:solidFill>
                <a:latin typeface="迷你简毡笔黑"/>
                <a:ea typeface="迷你简毡笔黑"/>
              </a:rPr>
              <a:t>bug</a:t>
            </a:r>
            <a:r>
              <a:rPr b="0" lang="zh-CN" sz="2400" spc="-1" strike="noStrike">
                <a:solidFill>
                  <a:srgbClr val="009999"/>
                </a:solidFill>
                <a:latin typeface="迷你简毡笔黑"/>
                <a:ea typeface="迷你简毡笔黑"/>
              </a:rPr>
              <a:t>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221440" y="3860640"/>
            <a:ext cx="1530360" cy="14241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79280" y="652608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00000" y="191736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有多少人跟我一样，喜欢“挖鼻屎”这个表情？有的请转发！！！ </a:t>
            </a:r>
            <a:r>
              <a:rPr b="1" lang="en-US" sz="36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[</a:t>
            </a:r>
            <a:r>
              <a:rPr b="1" lang="zh-CN" sz="36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挖鼻屎</a:t>
            </a:r>
            <a:r>
              <a:rPr b="1" lang="en-US" sz="36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]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997440" y="3349800"/>
            <a:ext cx="1149120" cy="106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迷你简毡笔黑"/>
                <a:ea typeface="迷你简毡笔黑"/>
              </a:rPr>
              <a:t>80</a:t>
            </a:r>
            <a:r>
              <a:rPr b="1" lang="zh-CN" sz="2400" spc="-1" strike="noStrike">
                <a:solidFill>
                  <a:srgbClr val="ffffff"/>
                </a:solidFill>
                <a:latin typeface="迷你简毡笔黑"/>
                <a:ea typeface="迷你简毡笔黑"/>
              </a:rPr>
              <a:t>后的</a:t>
            </a:r>
            <a:r>
              <a:rPr b="1" lang="en-US" sz="2400" spc="-1" strike="noStrike">
                <a:solidFill>
                  <a:srgbClr val="ffffff"/>
                </a:solidFill>
                <a:latin typeface="迷你简毡笔黑"/>
                <a:ea typeface="迷你简毡笔黑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迷你简毡笔黑"/>
                <a:ea typeface="迷你简毡笔黑"/>
              </a:rPr>
              <a:t>个小悲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82296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天凌晨才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觉不够睡钱不够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手机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时开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平时起不来，周末睡不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狂想去远方旅游，却只能在近郊瞎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怀疑自己抑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觉自己亚健康，只能亚下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想些不着边际的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知道自己是成熟还是世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前认为特鄙视的事变得能接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29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91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3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34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2">
                                          <p:stCondLst>
                                            <p:cond delay="83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" dur="14" fill="hold">
                                          <p:stCondLst>
                                            <p:cond delay="32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" dur="82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14" fill="hold">
                                          <p:stCondLst>
                                            <p:cond delay="65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" dur="82" fill="hold">
                                          <p:stCondLst>
                                            <p:cond delay="67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14" fill="hold">
                                          <p:stCondLst>
                                            <p:cond delay="82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" dur="82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14" fill="hold">
                                          <p:stCondLst>
                                            <p:cond delay="90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" dur="82" fill="hold">
                                          <p:stCondLst>
                                            <p:cond delay="91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29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91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4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2">
                                          <p:stCondLst>
                                            <p:cond delay="83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" dur="14" fill="hold">
                                          <p:stCondLst>
                                            <p:cond delay="32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" dur="82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14" fill="hold">
                                          <p:stCondLst>
                                            <p:cond delay="65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" dur="82" fill="hold">
                                          <p:stCondLst>
                                            <p:cond delay="67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14" fill="hold">
                                          <p:stCondLst>
                                            <p:cond delay="82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" dur="82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14" fill="hold">
                                          <p:stCondLst>
                                            <p:cond delay="90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" dur="82" fill="hold">
                                          <p:stCondLst>
                                            <p:cond delay="91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29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91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3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34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2">
                                          <p:stCondLst>
                                            <p:cond delay="83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" dur="14" fill="hold">
                                          <p:stCondLst>
                                            <p:cond delay="32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" dur="82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14" fill="hold">
                                          <p:stCondLst>
                                            <p:cond delay="65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" dur="82" fill="hold">
                                          <p:stCondLst>
                                            <p:cond delay="67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14" fill="hold">
                                          <p:stCondLst>
                                            <p:cond delay="82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" dur="82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14" fill="hold">
                                          <p:stCondLst>
                                            <p:cond delay="90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" dur="82" fill="hold">
                                          <p:stCondLst>
                                            <p:cond delay="91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29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91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4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2">
                                          <p:stCondLst>
                                            <p:cond delay="83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14" fill="hold">
                                          <p:stCondLst>
                                            <p:cond delay="32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82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14" fill="hold">
                                          <p:stCondLst>
                                            <p:cond delay="65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82" fill="hold">
                                          <p:stCondLst>
                                            <p:cond delay="67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14" fill="hold">
                                          <p:stCondLst>
                                            <p:cond delay="82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82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14" fill="hold">
                                          <p:stCondLst>
                                            <p:cond delay="90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82" fill="hold">
                                          <p:stCondLst>
                                            <p:cond delay="91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29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91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4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2">
                                          <p:stCondLst>
                                            <p:cond delay="83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" dur="14" fill="hold">
                                          <p:stCondLst>
                                            <p:cond delay="32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" dur="82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14" fill="hold">
                                          <p:stCondLst>
                                            <p:cond delay="65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" dur="82" fill="hold">
                                          <p:stCondLst>
                                            <p:cond delay="67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14" fill="hold">
                                          <p:stCondLst>
                                            <p:cond delay="82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" dur="82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14" fill="hold">
                                          <p:stCondLst>
                                            <p:cond delay="90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" dur="82" fill="hold">
                                          <p:stCondLst>
                                            <p:cond delay="91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29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91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3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4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2">
                                          <p:stCondLst>
                                            <p:cond delay="83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14" fill="hold">
                                          <p:stCondLst>
                                            <p:cond delay="32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82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14" fill="hold">
                                          <p:stCondLst>
                                            <p:cond delay="65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82" fill="hold">
                                          <p:stCondLst>
                                            <p:cond delay="67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14" fill="hold">
                                          <p:stCondLst>
                                            <p:cond delay="82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82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14" fill="hold">
                                          <p:stCondLst>
                                            <p:cond delay="90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82" fill="hold">
                                          <p:stCondLst>
                                            <p:cond delay="91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29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91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4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2">
                                          <p:stCondLst>
                                            <p:cond delay="83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" dur="14" fill="hold">
                                          <p:stCondLst>
                                            <p:cond delay="32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" dur="82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14" fill="hold">
                                          <p:stCondLst>
                                            <p:cond delay="65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" dur="82" fill="hold">
                                          <p:stCondLst>
                                            <p:cond delay="67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14" fill="hold">
                                          <p:stCondLst>
                                            <p:cond delay="82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" dur="82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14" fill="hold">
                                          <p:stCondLst>
                                            <p:cond delay="90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" dur="82" fill="hold">
                                          <p:stCondLst>
                                            <p:cond delay="91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29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91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3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34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2">
                                          <p:stCondLst>
                                            <p:cond delay="83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" dur="14" fill="hold">
                                          <p:stCondLst>
                                            <p:cond delay="32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1" dur="82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14" fill="hold">
                                          <p:stCondLst>
                                            <p:cond delay="65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" dur="82" fill="hold">
                                          <p:stCondLst>
                                            <p:cond delay="67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14" fill="hold">
                                          <p:stCondLst>
                                            <p:cond delay="82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5" dur="82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14" fill="hold">
                                          <p:stCondLst>
                                            <p:cond delay="90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" dur="82" fill="hold">
                                          <p:stCondLst>
                                            <p:cond delay="91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29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91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3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4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2">
                                          <p:stCondLst>
                                            <p:cond delay="83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" dur="14" fill="hold">
                                          <p:stCondLst>
                                            <p:cond delay="32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" dur="82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14" fill="hold">
                                          <p:stCondLst>
                                            <p:cond delay="65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" dur="82" fill="hold">
                                          <p:stCondLst>
                                            <p:cond delay="67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14" fill="hold">
                                          <p:stCondLst>
                                            <p:cond delay="82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" dur="82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14" fill="hold">
                                          <p:stCondLst>
                                            <p:cond delay="90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" dur="82" fill="hold">
                                          <p:stCondLst>
                                            <p:cond delay="91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29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91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3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4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2">
                                          <p:stCondLst>
                                            <p:cond delay="83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" dur="14" fill="hold">
                                          <p:stCondLst>
                                            <p:cond delay="32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" dur="82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14" fill="hold">
                                          <p:stCondLst>
                                            <p:cond delay="65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" dur="82" fill="hold">
                                          <p:stCondLst>
                                            <p:cond delay="67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14" fill="hold">
                                          <p:stCondLst>
                                            <p:cond delay="82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" dur="82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14" fill="hold">
                                          <p:stCondLst>
                                            <p:cond delay="90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" dur="82" fill="hold">
                                          <p:stCondLst>
                                            <p:cond delay="91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8360" y="1412640"/>
            <a:ext cx="25210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把图向左旋转</a:t>
            </a:r>
            <a:r>
              <a:rPr b="1" lang="en-US" sz="24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度，有意外发生哦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564000" y="1628640"/>
            <a:ext cx="27208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205" dur="1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6" dur="1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7" dur="1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20">
                                      <p:cBhvr>
                                        <p:cTn id="2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20">
                                      <p:cBhvr>
                                        <p:cTn id="2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76360" y="1773360"/>
            <a:ext cx="511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9999"/>
              </a:buClr>
              <a:buFont typeface="迷你简毡笔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9999"/>
                </a:solidFill>
                <a:latin typeface="迷你简毡笔黑"/>
                <a:ea typeface="迷你简毡笔黑"/>
              </a:rPr>
              <a:t>偶像剧里的故事多么让人憧憬，但是，这年头，能在宿舍楼下默默等着你，给你送上温热的早饭午饭晚饭，不管严寒酷暑刮风下雨总会很耐心的男人，只会是——送外卖的。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044720" y="1773360"/>
            <a:ext cx="2138040" cy="22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4350"/>
                            </p:stCondLst>
                            <p:childTnLst>
                              <p:par>
                                <p:cTn id="2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708000" y="1844640"/>
            <a:ext cx="49690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99"/>
                </a:solidFill>
                <a:latin typeface="方正少儿_GBK"/>
                <a:ea typeface="方正少儿_GBK"/>
              </a:rPr>
              <a:t> </a:t>
            </a:r>
            <a:r>
              <a:rPr b="0" lang="zh-CN" sz="2400" spc="-1" strike="noStrike">
                <a:solidFill>
                  <a:srgbClr val="336699"/>
                </a:solidFill>
                <a:latin typeface="方正少儿_GBK"/>
                <a:ea typeface="方正少儿_GBK"/>
              </a:rPr>
              <a:t>两头牛在一起吃草，青牛问黑牛：“喂你的草是什么味道？”黑牛道：“草莓味！”青牛靠过来吃了一口，愤怒地喊到“你骗我！”黑牛轻蔑地看他一眼，回道：“笨蛋，我说草没味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12720" y="2205000"/>
            <a:ext cx="3260880" cy="3025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 rot="5400000">
            <a:off x="2363400" y="2325600"/>
            <a:ext cx="1729080" cy="334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幼圆"/>
              </a:rPr>
              <a:t>草莓味儿？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360"/>
                            </p:stCondLst>
                            <p:childTnLst>
                              <p:par>
                                <p:cTn id="23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3T13:42:04Z</dcterms:created>
  <dc:creator/>
  <dc:description/>
  <dc:language>en-US</dc:language>
  <cp:lastModifiedBy/>
  <dcterms:modified xsi:type="dcterms:W3CDTF">2015-07-04T08:10:2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