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D73-1D16-4F10-8590-3C82B372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224-50F1-4148-8E0E-E62E499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065-E529-4AD3-A3FF-1FA8F4D6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FDD-1FB9-4FDB-8D66-22B78F98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D5CF-42F1-4B84-8DB2-FE9FE2A8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02FF-0FF1-47D0-A698-71978F7B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D076-AFC4-429C-8259-01969A50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CB4C-14F6-444F-B84B-A4CF348C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165-5406-42CD-B3E4-F93BE00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7A21-CE90-401C-BFE8-2DD78C33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35EB-96A9-4564-B8ED-27EBD62F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323-9FC7-477D-BDDD-10D0E8C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5CC4-DBCC-4CEC-9EF3-99FD39BB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7B50-AB54-44C8-93FA-4762CD23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115-A8FE-4F35-B391-5CD4A70F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2A2D-B7CE-4585-B5C5-B03E7622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764-1609-4E63-9517-21360D88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B53-2DA0-4111-88D6-4BF82C6F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CE8-809A-4D47-9C33-0CBF2F99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034-0191-493E-A541-0DC34530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A51-D262-4229-99D1-D945A75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604-BA50-42B3-881F-6A4E314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E04-21CE-44BD-A7B0-E591F723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269-1634-4C3C-9EE8-D3E79396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4B6-C6B9-4502-A218-AF1B2A131361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0B38-4218-4C4B-8F42-1BE591D2C348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 (9)\5.jpg"/>
          <p:cNvPicPr/>
          <p:nvPr/>
        </p:nvPicPr>
        <p:blipFill>
          <a:blip r:embed="rId3"/>
          <a:stretch/>
        </p:blipFill>
        <p:spPr>
          <a:xfrm>
            <a:off x="-46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8382-8345-4042-9047-BE490673A787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007A-51A6-4C03-9AFE-A21DA057C17F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五彩艺术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26366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8E94-AEF4-46A7-B3BF-9E583127B205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B65-929A-46ED-AEE8-D7E22EA34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willon</cp:lastModifiedBy>
  <dcterms:modified xsi:type="dcterms:W3CDTF">2015-07-04T08:00:18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