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5B9-087B-4420-9F5A-EDDE40CB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780-E54B-4167-912B-DFE2BF7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25F-C9C9-41CE-A04B-21E9895C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71D-D572-42E3-84AB-F1CB4817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319-1827-4FC9-A2E1-FF0496A6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13AD-728C-4E20-91F2-615D7C9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BDA-8728-4D48-8F12-56A2E31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F7D-EF37-47B2-B857-33E338F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8CB-13B4-48F8-8213-3A1E70B3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E53-3131-41C6-A1A1-7C59C329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749-633D-4CC9-8A1E-FF6267A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153-A284-44F2-AB6F-035470F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6087-859E-401C-A86B-117E524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E8C6-896E-4490-B888-A29AE64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FBB-D5A6-4876-8559-C3051CF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EA7-EF72-4390-BAB2-2A123676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862D-2C99-46B4-B104-4EEFCFB0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A1D1-1715-4710-ACA0-90418F56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0A14-BBAA-4C4C-8B2F-53C3BF9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9E4C-AE72-47A0-98A5-D955DC2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7CAC-52D4-4E91-9696-E6991420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7D49-40F1-40F5-875F-A01A3B8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5CD-7C67-4AA4-866A-8EA7E393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8FD4-E07F-4839-BF0B-F0BC4BDC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6DC0-9709-42A0-9D8B-1C0CC71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0F06-3884-46C0-BFCB-FC2B7D5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035F-1C33-4E24-ADE4-79477B5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7040-D5E1-4396-8EC1-666A836B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F0AF-7DE0-4A96-98DA-6B55D532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106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3294-A880-4375-9A14-B82B4360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251-7EC7-4788-A3CB-01F82236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2FC-1D9F-4FD2-9296-6F13CFC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F88-960B-4697-849E-DF7A855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C4C-EF3E-4A37-BA7A-306318C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106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EE7-B0C7-4B9E-875B-280EFC2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106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382-EC3A-47D1-BED2-7099853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5285880"/>
            <a:ext cx="1640880" cy="1482480"/>
            <a:chOff x="77760" y="5285880"/>
            <a:chExt cx="1640880" cy="1482480"/>
          </a:xfrm>
        </p:grpSpPr>
        <p:grpSp>
          <p:nvGrpSpPr>
            <p:cNvPr id="1" name=""/>
            <p:cNvGrpSpPr/>
            <p:nvPr/>
          </p:nvGrpSpPr>
          <p:grpSpPr>
            <a:xfrm>
              <a:off x="570240" y="5892840"/>
              <a:ext cx="172800" cy="191520"/>
              <a:chOff x="570240" y="5892840"/>
              <a:chExt cx="172800" cy="191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21000" y="5916600"/>
                <a:ext cx="122040" cy="167760"/>
                <a:chOff x="621000" y="5916600"/>
                <a:chExt cx="122040" cy="167760"/>
              </a:xfrm>
            </p:grpSpPr>
            <p:sp>
              <p:nvSpPr>
                <p:cNvPr id="3" name="未知"/>
                <p:cNvSpPr/>
                <p:nvPr/>
              </p:nvSpPr>
              <p:spPr>
                <a:xfrm flipH="1" flipV="1" rot="1471200">
                  <a:off x="633960" y="599868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未知"/>
                <p:cNvSpPr/>
                <p:nvPr/>
              </p:nvSpPr>
              <p:spPr>
                <a:xfrm flipH="1" flipV="1" rot="19629600">
                  <a:off x="670680" y="5969160"/>
                  <a:ext cx="55440" cy="770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flipH="1" rot="1471200">
                  <a:off x="667440" y="59245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570240" y="5892840"/>
                <a:ext cx="119520" cy="167040"/>
                <a:chOff x="570240" y="5892840"/>
                <a:chExt cx="119520" cy="167040"/>
              </a:xfrm>
            </p:grpSpPr>
            <p:sp>
              <p:nvSpPr>
                <p:cNvPr id="7" name="未知"/>
                <p:cNvSpPr/>
                <p:nvPr/>
              </p:nvSpPr>
              <p:spPr>
                <a:xfrm flipV="1" rot="1568400">
                  <a:off x="584280" y="597456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flipV="1" rot="5010000">
                  <a:off x="583920" y="5926680"/>
                  <a:ext cx="55440" cy="77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568400">
                  <a:off x="619200" y="59011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486360" y="5285880"/>
              <a:ext cx="229680" cy="253440"/>
              <a:chOff x="486360" y="5285880"/>
              <a:chExt cx="229680" cy="2534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554760" y="5318280"/>
                <a:ext cx="161280" cy="221040"/>
                <a:chOff x="554760" y="5318280"/>
                <a:chExt cx="161280" cy="221040"/>
              </a:xfrm>
            </p:grpSpPr>
            <p:sp>
              <p:nvSpPr>
                <p:cNvPr id="12" name="未知"/>
                <p:cNvSpPr/>
                <p:nvPr/>
              </p:nvSpPr>
              <p:spPr>
                <a:xfrm flipH="1" flipV="1" rot="1471200">
                  <a:off x="572040" y="542700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flipH="1" flipV="1" rot="19629600">
                  <a:off x="620640" y="5387040"/>
                  <a:ext cx="7272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flipH="1" rot="1471200">
                  <a:off x="617040" y="532908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486360" y="5285880"/>
                <a:ext cx="158760" cy="220680"/>
                <a:chOff x="486360" y="5285880"/>
                <a:chExt cx="158760" cy="220680"/>
              </a:xfrm>
            </p:grpSpPr>
            <p:sp>
              <p:nvSpPr>
                <p:cNvPr id="16" name="未知"/>
                <p:cNvSpPr/>
                <p:nvPr/>
              </p:nvSpPr>
              <p:spPr>
                <a:xfrm flipV="1" rot="1568400">
                  <a:off x="504360" y="539460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V="1" rot="5010000">
                  <a:off x="505440" y="5331240"/>
                  <a:ext cx="7308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568400">
                  <a:off x="551880" y="529704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77760" y="5385960"/>
              <a:ext cx="673920" cy="699840"/>
              <a:chOff x="77760" y="5385960"/>
              <a:chExt cx="673920" cy="69984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236160" y="5385960"/>
                <a:ext cx="515520" cy="577800"/>
                <a:chOff x="236160" y="5385960"/>
                <a:chExt cx="515520" cy="577800"/>
              </a:xfrm>
            </p:grpSpPr>
            <p:sp>
              <p:nvSpPr>
                <p:cNvPr id="21" name="未知"/>
                <p:cNvSpPr/>
                <p:nvPr/>
              </p:nvSpPr>
              <p:spPr>
                <a:xfrm flipH="1" flipV="1" rot="19290000">
                  <a:off x="483480" y="5653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flipH="1" flipV="1" rot="15848400">
                  <a:off x="448920" y="5483160"/>
                  <a:ext cx="200880" cy="28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flipH="1" rot="19290000">
                  <a:off x="299880" y="5419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"/>
              <p:cNvGrpSpPr/>
              <p:nvPr/>
            </p:nvGrpSpPr>
            <p:grpSpPr>
              <a:xfrm>
                <a:off x="77760" y="5505480"/>
                <a:ext cx="509760" cy="580320"/>
                <a:chOff x="77760" y="5505480"/>
                <a:chExt cx="509760" cy="580320"/>
              </a:xfrm>
            </p:grpSpPr>
            <p:sp>
              <p:nvSpPr>
                <p:cNvPr id="25" name="未知"/>
                <p:cNvSpPr/>
                <p:nvPr/>
              </p:nvSpPr>
              <p:spPr>
                <a:xfrm flipV="1" rot="19387200">
                  <a:off x="320400" y="577512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flipV="1" rot="1228800">
                  <a:off x="168480" y="5696280"/>
                  <a:ext cx="200880" cy="28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387800">
                  <a:off x="140040" y="553896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"/>
            <p:cNvGrpSpPr/>
            <p:nvPr/>
          </p:nvGrpSpPr>
          <p:grpSpPr>
            <a:xfrm>
              <a:off x="1009080" y="5416920"/>
              <a:ext cx="185760" cy="175320"/>
              <a:chOff x="1009080" y="5416920"/>
              <a:chExt cx="185760" cy="175320"/>
            </a:xfrm>
          </p:grpSpPr>
          <p:grpSp>
            <p:nvGrpSpPr>
              <p:cNvPr id="29" name=""/>
              <p:cNvGrpSpPr/>
              <p:nvPr/>
            </p:nvGrpSpPr>
            <p:grpSpPr>
              <a:xfrm>
                <a:off x="1028880" y="5416920"/>
                <a:ext cx="165960" cy="117000"/>
                <a:chOff x="1028880" y="5416920"/>
                <a:chExt cx="165960" cy="117000"/>
              </a:xfrm>
            </p:grpSpPr>
            <p:sp>
              <p:nvSpPr>
                <p:cNvPr id="30" name="未知"/>
                <p:cNvSpPr/>
                <p:nvPr/>
              </p:nvSpPr>
              <p:spPr>
                <a:xfrm flipH="1" flipV="1" rot="17395800">
                  <a:off x="1121760" y="545724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flipH="1" flipV="1" rot="13953600">
                  <a:off x="1089720" y="5423040"/>
                  <a:ext cx="54720" cy="763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 rot="17395200">
                  <a:off x="1045800" y="542916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1009080" y="5477040"/>
                <a:ext cx="166320" cy="115200"/>
                <a:chOff x="1009080" y="5477040"/>
                <a:chExt cx="166320" cy="115200"/>
              </a:xfrm>
            </p:grpSpPr>
            <p:sp>
              <p:nvSpPr>
                <p:cNvPr id="34" name="未知"/>
                <p:cNvSpPr/>
                <p:nvPr/>
              </p:nvSpPr>
              <p:spPr>
                <a:xfrm flipV="1" rot="17492400">
                  <a:off x="1102320" y="550800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flipV="1" rot="20934000">
                  <a:off x="1056240" y="5511600"/>
                  <a:ext cx="54720" cy="75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7493000">
                  <a:off x="1026720" y="547848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1172520" y="5481720"/>
              <a:ext cx="438480" cy="390240"/>
              <a:chOff x="1172520" y="5481720"/>
              <a:chExt cx="438480" cy="39024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1172520" y="5481720"/>
                <a:ext cx="438480" cy="390240"/>
                <a:chOff x="1172520" y="5481720"/>
                <a:chExt cx="438480" cy="390240"/>
              </a:xfrm>
            </p:grpSpPr>
            <p:grpSp>
              <p:nvGrpSpPr>
                <p:cNvPr id="39" name=""/>
                <p:cNvGrpSpPr/>
                <p:nvPr/>
              </p:nvGrpSpPr>
              <p:grpSpPr>
                <a:xfrm>
                  <a:off x="1390320" y="5481720"/>
                  <a:ext cx="220680" cy="381240"/>
                  <a:chOff x="1390320" y="5481720"/>
                  <a:chExt cx="220680" cy="38124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21555000">
                    <a:off x="1391400" y="54824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3396600">
                    <a:off x="1434960" y="558720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未知"/>
                  <p:cNvSpPr/>
                  <p:nvPr/>
                </p:nvSpPr>
                <p:spPr>
                  <a:xfrm flipH="1" flipV="1" rot="21555000">
                    <a:off x="1394640" y="56786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"/>
                <p:cNvGrpSpPr/>
                <p:nvPr/>
              </p:nvGrpSpPr>
              <p:grpSpPr>
                <a:xfrm>
                  <a:off x="1172520" y="5488560"/>
                  <a:ext cx="222480" cy="383400"/>
                  <a:chOff x="1172520" y="5488560"/>
                  <a:chExt cx="222480" cy="383400"/>
                </a:xfrm>
              </p:grpSpPr>
              <p:sp>
                <p:nvSpPr>
                  <p:cNvPr id="44" name="未知"/>
                  <p:cNvSpPr/>
                  <p:nvPr/>
                </p:nvSpPr>
                <p:spPr>
                  <a:xfrm rot="21495000">
                    <a:off x="1261080" y="54903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未知"/>
                  <p:cNvSpPr/>
                  <p:nvPr/>
                </p:nvSpPr>
                <p:spPr>
                  <a:xfrm rot="18053400">
                    <a:off x="1214280" y="559764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未知"/>
                  <p:cNvSpPr/>
                  <p:nvPr/>
                </p:nvSpPr>
                <p:spPr>
                  <a:xfrm flipV="1" rot="21495000">
                    <a:off x="1266480" y="56865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"/>
              <p:cNvGrpSpPr/>
              <p:nvPr/>
            </p:nvGrpSpPr>
            <p:grpSpPr>
              <a:xfrm>
                <a:off x="1263960" y="5535360"/>
                <a:ext cx="254160" cy="281880"/>
                <a:chOff x="1263960" y="5535360"/>
                <a:chExt cx="254160" cy="28188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335960" y="5570280"/>
                  <a:ext cx="182160" cy="246960"/>
                  <a:chOff x="1335960" y="5570280"/>
                  <a:chExt cx="182160" cy="2469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1704600">
                    <a:off x="1416600" y="55818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5146200">
                    <a:off x="1410480" y="565452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未知"/>
                  <p:cNvSpPr/>
                  <p:nvPr/>
                </p:nvSpPr>
                <p:spPr>
                  <a:xfrm flipH="1" flipV="1" rot="1705200">
                    <a:off x="1358280" y="569052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1263960" y="5535360"/>
                  <a:ext cx="180000" cy="246960"/>
                  <a:chOff x="1263960" y="5535360"/>
                  <a:chExt cx="180000" cy="246960"/>
                </a:xfrm>
              </p:grpSpPr>
              <p:sp>
                <p:nvSpPr>
                  <p:cNvPr id="53" name="未知"/>
                  <p:cNvSpPr/>
                  <p:nvPr/>
                </p:nvSpPr>
                <p:spPr>
                  <a:xfrm rot="1645200">
                    <a:off x="1343160" y="554688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未知"/>
                  <p:cNvSpPr/>
                  <p:nvPr/>
                </p:nvSpPr>
                <p:spPr>
                  <a:xfrm rot="19803600">
                    <a:off x="1285560" y="559224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未知"/>
                  <p:cNvSpPr/>
                  <p:nvPr/>
                </p:nvSpPr>
                <p:spPr>
                  <a:xfrm flipV="1" rot="1644600">
                    <a:off x="1285560" y="56556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" name=""/>
            <p:cNvGrpSpPr/>
            <p:nvPr/>
          </p:nvGrpSpPr>
          <p:grpSpPr>
            <a:xfrm>
              <a:off x="796680" y="5763240"/>
              <a:ext cx="921960" cy="1005120"/>
              <a:chOff x="796680" y="5763240"/>
              <a:chExt cx="921960" cy="10051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96680" y="5763240"/>
                <a:ext cx="921960" cy="1005120"/>
                <a:chOff x="796680" y="5763240"/>
                <a:chExt cx="921960" cy="100512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072080" y="5763240"/>
                  <a:ext cx="646560" cy="876960"/>
                  <a:chOff x="1072080" y="5763240"/>
                  <a:chExt cx="646560" cy="876960"/>
                </a:xfrm>
              </p:grpSpPr>
              <p:sp>
                <p:nvSpPr>
                  <p:cNvPr id="59" name="未知"/>
                  <p:cNvSpPr/>
                  <p:nvPr/>
                </p:nvSpPr>
                <p:spPr>
                  <a:xfrm flipH="1" rot="20092200">
                    <a:off x="1142640" y="580716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未知"/>
                  <p:cNvSpPr/>
                  <p:nvPr/>
                </p:nvSpPr>
                <p:spPr>
                  <a:xfrm flipH="1" rot="1933800">
                    <a:off x="1340640" y="5955840"/>
                    <a:ext cx="290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未知"/>
                  <p:cNvSpPr/>
                  <p:nvPr/>
                </p:nvSpPr>
                <p:spPr>
                  <a:xfrm flipH="1" flipV="1" rot="20092800">
                    <a:off x="1328400" y="61952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96680" y="5890320"/>
                  <a:ext cx="631080" cy="878040"/>
                  <a:chOff x="796680" y="5890320"/>
                  <a:chExt cx="631080" cy="878040"/>
                </a:xfrm>
              </p:grpSpPr>
              <p:sp>
                <p:nvSpPr>
                  <p:cNvPr id="63" name="未知"/>
                  <p:cNvSpPr/>
                  <p:nvPr/>
                </p:nvSpPr>
                <p:spPr>
                  <a:xfrm rot="20032200">
                    <a:off x="870120" y="593532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未知"/>
                  <p:cNvSpPr/>
                  <p:nvPr/>
                </p:nvSpPr>
                <p:spPr>
                  <a:xfrm rot="16590600">
                    <a:off x="871200" y="6178320"/>
                    <a:ext cx="29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V="1" rot="20032200">
                    <a:off x="1056960" y="63230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926640" y="5994360"/>
                <a:ext cx="638280" cy="542880"/>
                <a:chOff x="926640" y="5994360"/>
                <a:chExt cx="638280" cy="54288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229760" y="6006240"/>
                  <a:ext cx="335160" cy="531000"/>
                  <a:chOff x="1229760" y="6006240"/>
                  <a:chExt cx="335160" cy="531000"/>
                </a:xfrm>
              </p:grpSpPr>
              <p:sp>
                <p:nvSpPr>
                  <p:cNvPr id="68" name="未知"/>
                  <p:cNvSpPr/>
                  <p:nvPr/>
                </p:nvSpPr>
                <p:spPr>
                  <a:xfrm flipH="1" rot="241800">
                    <a:off x="1255320" y="601200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未知"/>
                  <p:cNvSpPr/>
                  <p:nvPr/>
                </p:nvSpPr>
                <p:spPr>
                  <a:xfrm flipH="1" rot="3683400">
                    <a:off x="1317600" y="615204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未知"/>
                  <p:cNvSpPr/>
                  <p:nvPr/>
                </p:nvSpPr>
                <p:spPr>
                  <a:xfrm flipH="1" flipV="1" rot="241800">
                    <a:off x="1238040" y="628056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926640" y="5994360"/>
                  <a:ext cx="333720" cy="527760"/>
                  <a:chOff x="926640" y="5994360"/>
                  <a:chExt cx="333720" cy="527760"/>
                </a:xfrm>
              </p:grpSpPr>
              <p:sp>
                <p:nvSpPr>
                  <p:cNvPr id="72" name="未知"/>
                  <p:cNvSpPr/>
                  <p:nvPr/>
                </p:nvSpPr>
                <p:spPr>
                  <a:xfrm rot="181800">
                    <a:off x="1067400" y="599904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未知"/>
                  <p:cNvSpPr/>
                  <p:nvPr/>
                </p:nvSpPr>
                <p:spPr>
                  <a:xfrm rot="18340800">
                    <a:off x="992880" y="613080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flipV="1" rot="181800">
                    <a:off x="1051560" y="626652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"/>
            <p:cNvGrpSpPr/>
            <p:nvPr/>
          </p:nvGrpSpPr>
          <p:grpSpPr>
            <a:xfrm>
              <a:off x="747000" y="5563080"/>
              <a:ext cx="393120" cy="429120"/>
              <a:chOff x="747000" y="5563080"/>
              <a:chExt cx="393120" cy="4291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47000" y="5563080"/>
                <a:ext cx="393120" cy="429120"/>
                <a:chOff x="747000" y="5563080"/>
                <a:chExt cx="393120" cy="42912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864000" y="5563080"/>
                  <a:ext cx="276120" cy="374400"/>
                  <a:chOff x="864000" y="5563080"/>
                  <a:chExt cx="276120" cy="374400"/>
                </a:xfrm>
              </p:grpSpPr>
              <p:sp>
                <p:nvSpPr>
                  <p:cNvPr id="78" name="未知"/>
                  <p:cNvSpPr/>
                  <p:nvPr/>
                </p:nvSpPr>
                <p:spPr>
                  <a:xfrm flipH="1" rot="20092200">
                    <a:off x="893520" y="55818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未知"/>
                  <p:cNvSpPr/>
                  <p:nvPr/>
                </p:nvSpPr>
                <p:spPr>
                  <a:xfrm flipH="1" rot="1933800">
                    <a:off x="978120" y="5645160"/>
                    <a:ext cx="1242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未知"/>
                  <p:cNvSpPr/>
                  <p:nvPr/>
                </p:nvSpPr>
                <p:spPr>
                  <a:xfrm flipH="1" flipV="1" rot="20092800">
                    <a:off x="973440" y="57474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47000" y="5617440"/>
                  <a:ext cx="269280" cy="374760"/>
                  <a:chOff x="747000" y="5617440"/>
                  <a:chExt cx="269280" cy="374760"/>
                </a:xfrm>
              </p:grpSpPr>
              <p:sp>
                <p:nvSpPr>
                  <p:cNvPr id="82" name="未知"/>
                  <p:cNvSpPr/>
                  <p:nvPr/>
                </p:nvSpPr>
                <p:spPr>
                  <a:xfrm rot="20032200">
                    <a:off x="778320" y="563652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未知"/>
                  <p:cNvSpPr/>
                  <p:nvPr/>
                </p:nvSpPr>
                <p:spPr>
                  <a:xfrm rot="16590600">
                    <a:off x="778320" y="5740200"/>
                    <a:ext cx="1242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未知"/>
                  <p:cNvSpPr/>
                  <p:nvPr/>
                </p:nvSpPr>
                <p:spPr>
                  <a:xfrm flipV="1" rot="20032200">
                    <a:off x="858240" y="580176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802800" y="5661720"/>
                <a:ext cx="272160" cy="231840"/>
                <a:chOff x="802800" y="5661720"/>
                <a:chExt cx="272160" cy="2318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932040" y="5667120"/>
                  <a:ext cx="142920" cy="226440"/>
                  <a:chOff x="932040" y="5667120"/>
                  <a:chExt cx="142920" cy="22644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flipH="1" rot="241800">
                    <a:off x="942480" y="5669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flipH="1" rot="3683400">
                    <a:off x="969480" y="5728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未知"/>
                  <p:cNvSpPr/>
                  <p:nvPr/>
                </p:nvSpPr>
                <p:spPr>
                  <a:xfrm flipH="1" flipV="1" rot="241800">
                    <a:off x="935280" y="578376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802800" y="5661720"/>
                  <a:ext cx="142200" cy="225000"/>
                  <a:chOff x="802800" y="5661720"/>
                  <a:chExt cx="142200" cy="225000"/>
                </a:xfrm>
              </p:grpSpPr>
              <p:sp>
                <p:nvSpPr>
                  <p:cNvPr id="91" name="未知"/>
                  <p:cNvSpPr/>
                  <p:nvPr/>
                </p:nvSpPr>
                <p:spPr>
                  <a:xfrm rot="181800">
                    <a:off x="862200" y="566352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未知"/>
                  <p:cNvSpPr/>
                  <p:nvPr/>
                </p:nvSpPr>
                <p:spPr>
                  <a:xfrm rot="18340800">
                    <a:off x="830880" y="571896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 flipV="1" rot="181800">
                    <a:off x="855720" y="5777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F45-D05D-4DFC-B955-8B679AE80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6858720" y="4351680"/>
            <a:ext cx="1547280" cy="1400040"/>
            <a:chOff x="6858720" y="4351680"/>
            <a:chExt cx="1547280" cy="1400040"/>
          </a:xfrm>
        </p:grpSpPr>
        <p:grpSp>
          <p:nvGrpSpPr>
            <p:cNvPr id="136" name=""/>
            <p:cNvGrpSpPr/>
            <p:nvPr/>
          </p:nvGrpSpPr>
          <p:grpSpPr>
            <a:xfrm>
              <a:off x="7323480" y="4924800"/>
              <a:ext cx="162360" cy="181080"/>
              <a:chOff x="7323480" y="4924800"/>
              <a:chExt cx="162360" cy="1810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371000" y="4947480"/>
                <a:ext cx="114840" cy="158400"/>
                <a:chOff x="7371000" y="4947480"/>
                <a:chExt cx="114840" cy="158400"/>
              </a:xfrm>
            </p:grpSpPr>
            <p:sp>
              <p:nvSpPr>
                <p:cNvPr id="138" name="未知"/>
                <p:cNvSpPr/>
                <p:nvPr/>
              </p:nvSpPr>
              <p:spPr>
                <a:xfrm flipH="1" flipV="1" rot="1471200">
                  <a:off x="7382880" y="50256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未知"/>
                <p:cNvSpPr/>
                <p:nvPr/>
              </p:nvSpPr>
              <p:spPr>
                <a:xfrm flipH="1" flipV="1" rot="19629600">
                  <a:off x="7417800" y="499608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未知"/>
                <p:cNvSpPr/>
                <p:nvPr/>
              </p:nvSpPr>
              <p:spPr>
                <a:xfrm flipH="1" rot="1471200">
                  <a:off x="7415280" y="495504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323480" y="4924800"/>
                <a:ext cx="113040" cy="158040"/>
                <a:chOff x="7323480" y="4924800"/>
                <a:chExt cx="113040" cy="158040"/>
              </a:xfrm>
            </p:grpSpPr>
            <p:sp>
              <p:nvSpPr>
                <p:cNvPr id="142" name="未知"/>
                <p:cNvSpPr/>
                <p:nvPr/>
              </p:nvSpPr>
              <p:spPr>
                <a:xfrm flipV="1" rot="1568400">
                  <a:off x="7336800" y="500220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flipV="1" rot="5010000">
                  <a:off x="7336440" y="495756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1568400">
                  <a:off x="7369920" y="493272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7244640" y="4351680"/>
              <a:ext cx="216000" cy="239040"/>
              <a:chOff x="7244640" y="4351680"/>
              <a:chExt cx="216000" cy="2390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308000" y="4381920"/>
                <a:ext cx="152640" cy="208800"/>
                <a:chOff x="7308000" y="4381920"/>
                <a:chExt cx="152640" cy="208800"/>
              </a:xfrm>
            </p:grpSpPr>
            <p:sp>
              <p:nvSpPr>
                <p:cNvPr id="147" name="未知"/>
                <p:cNvSpPr/>
                <p:nvPr/>
              </p:nvSpPr>
              <p:spPr>
                <a:xfrm flipH="1" flipV="1" rot="1471200">
                  <a:off x="7324200" y="44848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flipH="1" flipV="1" rot="19629600">
                  <a:off x="7370280" y="444708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flipH="1" rot="1471200">
                  <a:off x="7367040" y="439200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244640" y="4351680"/>
                <a:ext cx="149040" cy="208800"/>
                <a:chOff x="7244640" y="4351680"/>
                <a:chExt cx="149040" cy="208800"/>
              </a:xfrm>
            </p:grpSpPr>
            <p:sp>
              <p:nvSpPr>
                <p:cNvPr id="151" name="未知"/>
                <p:cNvSpPr/>
                <p:nvPr/>
              </p:nvSpPr>
              <p:spPr>
                <a:xfrm flipV="1" rot="1568400">
                  <a:off x="7261920" y="44542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flipV="1" rot="5010000">
                  <a:off x="7261920" y="439416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1568400">
                  <a:off x="7305840" y="436212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6858720" y="4446360"/>
              <a:ext cx="635760" cy="660600"/>
              <a:chOff x="6858720" y="4446360"/>
              <a:chExt cx="635760" cy="6606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007400" y="4446360"/>
                <a:ext cx="487080" cy="545040"/>
                <a:chOff x="7007400" y="4446360"/>
                <a:chExt cx="487080" cy="545040"/>
              </a:xfrm>
            </p:grpSpPr>
            <p:sp>
              <p:nvSpPr>
                <p:cNvPr id="156" name="未知"/>
                <p:cNvSpPr/>
                <p:nvPr/>
              </p:nvSpPr>
              <p:spPr>
                <a:xfrm flipH="1" flipV="1" rot="19290000">
                  <a:off x="7241760" y="469800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未知"/>
                <p:cNvSpPr/>
                <p:nvPr/>
              </p:nvSpPr>
              <p:spPr>
                <a:xfrm flipH="1" flipV="1" rot="15848400">
                  <a:off x="7208640" y="453924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flipH="1" rot="19290000">
                  <a:off x="7067520" y="447768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8720" y="4558680"/>
                <a:ext cx="480600" cy="548280"/>
                <a:chOff x="6858720" y="4558680"/>
                <a:chExt cx="480600" cy="548280"/>
              </a:xfrm>
            </p:grpSpPr>
            <p:sp>
              <p:nvSpPr>
                <p:cNvPr id="160" name="未知"/>
                <p:cNvSpPr/>
                <p:nvPr/>
              </p:nvSpPr>
              <p:spPr>
                <a:xfrm flipV="1" rot="19387200">
                  <a:off x="7087680" y="48135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flipV="1" rot="1228800">
                  <a:off x="6944760" y="473904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19387800">
                  <a:off x="6917760" y="459000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737120" y="4476240"/>
              <a:ext cx="174960" cy="165240"/>
              <a:chOff x="7737120" y="4476240"/>
              <a:chExt cx="174960" cy="165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7755480" y="4476240"/>
                <a:ext cx="156600" cy="110160"/>
                <a:chOff x="7755480" y="4476240"/>
                <a:chExt cx="156600" cy="110160"/>
              </a:xfrm>
            </p:grpSpPr>
            <p:sp>
              <p:nvSpPr>
                <p:cNvPr id="165" name="未知"/>
                <p:cNvSpPr/>
                <p:nvPr/>
              </p:nvSpPr>
              <p:spPr>
                <a:xfrm flipH="1" flipV="1" rot="17395800">
                  <a:off x="7843320" y="451368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flipH="1" flipV="1" rot="13953600">
                  <a:off x="7812360" y="448272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flipH="1" rot="17395200">
                  <a:off x="7771320" y="44877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737120" y="4532760"/>
                <a:ext cx="156600" cy="108720"/>
                <a:chOff x="7737120" y="4532760"/>
                <a:chExt cx="156600" cy="108720"/>
              </a:xfrm>
            </p:grpSpPr>
            <p:sp>
              <p:nvSpPr>
                <p:cNvPr id="169" name="未知"/>
                <p:cNvSpPr/>
                <p:nvPr/>
              </p:nvSpPr>
              <p:spPr>
                <a:xfrm flipV="1" rot="17492400">
                  <a:off x="7824960" y="456120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flipV="1" rot="20934000">
                  <a:off x="7781760" y="456516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17493000">
                  <a:off x="7753680" y="453420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890120" y="4536360"/>
              <a:ext cx="413280" cy="368640"/>
              <a:chOff x="7890120" y="4536360"/>
              <a:chExt cx="413280" cy="3686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890120" y="4536360"/>
                <a:ext cx="413280" cy="368640"/>
                <a:chOff x="7890120" y="4536360"/>
                <a:chExt cx="413280" cy="36864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8095320" y="4536360"/>
                  <a:ext cx="208080" cy="360360"/>
                  <a:chOff x="8095320" y="4536360"/>
                  <a:chExt cx="208080" cy="360360"/>
                </a:xfrm>
              </p:grpSpPr>
              <p:sp>
                <p:nvSpPr>
                  <p:cNvPr id="175" name="未知"/>
                  <p:cNvSpPr/>
                  <p:nvPr/>
                </p:nvSpPr>
                <p:spPr>
                  <a:xfrm flipH="1" rot="21555000">
                    <a:off x="8096040" y="45370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未知"/>
                  <p:cNvSpPr/>
                  <p:nvPr/>
                </p:nvSpPr>
                <p:spPr>
                  <a:xfrm flipH="1" rot="3396600">
                    <a:off x="8137440" y="463716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未知"/>
                  <p:cNvSpPr/>
                  <p:nvPr/>
                </p:nvSpPr>
                <p:spPr>
                  <a:xfrm flipH="1" flipV="1" rot="21555000">
                    <a:off x="8100000" y="47228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890120" y="4542840"/>
                  <a:ext cx="209520" cy="362160"/>
                  <a:chOff x="7890120" y="4542840"/>
                  <a:chExt cx="209520" cy="362160"/>
                </a:xfrm>
              </p:grpSpPr>
              <p:sp>
                <p:nvSpPr>
                  <p:cNvPr id="179" name="未知"/>
                  <p:cNvSpPr/>
                  <p:nvPr/>
                </p:nvSpPr>
                <p:spPr>
                  <a:xfrm rot="21495000">
                    <a:off x="7974360" y="45442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未知"/>
                  <p:cNvSpPr/>
                  <p:nvPr/>
                </p:nvSpPr>
                <p:spPr>
                  <a:xfrm rot="18053400">
                    <a:off x="7929360" y="464688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未知"/>
                  <p:cNvSpPr/>
                  <p:nvPr/>
                </p:nvSpPr>
                <p:spPr>
                  <a:xfrm flipV="1" rot="21495000">
                    <a:off x="7978680" y="47300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7976520" y="4587480"/>
                <a:ext cx="240120" cy="266400"/>
                <a:chOff x="7976520" y="4587480"/>
                <a:chExt cx="240120" cy="266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045280" y="4620240"/>
                  <a:ext cx="171360" cy="233640"/>
                  <a:chOff x="8045280" y="4620240"/>
                  <a:chExt cx="171360" cy="233640"/>
                </a:xfrm>
              </p:grpSpPr>
              <p:sp>
                <p:nvSpPr>
                  <p:cNvPr id="184" name="未知"/>
                  <p:cNvSpPr/>
                  <p:nvPr/>
                </p:nvSpPr>
                <p:spPr>
                  <a:xfrm flipH="1" rot="1704600">
                    <a:off x="8121240" y="46310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未知"/>
                  <p:cNvSpPr/>
                  <p:nvPr/>
                </p:nvSpPr>
                <p:spPr>
                  <a:xfrm flipH="1" rot="5146200">
                    <a:off x="8114040" y="469980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未知"/>
                  <p:cNvSpPr/>
                  <p:nvPr/>
                </p:nvSpPr>
                <p:spPr>
                  <a:xfrm flipH="1" flipV="1" rot="1705200">
                    <a:off x="8066160" y="47336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976520" y="4587480"/>
                  <a:ext cx="169920" cy="232920"/>
                  <a:chOff x="7976520" y="4587480"/>
                  <a:chExt cx="169920" cy="232920"/>
                </a:xfrm>
              </p:grpSpPr>
              <p:sp>
                <p:nvSpPr>
                  <p:cNvPr id="188" name="未知"/>
                  <p:cNvSpPr/>
                  <p:nvPr/>
                </p:nvSpPr>
                <p:spPr>
                  <a:xfrm rot="1645200">
                    <a:off x="8051400" y="45982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未知"/>
                  <p:cNvSpPr/>
                  <p:nvPr/>
                </p:nvSpPr>
                <p:spPr>
                  <a:xfrm rot="19803600">
                    <a:off x="7997040" y="464112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未知"/>
                  <p:cNvSpPr/>
                  <p:nvPr/>
                </p:nvSpPr>
                <p:spPr>
                  <a:xfrm flipV="1" rot="1644600">
                    <a:off x="7997040" y="47008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1" name=""/>
            <p:cNvGrpSpPr/>
            <p:nvPr/>
          </p:nvGrpSpPr>
          <p:grpSpPr>
            <a:xfrm>
              <a:off x="7536960" y="4802400"/>
              <a:ext cx="869040" cy="949320"/>
              <a:chOff x="7536960" y="4802400"/>
              <a:chExt cx="869040" cy="949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7536960" y="4802400"/>
                <a:ext cx="869040" cy="949320"/>
                <a:chOff x="7536960" y="4802400"/>
                <a:chExt cx="869040" cy="9493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7795800" y="4802400"/>
                  <a:ext cx="610200" cy="828000"/>
                  <a:chOff x="7795800" y="4802400"/>
                  <a:chExt cx="610200" cy="828000"/>
                </a:xfrm>
              </p:grpSpPr>
              <p:sp>
                <p:nvSpPr>
                  <p:cNvPr id="194" name="未知"/>
                  <p:cNvSpPr/>
                  <p:nvPr/>
                </p:nvSpPr>
                <p:spPr>
                  <a:xfrm flipH="1" rot="20092200">
                    <a:off x="7862400" y="484380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未知"/>
                  <p:cNvSpPr/>
                  <p:nvPr/>
                </p:nvSpPr>
                <p:spPr>
                  <a:xfrm flipH="1" rot="1933800">
                    <a:off x="8049600" y="498528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未知"/>
                  <p:cNvSpPr/>
                  <p:nvPr/>
                </p:nvSpPr>
                <p:spPr>
                  <a:xfrm flipH="1" flipV="1" rot="20092800">
                    <a:off x="8037000" y="521028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36960" y="4922640"/>
                  <a:ext cx="594720" cy="829080"/>
                  <a:chOff x="7536960" y="4922640"/>
                  <a:chExt cx="594720" cy="829080"/>
                </a:xfrm>
              </p:grpSpPr>
              <p:sp>
                <p:nvSpPr>
                  <p:cNvPr id="198" name="未知"/>
                  <p:cNvSpPr/>
                  <p:nvPr/>
                </p:nvSpPr>
                <p:spPr>
                  <a:xfrm rot="20032200">
                    <a:off x="7605720" y="496512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未知"/>
                  <p:cNvSpPr/>
                  <p:nvPr/>
                </p:nvSpPr>
                <p:spPr>
                  <a:xfrm rot="16590600">
                    <a:off x="7606800" y="519552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未知"/>
                  <p:cNvSpPr/>
                  <p:nvPr/>
                </p:nvSpPr>
                <p:spPr>
                  <a:xfrm flipV="1" rot="20032200">
                    <a:off x="7782840" y="53308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7659000" y="5021280"/>
                <a:ext cx="601200" cy="513000"/>
                <a:chOff x="7659000" y="5021280"/>
                <a:chExt cx="601200" cy="5130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7944840" y="5032080"/>
                  <a:ext cx="315360" cy="502200"/>
                  <a:chOff x="7944840" y="5032080"/>
                  <a:chExt cx="315360" cy="502200"/>
                </a:xfrm>
              </p:grpSpPr>
              <p:sp>
                <p:nvSpPr>
                  <p:cNvPr id="203" name="未知"/>
                  <p:cNvSpPr/>
                  <p:nvPr/>
                </p:nvSpPr>
                <p:spPr>
                  <a:xfrm flipH="1" rot="241800">
                    <a:off x="7968600" y="50378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未知"/>
                  <p:cNvSpPr/>
                  <p:nvPr/>
                </p:nvSpPr>
                <p:spPr>
                  <a:xfrm flipH="1" rot="3683400">
                    <a:off x="8026920" y="517068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 flipH="1" flipV="1" rot="241800">
                    <a:off x="7952400" y="52916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659000" y="5021280"/>
                  <a:ext cx="314280" cy="498600"/>
                  <a:chOff x="7659000" y="5021280"/>
                  <a:chExt cx="314280" cy="498600"/>
                </a:xfrm>
              </p:grpSpPr>
              <p:sp>
                <p:nvSpPr>
                  <p:cNvPr id="207" name="未知"/>
                  <p:cNvSpPr/>
                  <p:nvPr/>
                </p:nvSpPr>
                <p:spPr>
                  <a:xfrm rot="181800">
                    <a:off x="7791480" y="50256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未知"/>
                  <p:cNvSpPr/>
                  <p:nvPr/>
                </p:nvSpPr>
                <p:spPr>
                  <a:xfrm rot="18340800">
                    <a:off x="7721280" y="515016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未知"/>
                  <p:cNvSpPr/>
                  <p:nvPr/>
                </p:nvSpPr>
                <p:spPr>
                  <a:xfrm flipV="1" rot="181800">
                    <a:off x="7776720" y="527868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" name=""/>
            <p:cNvGrpSpPr/>
            <p:nvPr/>
          </p:nvGrpSpPr>
          <p:grpSpPr>
            <a:xfrm>
              <a:off x="7489800" y="4613400"/>
              <a:ext cx="370800" cy="405360"/>
              <a:chOff x="7489800" y="4613400"/>
              <a:chExt cx="370800" cy="4053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489800" y="4613400"/>
                <a:ext cx="370800" cy="405360"/>
                <a:chOff x="7489800" y="4613400"/>
                <a:chExt cx="370800" cy="405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7599960" y="4613400"/>
                  <a:ext cx="260640" cy="353520"/>
                  <a:chOff x="7599960" y="4613400"/>
                  <a:chExt cx="260640" cy="353520"/>
                </a:xfrm>
              </p:grpSpPr>
              <p:sp>
                <p:nvSpPr>
                  <p:cNvPr id="213" name="未知"/>
                  <p:cNvSpPr/>
                  <p:nvPr/>
                </p:nvSpPr>
                <p:spPr>
                  <a:xfrm flipH="1" rot="20092200">
                    <a:off x="7628040" y="46310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未知"/>
                  <p:cNvSpPr/>
                  <p:nvPr/>
                </p:nvSpPr>
                <p:spPr>
                  <a:xfrm flipH="1" rot="1933800">
                    <a:off x="7708320" y="469152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未知"/>
                  <p:cNvSpPr/>
                  <p:nvPr/>
                </p:nvSpPr>
                <p:spPr>
                  <a:xfrm flipH="1" flipV="1" rot="20092800">
                    <a:off x="7702920" y="47872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489800" y="4665240"/>
                  <a:ext cx="253800" cy="353520"/>
                  <a:chOff x="7489800" y="4665240"/>
                  <a:chExt cx="253800" cy="353520"/>
                </a:xfrm>
              </p:grpSpPr>
              <p:sp>
                <p:nvSpPr>
                  <p:cNvPr id="217" name="未知"/>
                  <p:cNvSpPr/>
                  <p:nvPr/>
                </p:nvSpPr>
                <p:spPr>
                  <a:xfrm rot="20032200">
                    <a:off x="7518960" y="46828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未知"/>
                  <p:cNvSpPr/>
                  <p:nvPr/>
                </p:nvSpPr>
                <p:spPr>
                  <a:xfrm rot="16590600">
                    <a:off x="7519320" y="478152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未知"/>
                  <p:cNvSpPr/>
                  <p:nvPr/>
                </p:nvSpPr>
                <p:spPr>
                  <a:xfrm flipV="1" rot="20032200">
                    <a:off x="7594560" y="483876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7542360" y="4707000"/>
                <a:ext cx="256320" cy="218880"/>
                <a:chOff x="7542360" y="4707000"/>
                <a:chExt cx="256320" cy="21888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7664040" y="4711320"/>
                  <a:ext cx="134640" cy="214560"/>
                  <a:chOff x="7664040" y="4711320"/>
                  <a:chExt cx="134640" cy="214560"/>
                </a:xfrm>
              </p:grpSpPr>
              <p:sp>
                <p:nvSpPr>
                  <p:cNvPr id="222" name="未知"/>
                  <p:cNvSpPr/>
                  <p:nvPr/>
                </p:nvSpPr>
                <p:spPr>
                  <a:xfrm flipH="1" rot="241800">
                    <a:off x="7673760" y="4713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未知"/>
                  <p:cNvSpPr/>
                  <p:nvPr/>
                </p:nvSpPr>
                <p:spPr>
                  <a:xfrm flipH="1" rot="3683400">
                    <a:off x="7698600" y="477072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未知"/>
                  <p:cNvSpPr/>
                  <p:nvPr/>
                </p:nvSpPr>
                <p:spPr>
                  <a:xfrm flipH="1" flipV="1" rot="241800">
                    <a:off x="7666920" y="482148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542360" y="4707000"/>
                  <a:ext cx="133920" cy="213120"/>
                  <a:chOff x="7542360" y="4707000"/>
                  <a:chExt cx="133920" cy="213120"/>
                </a:xfrm>
              </p:grpSpPr>
              <p:sp>
                <p:nvSpPr>
                  <p:cNvPr id="226" name="未知"/>
                  <p:cNvSpPr/>
                  <p:nvPr/>
                </p:nvSpPr>
                <p:spPr>
                  <a:xfrm rot="181800">
                    <a:off x="7598520" y="4708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未知"/>
                  <p:cNvSpPr/>
                  <p:nvPr/>
                </p:nvSpPr>
                <p:spPr>
                  <a:xfrm rot="18340800">
                    <a:off x="7569000" y="476208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未知"/>
                  <p:cNvSpPr/>
                  <p:nvPr/>
                </p:nvSpPr>
                <p:spPr>
                  <a:xfrm flipV="1" rot="181800">
                    <a:off x="7592400" y="4816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876D-FFAB-4C66-875D-E206620B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6335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2E8-A059-4E2F-BE1D-61B56C98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image" Target="../media/image5.png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国古典雅致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340000" y="410544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1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692400">
            <a:off x="2029320" y="2504520"/>
            <a:ext cx="465480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316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318" name="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未知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24e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3324240" y="219060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324240" y="219060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3364200" y="219492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5305320" y="262080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05320" y="262080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6"/>
            <a:stretch/>
          </p:blipFill>
          <p:spPr>
            <a:xfrm>
              <a:off x="5338800" y="262404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"/>
          <p:cNvGrpSpPr/>
          <p:nvPr/>
        </p:nvGrpSpPr>
        <p:grpSpPr>
          <a:xfrm>
            <a:off x="6083640" y="3260880"/>
            <a:ext cx="1072800" cy="1049400"/>
            <a:chOff x="6083640" y="3260880"/>
            <a:chExt cx="1072800" cy="1049400"/>
          </a:xfrm>
        </p:grpSpPr>
        <p:pic>
          <p:nvPicPr>
            <p:cNvPr id="330" name="" descr=""/>
            <p:cNvPicPr/>
            <p:nvPr/>
          </p:nvPicPr>
          <p:blipFill>
            <a:blip r:embed="rId7"/>
            <a:stretch/>
          </p:blipFill>
          <p:spPr>
            <a:xfrm rot="692400">
              <a:off x="6163200" y="334332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rot="692400">
              <a:off x="6162840" y="334260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80cab1">
                    <a:alpha val="79215"/>
                  </a:srgbClr>
                </a:gs>
                <a:gs pos="50000">
                  <a:srgbClr val="3b5d51"/>
                </a:gs>
                <a:gs pos="100000">
                  <a:srgbClr val="80cab1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8"/>
            <a:stretch/>
          </p:blipFill>
          <p:spPr>
            <a:xfrm rot="692400">
              <a:off x="6308280" y="335592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1762200" y="2278080"/>
            <a:ext cx="983880" cy="952200"/>
            <a:chOff x="1762200" y="2278080"/>
            <a:chExt cx="983880" cy="952200"/>
          </a:xfrm>
        </p:grpSpPr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1762200" y="227808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62200" y="227808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e58790">
                    <a:alpha val="80000"/>
                  </a:srgbClr>
                </a:gs>
                <a:gs pos="50000">
                  <a:srgbClr val="693e42"/>
                </a:gs>
                <a:gs pos="100000">
                  <a:srgbClr val="e5879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0"/>
            <a:stretch/>
          </p:blipFill>
          <p:spPr>
            <a:xfrm>
              <a:off x="1860120" y="228708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338" name="" descr=""/>
            <p:cNvPicPr/>
            <p:nvPr/>
          </p:nvPicPr>
          <p:blipFill>
            <a:blip r:embed="rId11"/>
            <a:stretch/>
          </p:blipFill>
          <p:spPr>
            <a:xfrm>
              <a:off x="2147760" y="355140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2147760" y="355140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2"/>
            <a:stretch/>
          </p:blipFill>
          <p:spPr>
            <a:xfrm>
              <a:off x="2213640" y="355752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427560" y="3911760"/>
            <a:ext cx="1263240" cy="1221840"/>
            <a:chOff x="3427560" y="3911760"/>
            <a:chExt cx="1263240" cy="1221840"/>
          </a:xfrm>
        </p:grpSpPr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3427560" y="391176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427560" y="391176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72afd8">
                    <a:alpha val="80000"/>
                  </a:srgbClr>
                </a:gs>
                <a:gs pos="50000">
                  <a:srgbClr val="446881"/>
                </a:gs>
                <a:gs pos="100000">
                  <a:srgbClr val="72afd8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3552480" y="392328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5454720" y="431316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454720" y="431316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16"/>
            <a:stretch/>
          </p:blipFill>
          <p:spPr>
            <a:xfrm>
              <a:off x="5520600" y="431928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 rot="692400">
            <a:off x="2028960" y="250380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692400">
            <a:off x="2027880" y="250488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692400">
            <a:off x="2025000" y="2489400"/>
            <a:ext cx="4665240" cy="21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692400">
            <a:off x="2034720" y="2476080"/>
            <a:ext cx="466272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692400">
            <a:off x="1990800" y="2471040"/>
            <a:ext cx="466308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692400">
            <a:off x="2000880" y="246852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1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093680" y="3755880"/>
            <a:ext cx="7276680" cy="556920"/>
            <a:chOff x="1093680" y="3755880"/>
            <a:chExt cx="7276680" cy="556920"/>
          </a:xfrm>
        </p:grpSpPr>
        <p:sp>
          <p:nvSpPr>
            <p:cNvPr id="364" name=""/>
            <p:cNvSpPr/>
            <p:nvPr/>
          </p:nvSpPr>
          <p:spPr>
            <a:xfrm>
              <a:off x="1204200" y="3817080"/>
              <a:ext cx="701028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3680" y="3755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-31680" y="3357720"/>
            <a:ext cx="90630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EE1-8536-46F1-876F-4221B498E6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26:50Z</dcterms:created>
  <dc:creator/>
  <dc:description/>
  <dc:language>en-US</dc:language>
  <cp:lastModifiedBy>MC SYSTEM</cp:lastModifiedBy>
  <dcterms:modified xsi:type="dcterms:W3CDTF">2015-07-04T08:33:4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