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D0DA-4F09-4EA7-8F2B-F7565C03D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3EED-05FE-4EFA-83F2-ABEA15CD3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585C-CDB2-4B26-8F04-2198950FC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C19E-FC8F-4D8D-B310-5B7A38BD9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95834-539E-4130-B44C-C272BCDB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41CC-7DB1-4F3F-92AE-E09F4A57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F6600-3F27-4432-878C-26A18B87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555EA-1650-4019-A7DC-96B6931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A01F0-8266-44D6-8791-64D0FF2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3BE98-5C46-4B8D-9047-E904954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D9E24-A44A-4FAA-AFE2-DC34F96B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7980-6AA4-4116-BCBE-204B6A801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1BE32-9E11-4646-8B11-7D347F4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4169-8685-445A-A50A-D06F525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CA719-46B4-491E-A3A3-B8E60EC0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091E8-B1DD-45B7-9CC7-60D1FF8F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A97D7-2425-4A6F-82E7-DEBD09DE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488E-63A0-4011-9A0A-33C69F495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46E5-A311-45C0-A1C0-9BE058324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6416-DE03-4C84-A8BC-59F18AFBA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2215-2664-4A6F-B4D0-726B06EE4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F2D3-8594-4AFF-A893-657A6917F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2B0B-474D-4DCA-8BBC-33C9B4EEF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4D80-7F84-421A-B63C-C0C84685E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62520" y="0"/>
            <a:ext cx="518148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90520" y="-144360"/>
            <a:ext cx="1766520" cy="1506240"/>
            <a:chOff x="290520" y="-144360"/>
            <a:chExt cx="1766520" cy="1506240"/>
          </a:xfrm>
        </p:grpSpPr>
        <p:sp>
          <p:nvSpPr>
            <p:cNvPr id="3" name="AutoShape 5"/>
            <p:cNvSpPr/>
            <p:nvPr/>
          </p:nvSpPr>
          <p:spPr>
            <a:xfrm>
              <a:off x="290520" y="-144360"/>
              <a:ext cx="1004760" cy="79812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290520" y="565200"/>
              <a:ext cx="1004760" cy="7966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>
              <a:off x="1052280" y="32400"/>
              <a:ext cx="1004760" cy="7984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380520" y="63241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5d093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543d1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37F2-05D1-4CB1-9278-C0374B82510C}" type="slidenum">
              <a:rPr b="1" lang="ko-KR" sz="1200" spc="-1" strike="noStrike">
                <a:solidFill>
                  <a:srgbClr val="543d1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45908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a5d5f"/>
              </a:gs>
              <a:gs pos="50000">
                <a:srgbClr val="7ec8ce"/>
              </a:gs>
              <a:gs pos="100000">
                <a:srgbClr val="3a5d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87156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68580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b374"/>
              </a:gs>
              <a:gs pos="50000">
                <a:srgbClr val="ffffcc"/>
              </a:gs>
              <a:gs pos="100000">
                <a:srgbClr val="ccb3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46640" y="3778200"/>
            <a:ext cx="2792160" cy="2689200"/>
            <a:chOff x="6146640" y="3778200"/>
            <a:chExt cx="2792160" cy="2689200"/>
          </a:xfrm>
        </p:grpSpPr>
        <p:sp>
          <p:nvSpPr>
            <p:cNvPr id="52" name="AutoShape 8"/>
            <p:cNvSpPr/>
            <p:nvPr/>
          </p:nvSpPr>
          <p:spPr>
            <a:xfrm>
              <a:off x="6146640" y="377820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9"/>
            <p:cNvSpPr/>
            <p:nvPr/>
          </p:nvSpPr>
          <p:spPr>
            <a:xfrm>
              <a:off x="6146640" y="490428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10"/>
            <p:cNvSpPr/>
            <p:nvPr/>
          </p:nvSpPr>
          <p:spPr>
            <a:xfrm>
              <a:off x="7351200" y="405972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11"/>
            <p:cNvSpPr/>
            <p:nvPr/>
          </p:nvSpPr>
          <p:spPr>
            <a:xfrm>
              <a:off x="7351200" y="520020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7446960" y="5622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3d18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33520" y="15238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5842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106992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153360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20192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24940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29908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346536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9146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3178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47322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51894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0C06-DC50-4B64-BC2F-1EEF79005B05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guowai/" TargetMode="External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184480"/>
            <a:ext cx="7931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外国经典雅致</a:t>
            </a:r>
            <a:r>
              <a:rPr b="1" lang="zh-CN" sz="5800" spc="-1" strike="noStrike">
                <a:solidFill>
                  <a:srgbClr val="543d18"/>
                </a:solidFill>
                <a:latin typeface="Verdana"/>
                <a:ea typeface="宋体"/>
              </a:rPr>
              <a:t>PPT</a:t>
            </a: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模板</a:t>
            </a:r>
            <a:endParaRPr b="1" lang="en-US" sz="58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932760" y="3286080"/>
            <a:ext cx="379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84120"/>
            <a:ext cx="747864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Thank you</a:t>
            </a:r>
            <a:endParaRPr b="1" lang="en-US" sz="58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3d18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F77A-6193-4338-9319-BF7889216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543d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69440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89528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3325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530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716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c8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86080" y="1905120"/>
          <a:ext cx="7224480" cy="3886200"/>
        </p:xfrm>
        <a:graphic>
          <a:graphicData uri="http://schemas.openxmlformats.org/drawingml/2006/table">
            <a:tbl>
              <a:tblPr/>
              <a:tblGrid>
                <a:gridCol w="1204560"/>
                <a:gridCol w="1203480"/>
                <a:gridCol w="1204920"/>
                <a:gridCol w="1203120"/>
                <a:gridCol w="1204920"/>
                <a:gridCol w="12034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d0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ec8c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d0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pic>
        <p:nvPicPr>
          <p:cNvPr id="170" name="Object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2058840" y="1600200"/>
            <a:ext cx="6437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7:51:10Z</dcterms:created>
  <dc:creator>yoojin</dc:creator>
  <dc:description/>
  <dc:language>en-US</dc:language>
  <cp:lastModifiedBy>king</cp:lastModifiedBy>
  <dcterms:modified xsi:type="dcterms:W3CDTF">2015-07-04T08:31:51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