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6F9DA-87FD-48E3-A488-E5D0E9DFC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4FD88-1211-44D2-87C6-92DB01D36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E32E3-0F0A-476F-9DD7-3EE6C7F0C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9700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9908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29492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9700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9908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C132-3AA9-498A-822C-21FEDFCEF8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52B0A-C2A8-4663-8471-E2185B4B1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7C2F9A-0A77-48A9-8E61-E6454181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BD95D-DB2B-44E4-93F8-0F48345C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F0986-EE42-4D36-8C3C-EFFA3F0A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F7679C-BD9B-426B-A712-78D526A8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676520" y="502920"/>
            <a:ext cx="72388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EBFF8-DE1E-4ECA-A5C7-3CEF8AA9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F8B6D-7CD0-46A3-8A8A-3B945928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D21F-8219-4F76-85BE-01A2720F3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09618-66AA-4B74-ADD7-68E4D363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0C03C-E98C-41B4-9FB1-D382A840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844EA-C755-46AC-AED1-FEC51171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FD555-63EB-45D6-8D3C-B34E066C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9700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99080" y="13240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9492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9700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99080" y="3935880"/>
            <a:ext cx="24778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13DDF-DA9C-4415-BED6-B8B1236D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74B3-58B5-4C0A-9171-3C737275E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3077-1FAD-4878-9F24-CA7B383D0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57FD1-F089-47F2-A6D5-6E5E13A15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676520" y="502920"/>
            <a:ext cx="72388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12CA-79C8-4D1A-B52F-C14359F3B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802B8-8525-423F-A33A-34E0FAC901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38720" y="39358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8D725-BA7A-4327-991E-29BAC41495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520" y="463320"/>
            <a:ext cx="72388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8720" y="1324080"/>
            <a:ext cx="37555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3935880"/>
            <a:ext cx="769644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AA275-12B6-471C-82FD-5C0B2AD7A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"/>
          <p:cNvGraphicFramePr/>
          <p:nvPr/>
        </p:nvGraphicFramePr>
        <p:xfrm>
          <a:off x="12600" y="0"/>
          <a:ext cx="9131400" cy="608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00" y="0"/>
                    <a:ext cx="91314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" name=""/>
          <p:cNvGrpSpPr/>
          <p:nvPr/>
        </p:nvGrpSpPr>
        <p:grpSpPr>
          <a:xfrm>
            <a:off x="0" y="849960"/>
            <a:ext cx="2133360" cy="4712760"/>
            <a:chOff x="0" y="849960"/>
            <a:chExt cx="2133360" cy="4712760"/>
          </a:xfrm>
        </p:grpSpPr>
        <p:sp>
          <p:nvSpPr>
            <p:cNvPr id="3" name="AutoShape 4"/>
            <p:cNvSpPr/>
            <p:nvPr/>
          </p:nvSpPr>
          <p:spPr>
            <a:xfrm rot="559200">
              <a:off x="840600" y="894960"/>
              <a:ext cx="930240" cy="4549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f1a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0" y="1082520"/>
              <a:ext cx="1835280" cy="4480200"/>
            </a:xfrm>
            <a:custGeom>
              <a:avLst/>
              <a:gdLst/>
              <a:ahLst/>
              <a:rect l="l" t="t" r="r" b="b"/>
              <a:pathLst>
                <a:path w="1584" h="2160">
                  <a:moveTo>
                    <a:pt x="1296" y="2160"/>
                  </a:moveTo>
                  <a:lnTo>
                    <a:pt x="0" y="2160"/>
                  </a:lnTo>
                  <a:lnTo>
                    <a:pt x="0" y="0"/>
                  </a:lnTo>
                  <a:lnTo>
                    <a:pt x="1584" y="0"/>
                  </a:lnTo>
                  <a:lnTo>
                    <a:pt x="960" y="672"/>
                  </a:lnTo>
                  <a:lnTo>
                    <a:pt x="864" y="1344"/>
                  </a:lnTo>
                  <a:lnTo>
                    <a:pt x="1056" y="1920"/>
                  </a:lnTo>
                  <a:lnTo>
                    <a:pt x="1296" y="2160"/>
                  </a:lnTo>
                  <a:close/>
                </a:path>
              </a:pathLst>
            </a:custGeom>
            <a:gradFill rotWithShape="0">
              <a:gsLst>
                <a:gs pos="0">
                  <a:srgbClr val="ddf1a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未知"/>
          <p:cNvSpPr/>
          <p:nvPr/>
        </p:nvSpPr>
        <p:spPr>
          <a:xfrm>
            <a:off x="-3240" y="0"/>
            <a:ext cx="2271600" cy="1636560"/>
          </a:xfrm>
          <a:custGeom>
            <a:avLst/>
            <a:gdLst/>
            <a:ahLst/>
            <a:rect l="l" t="t" r="r" b="b"/>
            <a:pathLst>
              <a:path w="1429" h="1032">
                <a:moveTo>
                  <a:pt x="0" y="0"/>
                </a:moveTo>
                <a:lnTo>
                  <a:pt x="1429" y="1"/>
                </a:lnTo>
                <a:cubicBezTo>
                  <a:pt x="1404" y="4"/>
                  <a:pt x="1266" y="99"/>
                  <a:pt x="1098" y="309"/>
                </a:cubicBezTo>
                <a:cubicBezTo>
                  <a:pt x="932" y="520"/>
                  <a:pt x="880" y="977"/>
                  <a:pt x="885" y="1032"/>
                </a:cubicBezTo>
                <a:lnTo>
                  <a:pt x="0" y="102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ba610"/>
              </a:gs>
              <a:gs pos="100000">
                <a:srgbClr val="69c01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1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2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89FD-2327-4904-89C0-0CA3D885E004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3" name="Text Box 14"/>
          <p:cNvSpPr/>
          <p:nvPr/>
        </p:nvSpPr>
        <p:spPr>
          <a:xfrm>
            <a:off x="154440" y="380880"/>
            <a:ext cx="11134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2003400" y="-1440"/>
          <a:ext cx="7151760" cy="28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03400" y="-1440"/>
                    <a:ext cx="715176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未知"/>
          <p:cNvSpPr/>
          <p:nvPr/>
        </p:nvSpPr>
        <p:spPr>
          <a:xfrm>
            <a:off x="0" y="2938320"/>
            <a:ext cx="2268360" cy="3552840"/>
          </a:xfrm>
          <a:custGeom>
            <a:avLst/>
            <a:gdLst/>
            <a:ahLst/>
            <a:rect l="l" t="t" r="r" b="b"/>
            <a:pathLst>
              <a:path w="1431" h="2238">
                <a:moveTo>
                  <a:pt x="0" y="0"/>
                </a:moveTo>
                <a:lnTo>
                  <a:pt x="1431" y="0"/>
                </a:lnTo>
                <a:cubicBezTo>
                  <a:pt x="1409" y="7"/>
                  <a:pt x="960" y="406"/>
                  <a:pt x="859" y="1009"/>
                </a:cubicBezTo>
                <a:cubicBezTo>
                  <a:pt x="757" y="1612"/>
                  <a:pt x="845" y="2101"/>
                  <a:pt x="839" y="2228"/>
                </a:cubicBezTo>
                <a:lnTo>
                  <a:pt x="0" y="223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9c01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4"/>
          <p:cNvSpPr/>
          <p:nvPr/>
        </p:nvSpPr>
        <p:spPr>
          <a:xfrm>
            <a:off x="0" y="29383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573200" y="1969920"/>
            <a:ext cx="7589880" cy="925560"/>
            <a:chOff x="1573200" y="1969920"/>
            <a:chExt cx="7589880" cy="925560"/>
          </a:xfrm>
        </p:grpSpPr>
        <p:sp>
          <p:nvSpPr>
            <p:cNvPr id="55" name="Rectangle 6"/>
            <p:cNvSpPr/>
            <p:nvPr/>
          </p:nvSpPr>
          <p:spPr>
            <a:xfrm>
              <a:off x="1576440" y="1969920"/>
              <a:ext cx="2977920" cy="81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"/>
            <p:cNvSpPr/>
            <p:nvPr/>
          </p:nvSpPr>
          <p:spPr>
            <a:xfrm>
              <a:off x="1573200" y="2133360"/>
              <a:ext cx="7589880" cy="76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13"/>
          <p:cNvSpPr/>
          <p:nvPr/>
        </p:nvSpPr>
        <p:spPr>
          <a:xfrm>
            <a:off x="3792240" y="5470560"/>
            <a:ext cx="1540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 o m p a 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9c012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1294920" y="1324080"/>
            <a:ext cx="769644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3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5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1E97-4A41-413C-8AFD-33195267823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22096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df1ab"/>
                </a:solidFill>
                <a:latin typeface="Arial"/>
                <a:ea typeface="宋体"/>
              </a:rPr>
              <a:t>外国绿色</a:t>
            </a:r>
            <a:r>
              <a:rPr b="1" lang="zh-CN" sz="3200" spc="-1" strike="noStrike">
                <a:solidFill>
                  <a:srgbClr val="ddf1ab"/>
                </a:solidFill>
                <a:latin typeface="Arial"/>
                <a:ea typeface="宋体"/>
              </a:rPr>
              <a:t>PPT</a:t>
            </a:r>
            <a:r>
              <a:rPr b="1" lang="zh-CN" sz="3200" spc="-1" strike="noStrike">
                <a:solidFill>
                  <a:srgbClr val="ddf1ab"/>
                </a:solidFill>
                <a:latin typeface="Arial"/>
                <a:ea typeface="宋体"/>
              </a:rPr>
              <a:t>演示模板</a:t>
            </a:r>
            <a:endParaRPr b="1" lang="en-US" sz="32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52120" y="42670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Verdana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页脚占位符 3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271" name="AutoShape 4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6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7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8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Oval 10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8000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Oval 11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45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Oval 12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51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13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14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ffffff"/>
                </a:gs>
                <a:gs pos="100000">
                  <a:srgbClr val="96969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15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96969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Oval 16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515151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17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969696">
                    <a:alpha val="0"/>
                  </a:srgbClr>
                </a:gs>
                <a:gs pos="100000">
                  <a:srgbClr val="5f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8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87" name="Oval 20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Oval 21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22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Oval 23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Oval 24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ddf1ab"/>
                </a:gs>
                <a:gs pos="50000">
                  <a:srgbClr val="ffffff"/>
                </a:gs>
                <a:gs pos="100000">
                  <a:srgbClr val="ddf1a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25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66704f"/>
                </a:gs>
                <a:gs pos="100000">
                  <a:srgbClr val="ddf1ab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6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ddf1ab"/>
                </a:gs>
                <a:gs pos="50000">
                  <a:srgbClr val="78825d"/>
                </a:gs>
                <a:gs pos="100000">
                  <a:srgbClr val="ddf1a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7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ddf1ab">
                    <a:alpha val="0"/>
                  </a:srgbClr>
                </a:gs>
                <a:gs pos="100000">
                  <a:srgbClr val="8c99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8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97" name="Oval 30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31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32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33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302" name="Oval 35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36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Oval 37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38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Text Box 39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0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41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页脚占位符 2"/>
          <p:cNvSpPr/>
          <p:nvPr/>
        </p:nvSpPr>
        <p:spPr>
          <a:xfrm>
            <a:off x="7010280" y="6486480"/>
            <a:ext cx="1828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Marketing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981080" y="1828800"/>
            <a:ext cx="5181480" cy="4495680"/>
            <a:chOff x="1981080" y="1828800"/>
            <a:chExt cx="5181480" cy="4495680"/>
          </a:xfrm>
        </p:grpSpPr>
        <p:sp>
          <p:nvSpPr>
            <p:cNvPr id="312" name="Rectangle 4"/>
            <p:cNvSpPr/>
            <p:nvPr/>
          </p:nvSpPr>
          <p:spPr>
            <a:xfrm rot="13770000">
              <a:off x="5028120" y="3996360"/>
              <a:ext cx="856440" cy="17784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 rot="20856000">
              <a:off x="3167280" y="3604320"/>
              <a:ext cx="938520" cy="153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eeeeee"/>
                </a:gs>
                <a:gs pos="100000">
                  <a:srgbClr val="dddddd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 rot="18394200">
              <a:off x="5138280" y="2616120"/>
              <a:ext cx="532440" cy="123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4041360" y="2657160"/>
              <a:ext cx="1498320" cy="1420200"/>
              <a:chOff x="4041360" y="2657160"/>
              <a:chExt cx="1498320" cy="1420200"/>
            </a:xfrm>
          </p:grpSpPr>
          <p:grpSp>
            <p:nvGrpSpPr>
              <p:cNvPr id="316" name=""/>
              <p:cNvGrpSpPr/>
              <p:nvPr/>
            </p:nvGrpSpPr>
            <p:grpSpPr>
              <a:xfrm>
                <a:off x="4041360" y="2657160"/>
                <a:ext cx="1498320" cy="1420200"/>
                <a:chOff x="4041360" y="2657160"/>
                <a:chExt cx="1498320" cy="1420200"/>
              </a:xfrm>
            </p:grpSpPr>
            <p:sp>
              <p:nvSpPr>
                <p:cNvPr id="317" name="Oval 9"/>
                <p:cNvSpPr/>
                <p:nvPr/>
              </p:nvSpPr>
              <p:spPr>
                <a:xfrm>
                  <a:off x="4041360" y="2657160"/>
                  <a:ext cx="1498320" cy="142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69696"/>
                    </a:gs>
                    <a:gs pos="100000">
                      <a:srgbClr val="24242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未知"/>
                <p:cNvSpPr/>
                <p:nvPr/>
              </p:nvSpPr>
              <p:spPr>
                <a:xfrm>
                  <a:off x="4212360" y="268056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6969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9" name="Text Box 11"/>
              <p:cNvSpPr/>
              <p:nvPr/>
            </p:nvSpPr>
            <p:spPr>
              <a:xfrm>
                <a:off x="4073400" y="327456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5325840" y="1828800"/>
              <a:ext cx="909360" cy="769320"/>
              <a:chOff x="5325840" y="1828800"/>
              <a:chExt cx="909360" cy="76932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5352120" y="1828800"/>
                <a:ext cx="811440" cy="769320"/>
                <a:chOff x="5352120" y="1828800"/>
                <a:chExt cx="811440" cy="769320"/>
              </a:xfrm>
            </p:grpSpPr>
            <p:sp>
              <p:nvSpPr>
                <p:cNvPr id="322" name="Oval 14"/>
                <p:cNvSpPr/>
                <p:nvPr/>
              </p:nvSpPr>
              <p:spPr>
                <a:xfrm>
                  <a:off x="5352120" y="1828800"/>
                  <a:ext cx="811440" cy="76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f1ab"/>
                    </a:gs>
                    <a:gs pos="100000">
                      <a:srgbClr val="363b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未知"/>
                <p:cNvSpPr/>
                <p:nvPr/>
              </p:nvSpPr>
              <p:spPr>
                <a:xfrm>
                  <a:off x="5444640" y="1841400"/>
                  <a:ext cx="626040" cy="2901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f1a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Text Box 16"/>
              <p:cNvSpPr/>
              <p:nvPr/>
            </p:nvSpPr>
            <p:spPr>
              <a:xfrm>
                <a:off x="5325840" y="21258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981080" y="2953080"/>
              <a:ext cx="1622880" cy="1597680"/>
              <a:chOff x="1981080" y="2953080"/>
              <a:chExt cx="1622880" cy="159768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1981080" y="2953080"/>
                <a:ext cx="1622880" cy="1597680"/>
                <a:chOff x="1981080" y="2953080"/>
                <a:chExt cx="1622880" cy="1597680"/>
              </a:xfrm>
            </p:grpSpPr>
            <p:sp>
              <p:nvSpPr>
                <p:cNvPr id="327" name="Oval 19"/>
                <p:cNvSpPr/>
                <p:nvPr/>
              </p:nvSpPr>
              <p:spPr>
                <a:xfrm>
                  <a:off x="1981080" y="2953080"/>
                  <a:ext cx="1622880" cy="1597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c012"/>
                    </a:gs>
                    <a:gs pos="100000">
                      <a:srgbClr val="437a0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未知"/>
                <p:cNvSpPr/>
                <p:nvPr/>
              </p:nvSpPr>
              <p:spPr>
                <a:xfrm>
                  <a:off x="2166480" y="2979360"/>
                  <a:ext cx="125208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9c01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9" name="Text Box 21"/>
              <p:cNvSpPr/>
              <p:nvPr/>
            </p:nvSpPr>
            <p:spPr>
              <a:xfrm>
                <a:off x="2014560" y="36640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289840" y="4136760"/>
              <a:ext cx="1872720" cy="1775520"/>
              <a:chOff x="5289840" y="4136760"/>
              <a:chExt cx="1872720" cy="1775520"/>
            </a:xfrm>
          </p:grpSpPr>
          <p:grpSp>
            <p:nvGrpSpPr>
              <p:cNvPr id="331" name=""/>
              <p:cNvGrpSpPr/>
              <p:nvPr/>
            </p:nvGrpSpPr>
            <p:grpSpPr>
              <a:xfrm>
                <a:off x="5289840" y="4136760"/>
                <a:ext cx="1872720" cy="1775520"/>
                <a:chOff x="5289840" y="4136760"/>
                <a:chExt cx="1872720" cy="1775520"/>
              </a:xfrm>
            </p:grpSpPr>
            <p:sp>
              <p:nvSpPr>
                <p:cNvPr id="332" name="Oval 24"/>
                <p:cNvSpPr/>
                <p:nvPr/>
              </p:nvSpPr>
              <p:spPr>
                <a:xfrm>
                  <a:off x="5289840" y="4136760"/>
                  <a:ext cx="1872720" cy="177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4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未知"/>
                <p:cNvSpPr/>
                <p:nvPr/>
              </p:nvSpPr>
              <p:spPr>
                <a:xfrm>
                  <a:off x="5503680" y="4165920"/>
                  <a:ext cx="1444680" cy="66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Text Box 26"/>
              <p:cNvSpPr/>
              <p:nvPr/>
            </p:nvSpPr>
            <p:spPr>
              <a:xfrm>
                <a:off x="5503320" y="490608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Oval 27"/>
            <p:cNvSpPr/>
            <p:nvPr/>
          </p:nvSpPr>
          <p:spPr>
            <a:xfrm>
              <a:off x="2168280" y="461016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28"/>
            <p:cNvSpPr/>
            <p:nvPr/>
          </p:nvSpPr>
          <p:spPr>
            <a:xfrm>
              <a:off x="4165920" y="4080240"/>
              <a:ext cx="132012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29"/>
            <p:cNvSpPr/>
            <p:nvPr/>
          </p:nvSpPr>
          <p:spPr>
            <a:xfrm>
              <a:off x="5602320" y="5912640"/>
              <a:ext cx="1318680" cy="411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0"/>
            <p:cNvSpPr/>
            <p:nvPr/>
          </p:nvSpPr>
          <p:spPr>
            <a:xfrm>
              <a:off x="5477040" y="2657160"/>
              <a:ext cx="604800" cy="205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页脚占位符 3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342" name="AutoShape 4"/>
            <p:cNvSpPr/>
            <p:nvPr/>
          </p:nvSpPr>
          <p:spPr>
            <a:xfrm rot="17973000">
              <a:off x="4553640" y="252612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5"/>
            <p:cNvSpPr/>
            <p:nvPr/>
          </p:nvSpPr>
          <p:spPr>
            <a:xfrm rot="3465600">
              <a:off x="4604040" y="46364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6"/>
            <p:cNvSpPr/>
            <p:nvPr/>
          </p:nvSpPr>
          <p:spPr>
            <a:xfrm rot="14368800">
              <a:off x="3385080" y="254844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7"/>
            <p:cNvSpPr/>
            <p:nvPr/>
          </p:nvSpPr>
          <p:spPr>
            <a:xfrm rot="7534800">
              <a:off x="3346200" y="460260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8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9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ddf1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1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Text Box 12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3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 Box 14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Text Box 15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6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7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8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9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20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21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22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b6e08c"/>
                </a:gs>
                <a:gs pos="100000">
                  <a:srgbClr val="69c01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23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24"/>
            <p:cNvSpPr/>
            <p:nvPr/>
          </p:nvSpPr>
          <p:spPr>
            <a:xfrm>
              <a:off x="3554280" y="288432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8000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25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0045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26"/>
            <p:cNvSpPr/>
            <p:nvPr/>
          </p:nvSpPr>
          <p:spPr>
            <a:xfrm>
              <a:off x="3700440" y="302904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8000">
                    <a:alpha val="0"/>
                  </a:srgbClr>
                </a:gs>
                <a:gs pos="100000">
                  <a:srgbClr val="0051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27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367" name="Oval 29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Oval 30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Oval 31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Oval 32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1" name="Text Box 33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页脚占位符 3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722600" y="1908000"/>
            <a:ext cx="2170080" cy="4035600"/>
            <a:chOff x="1722600" y="1908000"/>
            <a:chExt cx="2170080" cy="4035600"/>
          </a:xfrm>
        </p:grpSpPr>
        <p:sp>
          <p:nvSpPr>
            <p:cNvPr id="375" name="AutoShape 4"/>
            <p:cNvSpPr/>
            <p:nvPr/>
          </p:nvSpPr>
          <p:spPr>
            <a:xfrm>
              <a:off x="172260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5"/>
            <p:cNvSpPr/>
            <p:nvPr/>
          </p:nvSpPr>
          <p:spPr>
            <a:xfrm>
              <a:off x="175608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AutoShape 6"/>
            <p:cNvSpPr/>
            <p:nvPr/>
          </p:nvSpPr>
          <p:spPr>
            <a:xfrm>
              <a:off x="177336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bcf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AutoShape 7"/>
            <p:cNvSpPr/>
            <p:nvPr/>
          </p:nvSpPr>
          <p:spPr>
            <a:xfrm>
              <a:off x="177336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ee0f7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8"/>
            <p:cNvSpPr/>
            <p:nvPr/>
          </p:nvSpPr>
          <p:spPr>
            <a:xfrm>
              <a:off x="172908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AutoShape 9"/>
            <p:cNvSpPr/>
            <p:nvPr/>
          </p:nvSpPr>
          <p:spPr>
            <a:xfrm>
              <a:off x="1773360" y="509724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2467080" y="1908000"/>
              <a:ext cx="642960" cy="642960"/>
              <a:chOff x="2467080" y="1908000"/>
              <a:chExt cx="642960" cy="642960"/>
            </a:xfrm>
          </p:grpSpPr>
          <p:sp>
            <p:nvSpPr>
              <p:cNvPr id="382" name="Oval 11"/>
              <p:cNvSpPr/>
              <p:nvPr/>
            </p:nvSpPr>
            <p:spPr>
              <a:xfrm>
                <a:off x="246708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12"/>
              <p:cNvSpPr/>
              <p:nvPr/>
            </p:nvSpPr>
            <p:spPr>
              <a:xfrm>
                <a:off x="247356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Oval 13"/>
              <p:cNvSpPr/>
              <p:nvPr/>
            </p:nvSpPr>
            <p:spPr>
              <a:xfrm>
                <a:off x="2481480" y="1916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Oval 14"/>
              <p:cNvSpPr/>
              <p:nvPr/>
            </p:nvSpPr>
            <p:spPr>
              <a:xfrm>
                <a:off x="248796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Oval 15"/>
              <p:cNvSpPr/>
              <p:nvPr/>
            </p:nvSpPr>
            <p:spPr>
              <a:xfrm>
                <a:off x="252180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Text Box 16"/>
            <p:cNvSpPr/>
            <p:nvPr/>
          </p:nvSpPr>
          <p:spPr>
            <a:xfrm>
              <a:off x="260712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7"/>
            <p:cNvSpPr/>
            <p:nvPr/>
          </p:nvSpPr>
          <p:spPr>
            <a:xfrm>
              <a:off x="1798920" y="26701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4084560" y="1908000"/>
            <a:ext cx="2166840" cy="4035600"/>
            <a:chOff x="4084560" y="1908000"/>
            <a:chExt cx="2166840" cy="4035600"/>
          </a:xfrm>
        </p:grpSpPr>
        <p:sp>
          <p:nvSpPr>
            <p:cNvPr id="390" name="AutoShape 19"/>
            <p:cNvSpPr/>
            <p:nvPr/>
          </p:nvSpPr>
          <p:spPr>
            <a:xfrm>
              <a:off x="408456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20"/>
            <p:cNvSpPr/>
            <p:nvPr/>
          </p:nvSpPr>
          <p:spPr>
            <a:xfrm>
              <a:off x="4118040" y="22240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21"/>
            <p:cNvSpPr/>
            <p:nvPr/>
          </p:nvSpPr>
          <p:spPr>
            <a:xfrm>
              <a:off x="413532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3f2b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AutoShape 22"/>
            <p:cNvSpPr/>
            <p:nvPr/>
          </p:nvSpPr>
          <p:spPr>
            <a:xfrm>
              <a:off x="413532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0f7d4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23"/>
            <p:cNvSpPr/>
            <p:nvPr/>
          </p:nvSpPr>
          <p:spPr>
            <a:xfrm>
              <a:off x="4829040" y="19080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24"/>
            <p:cNvSpPr/>
            <p:nvPr/>
          </p:nvSpPr>
          <p:spPr>
            <a:xfrm>
              <a:off x="4835520" y="191268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25"/>
            <p:cNvSpPr/>
            <p:nvPr/>
          </p:nvSpPr>
          <p:spPr>
            <a:xfrm>
              <a:off x="4843440" y="191592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26"/>
            <p:cNvSpPr/>
            <p:nvPr/>
          </p:nvSpPr>
          <p:spPr>
            <a:xfrm>
              <a:off x="4849560" y="192240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27"/>
            <p:cNvSpPr/>
            <p:nvPr/>
          </p:nvSpPr>
          <p:spPr>
            <a:xfrm>
              <a:off x="4884840" y="193824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 Box 28"/>
            <p:cNvSpPr/>
            <p:nvPr/>
          </p:nvSpPr>
          <p:spPr>
            <a:xfrm>
              <a:off x="496908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29"/>
            <p:cNvSpPr/>
            <p:nvPr/>
          </p:nvSpPr>
          <p:spPr>
            <a:xfrm>
              <a:off x="4160880" y="26701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30"/>
            <p:cNvSpPr/>
            <p:nvPr/>
          </p:nvSpPr>
          <p:spPr>
            <a:xfrm>
              <a:off x="40878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31"/>
            <p:cNvSpPr/>
            <p:nvPr/>
          </p:nvSpPr>
          <p:spPr>
            <a:xfrm>
              <a:off x="4132080" y="50972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6440400" y="1908000"/>
            <a:ext cx="2170080" cy="4035600"/>
            <a:chOff x="6440400" y="1908000"/>
            <a:chExt cx="2170080" cy="4035600"/>
          </a:xfrm>
        </p:grpSpPr>
        <p:sp>
          <p:nvSpPr>
            <p:cNvPr id="404" name="AutoShape 33"/>
            <p:cNvSpPr/>
            <p:nvPr/>
          </p:nvSpPr>
          <p:spPr>
            <a:xfrm>
              <a:off x="6446880" y="22158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AutoShape 34"/>
            <p:cNvSpPr/>
            <p:nvPr/>
          </p:nvSpPr>
          <p:spPr>
            <a:xfrm>
              <a:off x="6480000" y="222408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35"/>
            <p:cNvSpPr/>
            <p:nvPr/>
          </p:nvSpPr>
          <p:spPr>
            <a:xfrm>
              <a:off x="6497640" y="42876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2eda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36"/>
            <p:cNvSpPr/>
            <p:nvPr/>
          </p:nvSpPr>
          <p:spPr>
            <a:xfrm>
              <a:off x="6497640" y="22460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8f5cc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191360" y="1908000"/>
              <a:ext cx="642960" cy="642960"/>
              <a:chOff x="7191360" y="1908000"/>
              <a:chExt cx="642960" cy="642960"/>
            </a:xfrm>
          </p:grpSpPr>
          <p:sp>
            <p:nvSpPr>
              <p:cNvPr id="409" name="Oval 38"/>
              <p:cNvSpPr/>
              <p:nvPr/>
            </p:nvSpPr>
            <p:spPr>
              <a:xfrm>
                <a:off x="7191360" y="19080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Oval 39"/>
              <p:cNvSpPr/>
              <p:nvPr/>
            </p:nvSpPr>
            <p:spPr>
              <a:xfrm>
                <a:off x="7197840" y="19126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40"/>
              <p:cNvSpPr/>
              <p:nvPr/>
            </p:nvSpPr>
            <p:spPr>
              <a:xfrm>
                <a:off x="7205760" y="19166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41"/>
              <p:cNvSpPr/>
              <p:nvPr/>
            </p:nvSpPr>
            <p:spPr>
              <a:xfrm>
                <a:off x="7212240" y="19224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42"/>
              <p:cNvSpPr/>
              <p:nvPr/>
            </p:nvSpPr>
            <p:spPr>
              <a:xfrm>
                <a:off x="7246080" y="19378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Text Box 43"/>
            <p:cNvSpPr/>
            <p:nvPr/>
          </p:nvSpPr>
          <p:spPr>
            <a:xfrm>
              <a:off x="7331400" y="200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Text Box 44"/>
            <p:cNvSpPr/>
            <p:nvPr/>
          </p:nvSpPr>
          <p:spPr>
            <a:xfrm>
              <a:off x="6522840" y="267012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45"/>
            <p:cNvSpPr/>
            <p:nvPr/>
          </p:nvSpPr>
          <p:spPr>
            <a:xfrm>
              <a:off x="6440400" y="507348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46"/>
            <p:cNvSpPr/>
            <p:nvPr/>
          </p:nvSpPr>
          <p:spPr>
            <a:xfrm>
              <a:off x="6484680" y="509724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页脚占位符 3"/>
          <p:cNvSpPr/>
          <p:nvPr/>
        </p:nvSpPr>
        <p:spPr>
          <a:xfrm>
            <a:off x="7238880" y="6559560"/>
            <a:ext cx="1905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241200" y="2031840"/>
            <a:ext cx="8664480" cy="3986280"/>
            <a:chOff x="241200" y="2031840"/>
            <a:chExt cx="8664480" cy="3986280"/>
          </a:xfrm>
        </p:grpSpPr>
        <p:grpSp>
          <p:nvGrpSpPr>
            <p:cNvPr id="421" name="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422" name="Rectangle 5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6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761760" y="2685960"/>
              <a:ext cx="1932480" cy="3265200"/>
              <a:chOff x="761760" y="2685960"/>
              <a:chExt cx="1932480" cy="326520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1163520" y="3520080"/>
                <a:ext cx="1530720" cy="2431080"/>
                <a:chOff x="1163520" y="3520080"/>
                <a:chExt cx="1530720" cy="243108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1163520" y="3678480"/>
                  <a:ext cx="1424520" cy="2272680"/>
                  <a:chOff x="1163520" y="3678480"/>
                  <a:chExt cx="1424520" cy="2272680"/>
                </a:xfrm>
              </p:grpSpPr>
              <p:sp>
                <p:nvSpPr>
                  <p:cNvPr id="427" name="未知"/>
                  <p:cNvSpPr/>
                  <p:nvPr/>
                </p:nvSpPr>
                <p:spPr>
                  <a:xfrm rot="3876600">
                    <a:off x="735120" y="4567320"/>
                    <a:ext cx="228096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未知"/>
                  <p:cNvSpPr/>
                  <p:nvPr/>
                </p:nvSpPr>
                <p:spPr>
                  <a:xfrm rot="3876600">
                    <a:off x="2105640" y="5448600"/>
                    <a:ext cx="3585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9" name=""/>
                <p:cNvGrpSpPr/>
                <p:nvPr/>
              </p:nvGrpSpPr>
              <p:grpSpPr>
                <a:xfrm>
                  <a:off x="1601280" y="3520080"/>
                  <a:ext cx="1092960" cy="1743840"/>
                  <a:chOff x="1601280" y="3520080"/>
                  <a:chExt cx="1092960" cy="1743840"/>
                </a:xfrm>
              </p:grpSpPr>
              <p:sp>
                <p:nvSpPr>
                  <p:cNvPr id="430" name="未知"/>
                  <p:cNvSpPr/>
                  <p:nvPr/>
                </p:nvSpPr>
                <p:spPr>
                  <a:xfrm flipV="1" rot="3876600">
                    <a:off x="1272600" y="4202280"/>
                    <a:ext cx="175032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未知"/>
                  <p:cNvSpPr/>
                  <p:nvPr/>
                </p:nvSpPr>
                <p:spPr>
                  <a:xfrm flipV="1" rot="3876600">
                    <a:off x="2309040" y="488556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761760" y="2685960"/>
                <a:ext cx="1276560" cy="1312560"/>
                <a:chOff x="761760" y="2685960"/>
                <a:chExt cx="1276560" cy="1312560"/>
              </a:xfrm>
            </p:grpSpPr>
            <p:sp>
              <p:nvSpPr>
                <p:cNvPr id="433" name="Oval 16"/>
                <p:cNvSpPr/>
                <p:nvPr/>
              </p:nvSpPr>
              <p:spPr>
                <a:xfrm>
                  <a:off x="761760" y="2685960"/>
                  <a:ext cx="12765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7"/>
                <p:cNvSpPr/>
                <p:nvPr/>
              </p:nvSpPr>
              <p:spPr>
                <a:xfrm>
                  <a:off x="761760" y="2685960"/>
                  <a:ext cx="12765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8"/>
                <p:cNvSpPr/>
                <p:nvPr/>
              </p:nvSpPr>
              <p:spPr>
                <a:xfrm>
                  <a:off x="846000" y="2770920"/>
                  <a:ext cx="110736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9"/>
                <p:cNvSpPr/>
                <p:nvPr/>
              </p:nvSpPr>
              <p:spPr>
                <a:xfrm>
                  <a:off x="846000" y="2774160"/>
                  <a:ext cx="110736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Oval 20"/>
                <p:cNvSpPr/>
                <p:nvPr/>
              </p:nvSpPr>
              <p:spPr>
                <a:xfrm>
                  <a:off x="901080" y="2829240"/>
                  <a:ext cx="997560" cy="1025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916200" y="2845080"/>
                  <a:ext cx="966960" cy="995400"/>
                  <a:chOff x="916200" y="2845080"/>
                  <a:chExt cx="966960" cy="995400"/>
                </a:xfrm>
              </p:grpSpPr>
              <p:sp>
                <p:nvSpPr>
                  <p:cNvPr id="439" name="Oval 22"/>
                  <p:cNvSpPr/>
                  <p:nvPr/>
                </p:nvSpPr>
                <p:spPr>
                  <a:xfrm>
                    <a:off x="916200" y="2845080"/>
                    <a:ext cx="966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Oval 23"/>
                  <p:cNvSpPr/>
                  <p:nvPr/>
                </p:nvSpPr>
                <p:spPr>
                  <a:xfrm>
                    <a:off x="928440" y="2850480"/>
                    <a:ext cx="943560" cy="9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Oval 24"/>
                  <p:cNvSpPr/>
                  <p:nvPr/>
                </p:nvSpPr>
                <p:spPr>
                  <a:xfrm>
                    <a:off x="938520" y="2860200"/>
                    <a:ext cx="897480" cy="90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Oval 25"/>
                  <p:cNvSpPr/>
                  <p:nvPr/>
                </p:nvSpPr>
                <p:spPr>
                  <a:xfrm>
                    <a:off x="991080" y="2885400"/>
                    <a:ext cx="797760" cy="73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43" name="Text Box 26"/>
              <p:cNvSpPr/>
              <p:nvPr/>
            </p:nvSpPr>
            <p:spPr>
              <a:xfrm rot="3925800">
                <a:off x="1133640" y="4507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27"/>
              <p:cNvSpPr/>
              <p:nvPr/>
            </p:nvSpPr>
            <p:spPr>
              <a:xfrm rot="3925800">
                <a:off x="1588680" y="4219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2509560" y="2685960"/>
              <a:ext cx="1930680" cy="3265560"/>
              <a:chOff x="2509560" y="2685960"/>
              <a:chExt cx="1930680" cy="326556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2909160" y="3520080"/>
                <a:ext cx="1531080" cy="2431440"/>
                <a:chOff x="2909160" y="3520080"/>
                <a:chExt cx="1531080" cy="2431440"/>
              </a:xfrm>
            </p:grpSpPr>
            <p:grpSp>
              <p:nvGrpSpPr>
                <p:cNvPr id="447" name=""/>
                <p:cNvGrpSpPr/>
                <p:nvPr/>
              </p:nvGrpSpPr>
              <p:grpSpPr>
                <a:xfrm>
                  <a:off x="2909160" y="3678840"/>
                  <a:ext cx="1424520" cy="2272680"/>
                  <a:chOff x="2909160" y="3678840"/>
                  <a:chExt cx="1424520" cy="2272680"/>
                </a:xfrm>
              </p:grpSpPr>
              <p:sp>
                <p:nvSpPr>
                  <p:cNvPr id="448" name="未知"/>
                  <p:cNvSpPr/>
                  <p:nvPr/>
                </p:nvSpPr>
                <p:spPr>
                  <a:xfrm rot="3876600">
                    <a:off x="2480760" y="4567680"/>
                    <a:ext cx="228096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未知"/>
                  <p:cNvSpPr/>
                  <p:nvPr/>
                </p:nvSpPr>
                <p:spPr>
                  <a:xfrm rot="3876600">
                    <a:off x="3851280" y="5448960"/>
                    <a:ext cx="3585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0" name=""/>
                <p:cNvGrpSpPr/>
                <p:nvPr/>
              </p:nvGrpSpPr>
              <p:grpSpPr>
                <a:xfrm>
                  <a:off x="3347280" y="3520080"/>
                  <a:ext cx="1092960" cy="1743840"/>
                  <a:chOff x="3347280" y="3520080"/>
                  <a:chExt cx="1092960" cy="1743840"/>
                </a:xfrm>
              </p:grpSpPr>
              <p:sp>
                <p:nvSpPr>
                  <p:cNvPr id="451" name="未知"/>
                  <p:cNvSpPr/>
                  <p:nvPr/>
                </p:nvSpPr>
                <p:spPr>
                  <a:xfrm flipV="1" rot="3876600">
                    <a:off x="3018600" y="4202280"/>
                    <a:ext cx="175032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未知"/>
                  <p:cNvSpPr/>
                  <p:nvPr/>
                </p:nvSpPr>
                <p:spPr>
                  <a:xfrm flipV="1" rot="3876600">
                    <a:off x="4055040" y="488556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3" name=""/>
              <p:cNvGrpSpPr/>
              <p:nvPr/>
            </p:nvGrpSpPr>
            <p:grpSpPr>
              <a:xfrm>
                <a:off x="2509560" y="2685960"/>
                <a:ext cx="1276560" cy="1312560"/>
                <a:chOff x="2509560" y="2685960"/>
                <a:chExt cx="1276560" cy="1312560"/>
              </a:xfrm>
            </p:grpSpPr>
            <p:sp>
              <p:nvSpPr>
                <p:cNvPr id="454" name="Oval 37"/>
                <p:cNvSpPr/>
                <p:nvPr/>
              </p:nvSpPr>
              <p:spPr>
                <a:xfrm>
                  <a:off x="2509560" y="2685960"/>
                  <a:ext cx="12765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8"/>
                <p:cNvSpPr/>
                <p:nvPr/>
              </p:nvSpPr>
              <p:spPr>
                <a:xfrm>
                  <a:off x="2509560" y="2685960"/>
                  <a:ext cx="12765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9"/>
                <p:cNvSpPr/>
                <p:nvPr/>
              </p:nvSpPr>
              <p:spPr>
                <a:xfrm>
                  <a:off x="2593800" y="2770920"/>
                  <a:ext cx="110736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Oval 40"/>
                <p:cNvSpPr/>
                <p:nvPr/>
              </p:nvSpPr>
              <p:spPr>
                <a:xfrm>
                  <a:off x="2593800" y="2774160"/>
                  <a:ext cx="110736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Oval 41"/>
                <p:cNvSpPr/>
                <p:nvPr/>
              </p:nvSpPr>
              <p:spPr>
                <a:xfrm>
                  <a:off x="2648880" y="2829240"/>
                  <a:ext cx="997560" cy="1025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2664000" y="2845080"/>
                  <a:ext cx="966960" cy="995400"/>
                  <a:chOff x="2664000" y="2845080"/>
                  <a:chExt cx="966960" cy="995400"/>
                </a:xfrm>
              </p:grpSpPr>
              <p:sp>
                <p:nvSpPr>
                  <p:cNvPr id="460" name="Oval 43"/>
                  <p:cNvSpPr/>
                  <p:nvPr/>
                </p:nvSpPr>
                <p:spPr>
                  <a:xfrm>
                    <a:off x="2664000" y="2845080"/>
                    <a:ext cx="96696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Oval 44"/>
                  <p:cNvSpPr/>
                  <p:nvPr/>
                </p:nvSpPr>
                <p:spPr>
                  <a:xfrm>
                    <a:off x="2676240" y="2850480"/>
                    <a:ext cx="943560" cy="9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Oval 45"/>
                  <p:cNvSpPr/>
                  <p:nvPr/>
                </p:nvSpPr>
                <p:spPr>
                  <a:xfrm>
                    <a:off x="2686320" y="2860200"/>
                    <a:ext cx="897480" cy="90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Oval 46"/>
                  <p:cNvSpPr/>
                  <p:nvPr/>
                </p:nvSpPr>
                <p:spPr>
                  <a:xfrm>
                    <a:off x="2738880" y="2885400"/>
                    <a:ext cx="797760" cy="73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4" name="Text Box 47"/>
              <p:cNvSpPr/>
              <p:nvPr/>
            </p:nvSpPr>
            <p:spPr>
              <a:xfrm rot="3925800">
                <a:off x="2875680" y="4507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 Box 48"/>
              <p:cNvSpPr/>
              <p:nvPr/>
            </p:nvSpPr>
            <p:spPr>
              <a:xfrm rot="3925800">
                <a:off x="3330720" y="4219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4313160" y="2685960"/>
              <a:ext cx="1932480" cy="3265200"/>
              <a:chOff x="4313160" y="2685960"/>
              <a:chExt cx="1932480" cy="326520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4714920" y="3520080"/>
                <a:ext cx="1530720" cy="2431080"/>
                <a:chOff x="4714920" y="3520080"/>
                <a:chExt cx="1530720" cy="2431080"/>
              </a:xfrm>
            </p:grpSpPr>
            <p:grpSp>
              <p:nvGrpSpPr>
                <p:cNvPr id="468" name=""/>
                <p:cNvGrpSpPr/>
                <p:nvPr/>
              </p:nvGrpSpPr>
              <p:grpSpPr>
                <a:xfrm>
                  <a:off x="4714920" y="3678480"/>
                  <a:ext cx="1424520" cy="2272680"/>
                  <a:chOff x="4714920" y="3678480"/>
                  <a:chExt cx="1424520" cy="2272680"/>
                </a:xfrm>
              </p:grpSpPr>
              <p:sp>
                <p:nvSpPr>
                  <p:cNvPr id="469" name="未知"/>
                  <p:cNvSpPr/>
                  <p:nvPr/>
                </p:nvSpPr>
                <p:spPr>
                  <a:xfrm rot="3876600">
                    <a:off x="4286520" y="4567320"/>
                    <a:ext cx="2280960" cy="49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未知"/>
                  <p:cNvSpPr/>
                  <p:nvPr/>
                </p:nvSpPr>
                <p:spPr>
                  <a:xfrm rot="3876600">
                    <a:off x="5657040" y="5448600"/>
                    <a:ext cx="358560" cy="40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5152680" y="3520080"/>
                  <a:ext cx="1092960" cy="1743840"/>
                  <a:chOff x="5152680" y="3520080"/>
                  <a:chExt cx="1092960" cy="1743840"/>
                </a:xfrm>
              </p:grpSpPr>
              <p:sp>
                <p:nvSpPr>
                  <p:cNvPr id="472" name="未知"/>
                  <p:cNvSpPr/>
                  <p:nvPr/>
                </p:nvSpPr>
                <p:spPr>
                  <a:xfrm flipV="1" rot="3876600">
                    <a:off x="4824000" y="4202280"/>
                    <a:ext cx="175032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未知"/>
                  <p:cNvSpPr/>
                  <p:nvPr/>
                </p:nvSpPr>
                <p:spPr>
                  <a:xfrm flipV="1" rot="3876600">
                    <a:off x="5860440" y="488556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"/>
              <p:cNvGrpSpPr/>
              <p:nvPr/>
            </p:nvGrpSpPr>
            <p:grpSpPr>
              <a:xfrm>
                <a:off x="4313160" y="2685960"/>
                <a:ext cx="1278360" cy="1312560"/>
                <a:chOff x="4313160" y="2685960"/>
                <a:chExt cx="1278360" cy="1312560"/>
              </a:xfrm>
            </p:grpSpPr>
            <p:sp>
              <p:nvSpPr>
                <p:cNvPr id="475" name="Oval 58"/>
                <p:cNvSpPr/>
                <p:nvPr/>
              </p:nvSpPr>
              <p:spPr>
                <a:xfrm>
                  <a:off x="4313160" y="2685960"/>
                  <a:ext cx="12783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ffffff"/>
                    </a:gs>
                    <a:gs pos="100000">
                      <a:srgbClr val="83a6a7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Oval 59"/>
                <p:cNvSpPr/>
                <p:nvPr/>
              </p:nvSpPr>
              <p:spPr>
                <a:xfrm>
                  <a:off x="4313160" y="2685960"/>
                  <a:ext cx="1278360" cy="1312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Oval 60"/>
                <p:cNvSpPr/>
                <p:nvPr/>
              </p:nvSpPr>
              <p:spPr>
                <a:xfrm>
                  <a:off x="4397760" y="2770920"/>
                  <a:ext cx="110880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/>
                    </a:gs>
                    <a:gs pos="50000">
                      <a:srgbClr val="475a5a"/>
                    </a:gs>
                    <a:gs pos="100000">
                      <a:srgbClr val="83a6a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Oval 61"/>
                <p:cNvSpPr/>
                <p:nvPr/>
              </p:nvSpPr>
              <p:spPr>
                <a:xfrm>
                  <a:off x="4397760" y="2774160"/>
                  <a:ext cx="1108800" cy="1140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3696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Oval 62"/>
                <p:cNvSpPr/>
                <p:nvPr/>
              </p:nvSpPr>
              <p:spPr>
                <a:xfrm>
                  <a:off x="4452480" y="2829240"/>
                  <a:ext cx="999000" cy="102564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0" name=""/>
                <p:cNvGrpSpPr/>
                <p:nvPr/>
              </p:nvGrpSpPr>
              <p:grpSpPr>
                <a:xfrm>
                  <a:off x="4467960" y="2845080"/>
                  <a:ext cx="968040" cy="995400"/>
                  <a:chOff x="4467960" y="2845080"/>
                  <a:chExt cx="968040" cy="995400"/>
                </a:xfrm>
              </p:grpSpPr>
              <p:sp>
                <p:nvSpPr>
                  <p:cNvPr id="481" name="Oval 64"/>
                  <p:cNvSpPr/>
                  <p:nvPr/>
                </p:nvSpPr>
                <p:spPr>
                  <a:xfrm>
                    <a:off x="4467960" y="2845080"/>
                    <a:ext cx="96804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Oval 65"/>
                  <p:cNvSpPr/>
                  <p:nvPr/>
                </p:nvSpPr>
                <p:spPr>
                  <a:xfrm>
                    <a:off x="4480200" y="2850480"/>
                    <a:ext cx="944640" cy="970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Oval 66"/>
                  <p:cNvSpPr/>
                  <p:nvPr/>
                </p:nvSpPr>
                <p:spPr>
                  <a:xfrm>
                    <a:off x="4490280" y="2860200"/>
                    <a:ext cx="898560" cy="907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Oval 67"/>
                  <p:cNvSpPr/>
                  <p:nvPr/>
                </p:nvSpPr>
                <p:spPr>
                  <a:xfrm>
                    <a:off x="4542840" y="2885400"/>
                    <a:ext cx="798480" cy="736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5" name="Text Box 68"/>
              <p:cNvSpPr/>
              <p:nvPr/>
            </p:nvSpPr>
            <p:spPr>
              <a:xfrm rot="3925800">
                <a:off x="4688280" y="45075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Text Box 69"/>
              <p:cNvSpPr/>
              <p:nvPr/>
            </p:nvSpPr>
            <p:spPr>
              <a:xfrm rot="3925800">
                <a:off x="5143680" y="4219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6089400" y="2541600"/>
              <a:ext cx="2122920" cy="3476520"/>
              <a:chOff x="6089400" y="2541600"/>
              <a:chExt cx="2122920" cy="347652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6681960" y="3587400"/>
                <a:ext cx="1530360" cy="2430720"/>
                <a:chOff x="6681960" y="3587400"/>
                <a:chExt cx="1530360" cy="2430720"/>
              </a:xfrm>
            </p:grpSpPr>
            <p:grpSp>
              <p:nvGrpSpPr>
                <p:cNvPr id="489" name=""/>
                <p:cNvGrpSpPr/>
                <p:nvPr/>
              </p:nvGrpSpPr>
              <p:grpSpPr>
                <a:xfrm>
                  <a:off x="6681960" y="3746160"/>
                  <a:ext cx="1423800" cy="2271960"/>
                  <a:chOff x="6681960" y="3746160"/>
                  <a:chExt cx="1423800" cy="2271960"/>
                </a:xfrm>
              </p:grpSpPr>
              <p:sp>
                <p:nvSpPr>
                  <p:cNvPr id="490" name="未知"/>
                  <p:cNvSpPr/>
                  <p:nvPr/>
                </p:nvSpPr>
                <p:spPr>
                  <a:xfrm rot="3876600">
                    <a:off x="6253200" y="4635000"/>
                    <a:ext cx="2280600" cy="493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未知"/>
                  <p:cNvSpPr/>
                  <p:nvPr/>
                </p:nvSpPr>
                <p:spPr>
                  <a:xfrm rot="3876600">
                    <a:off x="7624080" y="5515920"/>
                    <a:ext cx="358200" cy="40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7119720" y="3587400"/>
                  <a:ext cx="1092600" cy="1743480"/>
                  <a:chOff x="7119720" y="3587400"/>
                  <a:chExt cx="1092600" cy="1743480"/>
                </a:xfrm>
              </p:grpSpPr>
              <p:sp>
                <p:nvSpPr>
                  <p:cNvPr id="493" name="未知"/>
                  <p:cNvSpPr/>
                  <p:nvPr/>
                </p:nvSpPr>
                <p:spPr>
                  <a:xfrm flipV="1" rot="3876600">
                    <a:off x="6791040" y="4268880"/>
                    <a:ext cx="1749960" cy="37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未知"/>
                  <p:cNvSpPr/>
                  <p:nvPr/>
                </p:nvSpPr>
                <p:spPr>
                  <a:xfrm flipV="1" rot="3876600">
                    <a:off x="7827120" y="4952880"/>
                    <a:ext cx="275040" cy="31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5" name="Oval 78"/>
              <p:cNvSpPr/>
              <p:nvPr/>
            </p:nvSpPr>
            <p:spPr>
              <a:xfrm>
                <a:off x="6089400" y="2541600"/>
                <a:ext cx="1532880" cy="157356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ffffff"/>
                  </a:gs>
                  <a:gs pos="100000">
                    <a:srgbClr val="33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Oval 79"/>
              <p:cNvSpPr/>
              <p:nvPr/>
            </p:nvSpPr>
            <p:spPr>
              <a:xfrm>
                <a:off x="6089400" y="2541600"/>
                <a:ext cx="1532880" cy="15735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80"/>
              <p:cNvSpPr/>
              <p:nvPr/>
            </p:nvSpPr>
            <p:spPr>
              <a:xfrm>
                <a:off x="6191280" y="2644920"/>
                <a:ext cx="1332000" cy="136620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50000">
                    <a:srgbClr val="1c538a"/>
                  </a:gs>
                  <a:gs pos="100000">
                    <a:srgbClr val="3399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81"/>
              <p:cNvSpPr/>
              <p:nvPr/>
            </p:nvSpPr>
            <p:spPr>
              <a:xfrm>
                <a:off x="6193080" y="2647800"/>
                <a:ext cx="1331640" cy="13665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1a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Oval 82"/>
              <p:cNvSpPr/>
              <p:nvPr/>
            </p:nvSpPr>
            <p:spPr>
              <a:xfrm>
                <a:off x="6256800" y="2713320"/>
                <a:ext cx="1199520" cy="1229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0" name=""/>
              <p:cNvGrpSpPr/>
              <p:nvPr/>
            </p:nvGrpSpPr>
            <p:grpSpPr>
              <a:xfrm>
                <a:off x="6276240" y="2732400"/>
                <a:ext cx="1162440" cy="1192680"/>
                <a:chOff x="6276240" y="2732400"/>
                <a:chExt cx="1162440" cy="1192680"/>
              </a:xfrm>
            </p:grpSpPr>
            <p:sp>
              <p:nvSpPr>
                <p:cNvPr id="501" name="Oval 84"/>
                <p:cNvSpPr/>
                <p:nvPr/>
              </p:nvSpPr>
              <p:spPr>
                <a:xfrm>
                  <a:off x="6276240" y="2732400"/>
                  <a:ext cx="1162440" cy="1192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Oval 85"/>
                <p:cNvSpPr/>
                <p:nvPr/>
              </p:nvSpPr>
              <p:spPr>
                <a:xfrm>
                  <a:off x="6291000" y="2738880"/>
                  <a:ext cx="1134360" cy="116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Oval 86"/>
                <p:cNvSpPr/>
                <p:nvPr/>
              </p:nvSpPr>
              <p:spPr>
                <a:xfrm>
                  <a:off x="6302880" y="2750400"/>
                  <a:ext cx="1078920" cy="108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Oval 87"/>
                <p:cNvSpPr/>
                <p:nvPr/>
              </p:nvSpPr>
              <p:spPr>
                <a:xfrm>
                  <a:off x="6366240" y="2781000"/>
                  <a:ext cx="959040" cy="88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5" name="Text Box 88"/>
              <p:cNvSpPr/>
              <p:nvPr/>
            </p:nvSpPr>
            <p:spPr>
              <a:xfrm rot="3925800">
                <a:off x="6641280" y="465120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Text Box 89"/>
              <p:cNvSpPr/>
              <p:nvPr/>
            </p:nvSpPr>
            <p:spPr>
              <a:xfrm rot="3925800">
                <a:off x="7095240" y="43635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508" name="Text Box 91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92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Text Box 93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Text Box 94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12" name="AutoShape 95"/>
              <p:cNvCxnSpPr>
                <a:stCxn id="508" idx="3"/>
                <a:endCxn id="509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3" name="AutoShape 96"/>
              <p:cNvCxnSpPr>
                <a:stCxn id="509" idx="3"/>
                <a:endCxn id="510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4" name="AutoShape 97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页脚占位符 3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518" name="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519" name="AutoShape 5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3f3f3"/>
                  </a:gs>
                  <a:gs pos="50000">
                    <a:srgbClr val="dddddd"/>
                  </a:gs>
                  <a:gs pos="100000">
                    <a:srgbClr val="f3f3f3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1801080" y="1638360"/>
                <a:ext cx="1101240" cy="1020600"/>
                <a:chOff x="1801080" y="1638360"/>
                <a:chExt cx="1101240" cy="1020600"/>
              </a:xfrm>
            </p:grpSpPr>
            <p:sp>
              <p:nvSpPr>
                <p:cNvPr id="521" name="AutoShape 7"/>
                <p:cNvSpPr/>
                <p:nvPr/>
              </p:nvSpPr>
              <p:spPr>
                <a:xfrm>
                  <a:off x="1801080" y="1638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ddf1ab"/>
                    </a:gs>
                    <a:gs pos="100000">
                      <a:srgbClr val="9aa877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未知"/>
                <p:cNvSpPr/>
                <p:nvPr/>
              </p:nvSpPr>
              <p:spPr>
                <a:xfrm>
                  <a:off x="1869840" y="1703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f1ab">
                        <a:alpha val="0"/>
                      </a:srgbClr>
                    </a:gs>
                    <a:gs pos="50000">
                      <a:srgbClr val="ecf7d1"/>
                    </a:gs>
                    <a:gs pos="100000">
                      <a:srgbClr val="ddf1ab">
                        <a:alpha val="0"/>
                      </a:srgbClr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Text Box 9"/>
                <p:cNvSpPr/>
                <p:nvPr/>
              </p:nvSpPr>
              <p:spPr>
                <a:xfrm>
                  <a:off x="1913760" y="191592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4" name="Text Box 10"/>
              <p:cNvSpPr/>
              <p:nvPr/>
            </p:nvSpPr>
            <p:spPr>
              <a:xfrm>
                <a:off x="3052080" y="1717920"/>
                <a:ext cx="420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1676520" y="2990880"/>
              <a:ext cx="5715000" cy="1247760"/>
              <a:chOff x="1676520" y="2990880"/>
              <a:chExt cx="5715000" cy="1247760"/>
            </a:xfrm>
          </p:grpSpPr>
          <p:sp>
            <p:nvSpPr>
              <p:cNvPr id="526" name="AutoShape 12"/>
              <p:cNvSpPr/>
              <p:nvPr/>
            </p:nvSpPr>
            <p:spPr>
              <a:xfrm>
                <a:off x="1676520" y="2990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2f2f2"/>
                  </a:gs>
                  <a:gs pos="50000">
                    <a:srgbClr val="dddddd"/>
                  </a:gs>
                  <a:gs pos="100000">
                    <a:srgbClr val="f2f2f2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1801080" y="3105360"/>
                <a:ext cx="1101240" cy="1020600"/>
                <a:chOff x="1801080" y="3105360"/>
                <a:chExt cx="1101240" cy="1020600"/>
              </a:xfrm>
            </p:grpSpPr>
            <p:sp>
              <p:nvSpPr>
                <p:cNvPr id="528" name="AutoShape 14"/>
                <p:cNvSpPr/>
                <p:nvPr/>
              </p:nvSpPr>
              <p:spPr>
                <a:xfrm>
                  <a:off x="1801080" y="3105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6a346"/>
                    </a:gs>
                    <a:gs pos="100000">
                      <a:srgbClr val="00800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未知"/>
                <p:cNvSpPr/>
                <p:nvPr/>
              </p:nvSpPr>
              <p:spPr>
                <a:xfrm>
                  <a:off x="1869840" y="3170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8000">
                        <a:alpha val="0"/>
                      </a:srgbClr>
                    </a:gs>
                    <a:gs pos="100000">
                      <a:srgbClr val="93c993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Text Box 16"/>
                <p:cNvSpPr/>
                <p:nvPr/>
              </p:nvSpPr>
              <p:spPr>
                <a:xfrm>
                  <a:off x="1913760" y="3384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Text Box 17"/>
              <p:cNvSpPr/>
              <p:nvPr/>
            </p:nvSpPr>
            <p:spPr>
              <a:xfrm>
                <a:off x="3052080" y="3161520"/>
                <a:ext cx="420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533" name="AutoShape 19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eeeee"/>
                  </a:gs>
                  <a:gs pos="50000">
                    <a:srgbClr val="dddddd"/>
                  </a:gs>
                  <a:gs pos="100000">
                    <a:srgbClr val="eeeeee"/>
                  </a:gs>
                </a:gsLst>
                <a:lin ang="81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1801080" y="4581360"/>
                <a:ext cx="1101240" cy="1020600"/>
                <a:chOff x="1801080" y="4581360"/>
                <a:chExt cx="1101240" cy="1020600"/>
              </a:xfrm>
            </p:grpSpPr>
            <p:sp>
              <p:nvSpPr>
                <p:cNvPr id="535" name="AutoShape 21"/>
                <p:cNvSpPr/>
                <p:nvPr/>
              </p:nvSpPr>
              <p:spPr>
                <a:xfrm>
                  <a:off x="1801080" y="4581360"/>
                  <a:ext cx="110124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a0d768"/>
                    </a:gs>
                    <a:gs pos="100000">
                      <a:srgbClr val="69c012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未知"/>
                <p:cNvSpPr/>
                <p:nvPr/>
              </p:nvSpPr>
              <p:spPr>
                <a:xfrm>
                  <a:off x="1869840" y="4646880"/>
                  <a:ext cx="549000" cy="5097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9c012">
                        <a:alpha val="0"/>
                      </a:srgbClr>
                    </a:gs>
                    <a:gs pos="100000">
                      <a:srgbClr val="b6e08c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3"/>
                <p:cNvSpPr/>
                <p:nvPr/>
              </p:nvSpPr>
              <p:spPr>
                <a:xfrm>
                  <a:off x="191376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8" name="Text Box 24"/>
              <p:cNvSpPr/>
              <p:nvPr/>
            </p:nvSpPr>
            <p:spPr>
              <a:xfrm>
                <a:off x="3052080" y="4637520"/>
                <a:ext cx="420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页脚占位符 2"/>
          <p:cNvSpPr/>
          <p:nvPr/>
        </p:nvSpPr>
        <p:spPr>
          <a:xfrm>
            <a:off x="7010280" y="6486480"/>
            <a:ext cx="1828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541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546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548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11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Oval 12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13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ddf1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554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Rectangle 17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Oval 18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Oval 19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20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3b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560" name="Oval 22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Rectangle 23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Oval 24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Oval 25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4" name="Rectangle 26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ddf1ab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页脚占位符 3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Table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650960" y="2360520"/>
          <a:ext cx="6842160" cy="2898720"/>
        </p:xfrm>
        <a:graphic>
          <a:graphicData uri="http://schemas.openxmlformats.org/drawingml/2006/table">
            <a:tbl>
              <a:tblPr/>
              <a:tblGrid>
                <a:gridCol w="1542960"/>
                <a:gridCol w="1076400"/>
                <a:gridCol w="1055880"/>
                <a:gridCol w="1054080"/>
                <a:gridCol w="1060200"/>
                <a:gridCol w="10526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f1ab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页脚占位符 2"/>
          <p:cNvSpPr/>
          <p:nvPr/>
        </p:nvSpPr>
        <p:spPr>
          <a:xfrm>
            <a:off x="7010280" y="6486480"/>
            <a:ext cx="1828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1349280" y="1509480"/>
            <a:ext cx="6575400" cy="4665960"/>
            <a:chOff x="1349280" y="1509480"/>
            <a:chExt cx="6575400" cy="4665960"/>
          </a:xfrm>
        </p:grpSpPr>
        <p:sp>
          <p:nvSpPr>
            <p:cNvPr id="579" name="Oval 4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5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575757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6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Arc 7"/>
            <p:cNvSpPr/>
            <p:nvPr/>
          </p:nvSpPr>
          <p:spPr>
            <a:xfrm rot="20601600">
              <a:off x="4349520" y="2133720"/>
              <a:ext cx="2849400" cy="196704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55aa55"/>
                </a:gs>
                <a:gs pos="100000">
                  <a:srgbClr val="008000"/>
                </a:gs>
              </a:gsLst>
              <a:lin ang="90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Arc 8"/>
            <p:cNvSpPr/>
            <p:nvPr/>
          </p:nvSpPr>
          <p:spPr>
            <a:xfrm flipH="1" rot="20602200">
              <a:off x="1937160" y="4008600"/>
              <a:ext cx="3281400" cy="14763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815b2d"/>
                </a:gs>
                <a:gs pos="100000">
                  <a:srgbClr val="d4964a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rc 9"/>
            <p:cNvSpPr/>
            <p:nvPr/>
          </p:nvSpPr>
          <p:spPr>
            <a:xfrm rot="20601600">
              <a:off x="2824200" y="2224080"/>
              <a:ext cx="3184560" cy="1416240"/>
            </a:xfrm>
            <a:custGeom>
              <a:avLst/>
              <a:gdLst/>
              <a:ahLst/>
              <a:rect l="l" t="t" r="r" b="b"/>
              <a:pathLst>
                <a:path fill="none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</a:path>
                <a:path stroke="0" w="23826" h="21600">
                  <a:moveTo>
                    <a:pt x="0" y="2683"/>
                  </a:moveTo>
                  <a:cubicBezTo>
                    <a:pt x="3193" y="923"/>
                    <a:pt x="6780" y="-1"/>
                    <a:pt x="10427" y="0"/>
                  </a:cubicBezTo>
                  <a:cubicBezTo>
                    <a:pt x="15290" y="0"/>
                    <a:pt x="20011" y="1641"/>
                    <a:pt x="23825" y="4658"/>
                  </a:cubicBezTo>
                  <a:lnTo>
                    <a:pt x="10427" y="21600"/>
                  </a:lnTo>
                  <a:lnTo>
                    <a:pt x="0" y="2683"/>
                  </a:lnTo>
                  <a:close/>
                </a:path>
              </a:pathLst>
            </a:custGeom>
            <a:solidFill>
              <a:srgbClr val="69c0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rc 10"/>
            <p:cNvSpPr/>
            <p:nvPr/>
          </p:nvSpPr>
          <p:spPr>
            <a:xfrm flipH="1" rot="20602200">
              <a:off x="1591560" y="2742840"/>
              <a:ext cx="2849400" cy="2111400"/>
            </a:xfrm>
            <a:custGeom>
              <a:avLst/>
              <a:gdLst/>
              <a:ahLst/>
              <a:rect l="l" t="t" r="r" b="b"/>
              <a:pathLst>
                <a:path fill="none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</a:path>
                <a:path stroke="0" w="21600" h="30685">
                  <a:moveTo>
                    <a:pt x="7749" y="-1"/>
                  </a:moveTo>
                  <a:cubicBezTo>
                    <a:pt x="16093" y="3206"/>
                    <a:pt x="21600" y="11222"/>
                    <a:pt x="21600" y="20162"/>
                  </a:cubicBezTo>
                  <a:cubicBezTo>
                    <a:pt x="21600" y="23845"/>
                    <a:pt x="20657" y="27468"/>
                    <a:pt x="18863" y="30685"/>
                  </a:cubicBezTo>
                  <a:lnTo>
                    <a:pt x="0" y="20162"/>
                  </a:lnTo>
                  <a:lnTo>
                    <a:pt x="7749" y="-1"/>
                  </a:lnTo>
                  <a:close/>
                </a:path>
              </a:pathLst>
            </a:custGeom>
            <a:gradFill rotWithShape="0">
              <a:gsLst>
                <a:gs pos="0">
                  <a:srgbClr val="78835d"/>
                </a:gs>
                <a:gs pos="100000">
                  <a:srgbClr val="ddf1ab"/>
                </a:gs>
              </a:gsLst>
              <a:lin ang="71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Oval 11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f7f7f7"/>
                </a:gs>
                <a:gs pos="50000">
                  <a:srgbClr val="dddddd"/>
                </a:gs>
                <a:gs pos="100000">
                  <a:srgbClr val="f7f7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Text Box 12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3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4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4514400" y="2695320"/>
              <a:ext cx="3164400" cy="2769120"/>
              <a:chOff x="4514400" y="2695320"/>
              <a:chExt cx="3164400" cy="2769120"/>
            </a:xfrm>
          </p:grpSpPr>
          <p:sp>
            <p:nvSpPr>
              <p:cNvPr id="591" name="未知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100000">
                    <a:srgbClr val="5b5b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Arc 17"/>
              <p:cNvSpPr/>
              <p:nvPr/>
            </p:nvSpPr>
            <p:spPr>
              <a:xfrm rot="20539200">
                <a:off x="4732200" y="3065760"/>
                <a:ext cx="2728800" cy="1859040"/>
              </a:xfrm>
              <a:custGeom>
                <a:avLst/>
                <a:gdLst/>
                <a:ahLst/>
                <a:rect l="l" t="t" r="r" b="b"/>
                <a:pathLst>
                  <a:path fill="none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</a:path>
                  <a:path stroke="0" w="18016" h="21282">
                    <a:moveTo>
                      <a:pt x="18016" y="11915"/>
                    </a:moveTo>
                    <a:cubicBezTo>
                      <a:pt x="14735" y="16875"/>
                      <a:pt x="9554" y="20264"/>
                      <a:pt x="3694" y="21281"/>
                    </a:cubicBezTo>
                    <a:lnTo>
                      <a:pt x="0" y="0"/>
                    </a:lnTo>
                    <a:lnTo>
                      <a:pt x="18016" y="119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未知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54545"/>
                  </a:gs>
                  <a:gs pos="100000">
                    <a:srgbClr val="96969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19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5" name="Text Box 20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未知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76767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22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页脚占位符 2"/>
          <p:cNvSpPr/>
          <p:nvPr/>
        </p:nvSpPr>
        <p:spPr>
          <a:xfrm>
            <a:off x="7238880" y="6559560"/>
            <a:ext cx="1905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Block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601" name="AutoShape 4"/>
            <p:cNvSpPr/>
            <p:nvPr/>
          </p:nvSpPr>
          <p:spPr>
            <a:xfrm>
              <a:off x="2127960" y="2440800"/>
              <a:ext cx="5074200" cy="247788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5"/>
            <p:cNvSpPr/>
            <p:nvPr/>
          </p:nvSpPr>
          <p:spPr>
            <a:xfrm>
              <a:off x="1918440" y="175248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ad5b"/>
                </a:gs>
                <a:gs pos="50000">
                  <a:srgbClr val="008000"/>
                </a:gs>
                <a:gs pos="100000">
                  <a:srgbClr val="5bad5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Text Box 6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1219320" y="4132800"/>
              <a:ext cx="1363320" cy="1796400"/>
              <a:chOff x="1219320" y="4132800"/>
              <a:chExt cx="1363320" cy="179640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1219320" y="4132800"/>
                <a:ext cx="1363320" cy="1368000"/>
                <a:chOff x="1219320" y="4132800"/>
                <a:chExt cx="1363320" cy="136800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1219320" y="4132800"/>
                  <a:ext cx="1363320" cy="1368000"/>
                  <a:chOff x="1219320" y="4132800"/>
                  <a:chExt cx="1363320" cy="1368000"/>
                </a:xfrm>
              </p:grpSpPr>
              <p:sp>
                <p:nvSpPr>
                  <p:cNvPr id="607" name="Oval 10"/>
                  <p:cNvSpPr/>
                  <p:nvPr/>
                </p:nvSpPr>
                <p:spPr>
                  <a:xfrm>
                    <a:off x="1219320" y="413280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9c012"/>
                      </a:gs>
                      <a:gs pos="100000">
                        <a:srgbClr val="437a0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未知"/>
                  <p:cNvSpPr/>
                  <p:nvPr/>
                </p:nvSpPr>
                <p:spPr>
                  <a:xfrm>
                    <a:off x="1375200" y="415548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9c01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9" name="Text Box 12"/>
                <p:cNvSpPr/>
                <p:nvPr/>
              </p:nvSpPr>
              <p:spPr>
                <a:xfrm>
                  <a:off x="1316160" y="482832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Oval 13"/>
              <p:cNvSpPr/>
              <p:nvPr/>
            </p:nvSpPr>
            <p:spPr>
              <a:xfrm>
                <a:off x="1359000" y="557820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6602400" y="4092840"/>
              <a:ext cx="1398240" cy="1866240"/>
              <a:chOff x="6602400" y="4092840"/>
              <a:chExt cx="1398240" cy="18662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6602400" y="4092840"/>
                <a:ext cx="1398240" cy="1383120"/>
                <a:chOff x="6602400" y="4092840"/>
                <a:chExt cx="1398240" cy="1383120"/>
              </a:xfrm>
            </p:grpSpPr>
            <p:grpSp>
              <p:nvGrpSpPr>
                <p:cNvPr id="613" name=""/>
                <p:cNvGrpSpPr/>
                <p:nvPr/>
              </p:nvGrpSpPr>
              <p:grpSpPr>
                <a:xfrm>
                  <a:off x="6602400" y="4092840"/>
                  <a:ext cx="1398240" cy="1383120"/>
                  <a:chOff x="6602400" y="4092840"/>
                  <a:chExt cx="1398240" cy="1383120"/>
                </a:xfrm>
              </p:grpSpPr>
              <p:sp>
                <p:nvSpPr>
                  <p:cNvPr id="614" name="Oval 17"/>
                  <p:cNvSpPr/>
                  <p:nvPr/>
                </p:nvSpPr>
                <p:spPr>
                  <a:xfrm>
                    <a:off x="6602400" y="409284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69696"/>
                      </a:gs>
                      <a:gs pos="100000">
                        <a:srgbClr val="242424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未知"/>
                  <p:cNvSpPr/>
                  <p:nvPr/>
                </p:nvSpPr>
                <p:spPr>
                  <a:xfrm>
                    <a:off x="6762240" y="411552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6969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6" name="Text Box 19"/>
                <p:cNvSpPr/>
                <p:nvPr/>
              </p:nvSpPr>
              <p:spPr>
                <a:xfrm>
                  <a:off x="6684120" y="473652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" name="Oval 20"/>
              <p:cNvSpPr/>
              <p:nvPr/>
            </p:nvSpPr>
            <p:spPr>
              <a:xfrm>
                <a:off x="6641640" y="551952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2967120" y="4132800"/>
              <a:ext cx="1397880" cy="1886400"/>
              <a:chOff x="2967120" y="4132800"/>
              <a:chExt cx="1397880" cy="1886400"/>
            </a:xfrm>
          </p:grpSpPr>
          <p:grpSp>
            <p:nvGrpSpPr>
              <p:cNvPr id="619" name=""/>
              <p:cNvGrpSpPr/>
              <p:nvPr/>
            </p:nvGrpSpPr>
            <p:grpSpPr>
              <a:xfrm>
                <a:off x="2967120" y="4132800"/>
                <a:ext cx="1397880" cy="1373400"/>
                <a:chOff x="2967120" y="4132800"/>
                <a:chExt cx="1397880" cy="1373400"/>
              </a:xfrm>
            </p:grpSpPr>
            <p:sp>
              <p:nvSpPr>
                <p:cNvPr id="620" name="Oval 23"/>
                <p:cNvSpPr/>
                <p:nvPr/>
              </p:nvSpPr>
              <p:spPr>
                <a:xfrm>
                  <a:off x="2967120" y="41328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004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未知"/>
                <p:cNvSpPr/>
                <p:nvPr/>
              </p:nvSpPr>
              <p:spPr>
                <a:xfrm>
                  <a:off x="3126960" y="415548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Text Box 25"/>
              <p:cNvSpPr/>
              <p:nvPr/>
            </p:nvSpPr>
            <p:spPr>
              <a:xfrm>
                <a:off x="3036960" y="47919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Oval 26"/>
              <p:cNvSpPr/>
              <p:nvPr/>
            </p:nvSpPr>
            <p:spPr>
              <a:xfrm>
                <a:off x="2967120" y="55778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854600" y="4092840"/>
              <a:ext cx="1397880" cy="1886400"/>
              <a:chOff x="4854600" y="4092840"/>
              <a:chExt cx="1397880" cy="1886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4854600" y="4092840"/>
                <a:ext cx="1397880" cy="1373400"/>
                <a:chOff x="4854600" y="4092840"/>
                <a:chExt cx="1397880" cy="1373400"/>
              </a:xfrm>
            </p:grpSpPr>
            <p:sp>
              <p:nvSpPr>
                <p:cNvPr id="626" name="Oval 29"/>
                <p:cNvSpPr/>
                <p:nvPr/>
              </p:nvSpPr>
              <p:spPr>
                <a:xfrm>
                  <a:off x="4854600" y="40928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df1ab"/>
                    </a:gs>
                    <a:gs pos="100000">
                      <a:srgbClr val="727c5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未知"/>
                <p:cNvSpPr/>
                <p:nvPr/>
              </p:nvSpPr>
              <p:spPr>
                <a:xfrm>
                  <a:off x="5014440" y="411552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ddf1a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" name="Text Box 31"/>
              <p:cNvSpPr/>
              <p:nvPr/>
            </p:nvSpPr>
            <p:spPr>
              <a:xfrm>
                <a:off x="4924440" y="475200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Oval 32"/>
              <p:cNvSpPr/>
              <p:nvPr/>
            </p:nvSpPr>
            <p:spPr>
              <a:xfrm>
                <a:off x="4854600" y="553788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04" name="AutoShape 5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9c012"/>
                </a:gs>
                <a:gs pos="100000">
                  <a:srgbClr val="dff2c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6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69c01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7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8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09" name="AutoShape 10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b9dcb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11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0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2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3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114" name="AutoShape 15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9c012"/>
                </a:gs>
                <a:gs pos="100000">
                  <a:srgbClr val="dff2cd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16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9c012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7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119" name="AutoShape 20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8000"/>
                </a:gs>
                <a:gs pos="100000">
                  <a:srgbClr val="c9e4c9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  <a:effectLst>
              <a:outerShdw dist="99192" dir="2381944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1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008000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22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23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7238880" y="6553080"/>
            <a:ext cx="190512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WordArt 2"/>
          <p:cNvSpPr txBox="1"/>
          <p:nvPr/>
        </p:nvSpPr>
        <p:spPr>
          <a:xfrm>
            <a:off x="2895480" y="2209680"/>
            <a:ext cx="4343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df1ab"/>
                    </a:gs>
                    <a:gs pos="100000">
                      <a:srgbClr val="0080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ddf1ab"/>
                  </a:gs>
                  <a:gs pos="100000">
                    <a:srgbClr val="008000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1752120" y="4267080"/>
            <a:ext cx="57150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f1ab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8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11451-4DD0-4B08-AA6F-C19DEE4065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3"/>
          <p:cNvSpPr/>
          <p:nvPr/>
        </p:nvSpPr>
        <p:spPr>
          <a:xfrm>
            <a:off x="5943600" y="6486480"/>
            <a:ext cx="2895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Hot Tip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057400" y="55627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请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3"/>
          <p:cNvSpPr/>
          <p:nvPr/>
        </p:nvSpPr>
        <p:spPr>
          <a:xfrm>
            <a:off x="7010280" y="6559560"/>
            <a:ext cx="1828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31" name="AutoShape 4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5"/>
            <p:cNvSpPr/>
            <p:nvPr/>
          </p:nvSpPr>
          <p:spPr>
            <a:xfrm>
              <a:off x="1238400" y="337212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未知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0d768"/>
              </a:gs>
              <a:gs pos="100000">
                <a:srgbClr val="69c01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 flipH="1">
            <a:off x="4869000" y="307188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3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3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38" name="Oval 11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00"/>
                    </a:gs>
                    <a:gs pos="100000">
                      <a:srgbClr val="00800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Oval 12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8ec78e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" name="Oval 13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ddf1ab"/>
                  </a:gs>
                  <a:gs pos="100000">
                    <a:srgbClr val="66704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14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f3fae2"/>
                  </a:gs>
                  <a:gs pos="100000">
                    <a:srgbClr val="ddf1ab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5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ddf1ab">
                      <a:alpha val="48235"/>
                    </a:srgbClr>
                  </a:gs>
                  <a:gs pos="100000">
                    <a:srgbClr val="afbf8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16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ddf1ab">
                      <a:alpha val="38039"/>
                    </a:srgbClr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Text Box 17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46" name="AutoShape 19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20"/>
            <p:cNvSpPr/>
            <p:nvPr/>
          </p:nvSpPr>
          <p:spPr>
            <a:xfrm>
              <a:off x="5715000" y="337212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未知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ed7ae"/>
              </a:gs>
              <a:gs pos="100000">
                <a:srgbClr val="008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f1ab"/>
                </a:solidFill>
                <a:latin typeface="Arial"/>
                <a:ea typeface="宋体"/>
              </a:rPr>
              <a:t> </a:t>
            </a:r>
            <a:r>
              <a:rPr b="1" lang="zh-CN" sz="3600" spc="-1" strike="noStrike">
                <a:solidFill>
                  <a:srgbClr val="ddf1ab"/>
                </a:solidFill>
                <a:latin typeface="Arial"/>
                <a:ea typeface="宋体"/>
              </a:rPr>
              <a:t>Cycle 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52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5f5f5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8000"/>
                </a:gs>
                <a:gs pos="100000">
                  <a:srgbClr val="002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ddf1ab"/>
                </a:gs>
                <a:gs pos="100000">
                  <a:srgbClr val="454c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c012"/>
                </a:gs>
                <a:gs pos="100000">
                  <a:srgbClr val="25450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f4f4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4343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页脚占位符 3"/>
          <p:cNvSpPr/>
          <p:nvPr/>
        </p:nvSpPr>
        <p:spPr>
          <a:xfrm>
            <a:off x="6858000" y="6486480"/>
            <a:ext cx="19810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70" name="AutoShape 4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5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6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7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0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66666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2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3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4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5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66666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6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69c012"/>
                </a:gs>
                <a:gs pos="50000">
                  <a:srgbClr val="315908"/>
                </a:gs>
                <a:gs pos="100000">
                  <a:srgbClr val="69c01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7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9e9e9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9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8000"/>
                </a:gs>
                <a:gs pos="50000">
                  <a:srgbClr val="003b00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21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9e9e9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90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91" name="AutoShape 5"/>
              <p:cNvSpPr/>
              <p:nvPr/>
            </p:nvSpPr>
            <p:spPr>
              <a:xfrm flipH="1" rot="16200000">
                <a:off x="2928240" y="3249000"/>
                <a:ext cx="45936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9b9b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6"/>
              <p:cNvSpPr/>
              <p:nvPr/>
            </p:nvSpPr>
            <p:spPr>
              <a:xfrm flipH="1" rot="5400000">
                <a:off x="5531040" y="3198600"/>
                <a:ext cx="459360" cy="29736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9b9b"/>
                  </a:gs>
                  <a:gs pos="100000">
                    <a:srgbClr val="0000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7"/>
              <p:cNvSpPr/>
              <p:nvPr/>
            </p:nvSpPr>
            <p:spPr>
              <a:xfrm flipH="1" rot="10800000">
                <a:off x="4240800" y="4609800"/>
                <a:ext cx="44532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b9b9b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3306600" y="2209680"/>
                <a:ext cx="233388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3439800" y="2344680"/>
                <a:ext cx="2066760" cy="2125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a2a2a2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Oval 10"/>
              <p:cNvSpPr/>
              <p:nvPr/>
            </p:nvSpPr>
            <p:spPr>
              <a:xfrm>
                <a:off x="3561480" y="2471040"/>
                <a:ext cx="1823760" cy="187848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ffffff"/>
                  </a:gs>
                  <a:gs pos="100000">
                    <a:srgbClr val="008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1"/>
              <p:cNvSpPr/>
              <p:nvPr/>
            </p:nvSpPr>
            <p:spPr>
              <a:xfrm>
                <a:off x="3561480" y="2471040"/>
                <a:ext cx="182376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12"/>
              <p:cNvSpPr/>
              <p:nvPr/>
            </p:nvSpPr>
            <p:spPr>
              <a:xfrm>
                <a:off x="3681360" y="2594520"/>
                <a:ext cx="1583640" cy="1631880"/>
              </a:xfrm>
              <a:prstGeom prst="ellipse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004500"/>
                  </a:gs>
                  <a:gs pos="100000">
                    <a:srgbClr val="008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Oval 13"/>
              <p:cNvSpPr/>
              <p:nvPr/>
            </p:nvSpPr>
            <p:spPr>
              <a:xfrm>
                <a:off x="3681360" y="2594520"/>
                <a:ext cx="15836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c6300"/>
                  </a:gs>
                  <a:gs pos="100000">
                    <a:srgbClr val="ffcc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AutoShape 14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5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6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7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ddf1ab"/>
                </a:gs>
                <a:gs pos="50000">
                  <a:srgbClr val="66704f"/>
                </a:gs>
                <a:gs pos="100000">
                  <a:srgbClr val="ddf1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8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ddf1ab"/>
                </a:gs>
                <a:gs pos="50000">
                  <a:srgbClr val="66704f"/>
                </a:gs>
                <a:gs pos="100000">
                  <a:srgbClr val="ddf1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9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ddf1ab"/>
                </a:gs>
                <a:gs pos="50000">
                  <a:srgbClr val="66704f"/>
                </a:gs>
                <a:gs pos="100000">
                  <a:srgbClr val="ddf1a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0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1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22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23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24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25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6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27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页脚占位符 3"/>
          <p:cNvSpPr/>
          <p:nvPr/>
        </p:nvSpPr>
        <p:spPr>
          <a:xfrm>
            <a:off x="6781680" y="6486480"/>
            <a:ext cx="20574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217" name="Line 4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5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6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7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8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9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0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1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2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3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5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6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231" name="未知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c012"/>
                  </a:gs>
                  <a:gs pos="50000">
                    <a:srgbClr val="315908"/>
                  </a:gs>
                  <a:gs pos="100000">
                    <a:srgbClr val="69c01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69c0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00"/>
                  </a:gs>
                  <a:gs pos="50000">
                    <a:srgbClr val="003b00"/>
                  </a:gs>
                  <a:gs pos="100000">
                    <a:srgbClr val="008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69696"/>
                  </a:gs>
                  <a:gs pos="50000">
                    <a:srgbClr val="454545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f1ab"/>
                  </a:gs>
                  <a:gs pos="50000">
                    <a:srgbClr val="66704f"/>
                  </a:gs>
                  <a:gs pos="100000">
                    <a:srgbClr val="ddf1a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ddf1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6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9c012"/>
                  </a:gs>
                  <a:gs pos="50000">
                    <a:srgbClr val="4c8b0d"/>
                  </a:gs>
                  <a:gs pos="100000">
                    <a:srgbClr val="69c012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Rectangle 27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005d00"/>
                  </a:gs>
                  <a:gs pos="100000">
                    <a:srgbClr val="008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9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50000">
                    <a:srgbClr val="6d6d6d"/>
                  </a:gs>
                  <a:gs pos="100000">
                    <a:srgbClr val="969696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Rectangle 30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ddf1ab"/>
                  </a:gs>
                  <a:gs pos="50000">
                    <a:srgbClr val="a0af7c"/>
                  </a:gs>
                  <a:gs pos="100000">
                    <a:srgbClr val="ddf1a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页脚占位符 3"/>
          <p:cNvSpPr/>
          <p:nvPr/>
        </p:nvSpPr>
        <p:spPr>
          <a:xfrm>
            <a:off x="6934320" y="6486480"/>
            <a:ext cx="19047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520" y="50292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df1ab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ddf1ab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247" name="未知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178b17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5"/>
            <p:cNvSpPr/>
            <p:nvPr/>
          </p:nvSpPr>
          <p:spPr>
            <a:xfrm>
              <a:off x="329544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9c0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6"/>
            <p:cNvSpPr/>
            <p:nvPr/>
          </p:nvSpPr>
          <p:spPr>
            <a:xfrm>
              <a:off x="352404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15908"/>
                </a:gs>
                <a:gs pos="50000">
                  <a:srgbClr val="69c012"/>
                </a:gs>
                <a:gs pos="100000">
                  <a:srgbClr val="31590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7"/>
            <p:cNvSpPr/>
            <p:nvPr/>
          </p:nvSpPr>
          <p:spPr>
            <a:xfrm flipH="1">
              <a:off x="5165640" y="2698920"/>
              <a:ext cx="7128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8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9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AutoShape 10"/>
            <p:cNvSpPr/>
            <p:nvPr/>
          </p:nvSpPr>
          <p:spPr>
            <a:xfrm>
              <a:off x="5964120" y="2135160"/>
              <a:ext cx="182556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b00"/>
                </a:gs>
                <a:gs pos="50000">
                  <a:srgbClr val="008000"/>
                </a:gs>
                <a:gs pos="100000">
                  <a:srgbClr val="003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11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12"/>
            <p:cNvSpPr/>
            <p:nvPr/>
          </p:nvSpPr>
          <p:spPr>
            <a:xfrm flipH="1">
              <a:off x="606564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2382840" y="1857240"/>
              <a:ext cx="143640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c2c2c2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4"/>
            <p:cNvSpPr/>
            <p:nvPr/>
          </p:nvSpPr>
          <p:spPr>
            <a:xfrm>
              <a:off x="376056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5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838080" y="2994120"/>
              <a:ext cx="2247840" cy="2949120"/>
              <a:chOff x="838080" y="2994120"/>
              <a:chExt cx="2247840" cy="2949120"/>
            </a:xfrm>
          </p:grpSpPr>
          <p:sp>
            <p:nvSpPr>
              <p:cNvPr id="260" name="AutoShape 17"/>
              <p:cNvSpPr/>
              <p:nvPr/>
            </p:nvSpPr>
            <p:spPr>
              <a:xfrm>
                <a:off x="838080" y="3143160"/>
                <a:ext cx="2247840" cy="2800080"/>
              </a:xfrm>
              <a:custGeom>
                <a:avLst/>
                <a:gdLst>
                  <a:gd name="textAreaLeft" fmla="*/ 30600 w 2247840"/>
                  <a:gd name="textAreaRight" fmla="*/ 2217240 w 2247840"/>
                  <a:gd name="textAreaTop" fmla="*/ 30600 h 2800080"/>
                  <a:gd name="textAreaBottom" fmla="*/ 2769480 h 2800080"/>
                </a:gdLst>
                <a:ahLst/>
                <a:rect l="textAreaLeft" t="textAreaTop" r="textAreaRight" b="textAreaBottom"/>
                <a:pathLst>
                  <a:path w="21600" h="26906">
                    <a:moveTo>
                      <a:pt x="1013" y="0"/>
                    </a:moveTo>
                    <a:arcTo wR="1013" hR="1013" stAng="16200000" swAng="-5400000"/>
                    <a:lnTo>
                      <a:pt x="0" y="25893"/>
                    </a:lnTo>
                    <a:arcTo wR="1013" hR="1013" stAng="10800000" swAng="-5400000"/>
                    <a:lnTo>
                      <a:pt x="20587" y="26906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8"/>
              <p:cNvSpPr/>
              <p:nvPr/>
            </p:nvSpPr>
            <p:spPr>
              <a:xfrm>
                <a:off x="1049400" y="3016440"/>
                <a:ext cx="182484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a3a3a"/>
                  </a:gs>
                  <a:gs pos="50000">
                    <a:srgbClr val="969696"/>
                  </a:gs>
                  <a:gs pos="100000">
                    <a:srgbClr val="3a3a3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19"/>
              <p:cNvSpPr/>
              <p:nvPr/>
            </p:nvSpPr>
            <p:spPr>
              <a:xfrm flipH="1">
                <a:off x="2698560" y="3079800"/>
                <a:ext cx="6984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utoShape 20"/>
              <p:cNvSpPr/>
              <p:nvPr/>
            </p:nvSpPr>
            <p:spPr>
              <a:xfrm flipH="1">
                <a:off x="1148760" y="3079800"/>
                <a:ext cx="71280" cy="1278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21"/>
              <p:cNvSpPr/>
              <p:nvPr/>
            </p:nvSpPr>
            <p:spPr>
              <a:xfrm>
                <a:off x="129996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 Box 22"/>
              <p:cNvSpPr/>
              <p:nvPr/>
            </p:nvSpPr>
            <p:spPr>
              <a:xfrm>
                <a:off x="912600" y="3374280"/>
                <a:ext cx="2089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PT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之家：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www.eeppt.c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6" name="Text Box 23"/>
            <p:cNvSpPr/>
            <p:nvPr/>
          </p:nvSpPr>
          <p:spPr>
            <a:xfrm>
              <a:off x="3375000" y="298440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24"/>
            <p:cNvSpPr/>
            <p:nvPr/>
          </p:nvSpPr>
          <p:spPr>
            <a:xfrm>
              <a:off x="5837040" y="2468520"/>
              <a:ext cx="208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PT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之家：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ww.eeppt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6T03:43:01Z</dcterms:created>
  <dc:creator/>
  <dc:description/>
  <dc:language>en-US</dc:language>
  <cp:lastModifiedBy>a</cp:lastModifiedBy>
  <dcterms:modified xsi:type="dcterms:W3CDTF">2015-07-04T08:24:58Z</dcterms:modified>
  <cp:revision>1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