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045BB-4E7C-460D-A3A4-F91049AB1C27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ww.eeppt.com/moban/guowai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外国清新蓝色简洁设计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9200" y="316404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58006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Arial"/>
                <a:hlinkClick r:id="rId2"/>
              </a:rPr>
              <a:t>外国ppt模板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Arial Bold"/>
              </a:rPr>
              <a:t>使用规范说明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1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57400" y="57466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国外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模板下载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hlinkClick r:id="rId7"/>
              </a:rPr>
              <a:t>http://www.eeppt.com/moban/guowai/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1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微软中国</cp:lastModifiedBy>
  <dcterms:modified xsi:type="dcterms:W3CDTF">2015-07-04T08:20:21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