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4544-BA80-42EC-B85B-1138CB28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985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7FC2-DBEC-4D05-ABC5-CE2B9D3D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62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288D-6B3C-4408-A917-1458ECD9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92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76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92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76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61C0-61BE-44E3-BD4D-E942E0B0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619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5F8E-F848-4ADF-8CFD-62461F24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62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440" y="39985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62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6492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4760" y="137160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44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6492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4760" y="3998520"/>
            <a:ext cx="2551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40ED-A4E3-4848-A4A2-B621E5FF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F543-56D7-45FE-ACCC-4E71C6EA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C3B4-0E3A-4D12-97D7-E4821227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619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6018-B70C-4524-B4EF-599E6D85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7858-E1C5-4BE3-A574-67BBCA31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6240" y="399852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A237-0A5B-4106-AFD3-938BF6B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371600"/>
            <a:ext cx="386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98520"/>
            <a:ext cx="7924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B7A9-3B9C-4276-990F-1D1439E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77299" r="0" b="8013"/>
          <a:stretch/>
        </p:blipFill>
        <p:spPr>
          <a:xfrm>
            <a:off x="0" y="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 flipV="1">
            <a:off x="0" y="1029240"/>
            <a:ext cx="9156600" cy="14436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50000">
                <a:srgbClr val="dddddd"/>
              </a:gs>
              <a:gs pos="100000">
                <a:srgbClr val="ecec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EAE9-2D51-40D3-A57F-DBE987573B13}" type="slidenum"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380520" y="6552720"/>
            <a:ext cx="26672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6032160" y="65433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2b166e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b166e"/>
                </a:solidFill>
                <a:latin typeface="Verdana"/>
                <a:ea typeface="宋体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920" y="2946240"/>
            <a:ext cx="8997840" cy="795600"/>
          </a:xfrm>
          <a:prstGeom prst="rect">
            <a:avLst/>
          </a:prstGeom>
          <a:gradFill rotWithShape="0">
            <a:gsLst>
              <a:gs pos="0">
                <a:srgbClr val="458f8f"/>
              </a:gs>
              <a:gs pos="100000">
                <a:srgbClr val="2b16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7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7240" y="2805120"/>
            <a:ext cx="9086400" cy="1047240"/>
            <a:chOff x="57240" y="2805120"/>
            <a:chExt cx="9086400" cy="1047240"/>
          </a:xfrm>
        </p:grpSpPr>
        <p:sp>
          <p:nvSpPr>
            <p:cNvPr id="53" name="未知"/>
            <p:cNvSpPr/>
            <p:nvPr/>
          </p:nvSpPr>
          <p:spPr>
            <a:xfrm flipV="1">
              <a:off x="63360" y="3720960"/>
              <a:ext cx="9080280" cy="131040"/>
            </a:xfrm>
            <a:custGeom>
              <a:avLst/>
              <a:gdLst/>
              <a:ahLst/>
              <a:rect l="l" t="t" r="r" b="b"/>
              <a:pathLst>
                <a:path w="5768" h="366">
                  <a:moveTo>
                    <a:pt x="4" y="365"/>
                  </a:moveTo>
                  <a:lnTo>
                    <a:pt x="0" y="246"/>
                  </a:lnTo>
                  <a:cubicBezTo>
                    <a:pt x="304" y="192"/>
                    <a:pt x="1175" y="64"/>
                    <a:pt x="1837" y="32"/>
                  </a:cubicBezTo>
                  <a:cubicBezTo>
                    <a:pt x="2499" y="0"/>
                    <a:pt x="3316" y="19"/>
                    <a:pt x="3970" y="52"/>
                  </a:cubicBezTo>
                  <a:cubicBezTo>
                    <a:pt x="4624" y="85"/>
                    <a:pt x="5464" y="179"/>
                    <a:pt x="5764" y="231"/>
                  </a:cubicBezTo>
                  <a:lnTo>
                    <a:pt x="5768" y="366"/>
                  </a:lnTo>
                  <a:lnTo>
                    <a:pt x="4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57240" y="2805120"/>
              <a:ext cx="9080280" cy="131040"/>
            </a:xfrm>
            <a:custGeom>
              <a:avLst/>
              <a:gdLst/>
              <a:ahLst/>
              <a:rect l="l" t="t" r="r" b="b"/>
              <a:pathLst>
                <a:path w="5768" h="366">
                  <a:moveTo>
                    <a:pt x="4" y="365"/>
                  </a:moveTo>
                  <a:lnTo>
                    <a:pt x="0" y="246"/>
                  </a:lnTo>
                  <a:cubicBezTo>
                    <a:pt x="304" y="192"/>
                    <a:pt x="1175" y="64"/>
                    <a:pt x="1837" y="32"/>
                  </a:cubicBezTo>
                  <a:cubicBezTo>
                    <a:pt x="2499" y="0"/>
                    <a:pt x="3316" y="19"/>
                    <a:pt x="3970" y="52"/>
                  </a:cubicBezTo>
                  <a:cubicBezTo>
                    <a:pt x="4624" y="85"/>
                    <a:pt x="5464" y="179"/>
                    <a:pt x="5764" y="231"/>
                  </a:cubicBezTo>
                  <a:lnTo>
                    <a:pt x="5768" y="366"/>
                  </a:lnTo>
                  <a:lnTo>
                    <a:pt x="4" y="3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0840" y="2895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9999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320" y="2939760"/>
            <a:ext cx="89629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外国医疗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480" y="5562360"/>
            <a:ext cx="5639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92aa2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692aa2"/>
                </a:solidFill>
                <a:latin typeface="Verdana"/>
              </a:rPr>
              <a:t>http://www.eeppt.com</a:t>
            </a: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33200" y="3341160"/>
            <a:ext cx="1467000" cy="972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3338640"/>
            <a:ext cx="1349640" cy="144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68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c9bb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c9bb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a5366"/>
                </a:gs>
                <a:gs pos="50000">
                  <a:srgbClr val="6c9bbe"/>
                </a:gs>
                <a:gs pos="100000">
                  <a:srgbClr val="3a5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c9bbe">
                    <a:alpha val="0"/>
                  </a:srgbClr>
                </a:gs>
                <a:gs pos="100000">
                  <a:srgbClr val="4462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4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58f8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f4141"/>
                </a:gs>
                <a:gs pos="100000">
                  <a:srgbClr val="458f8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54d4d"/>
                </a:gs>
                <a:gs pos="50000">
                  <a:srgbClr val="458f8f"/>
                </a:gs>
                <a:gs pos="100000">
                  <a:srgbClr val="25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58f8f">
                    <a:alpha val="0"/>
                  </a:srgbClr>
                </a:gs>
                <a:gs pos="100000">
                  <a:srgbClr val="2b5a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4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9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307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5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0222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818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37" name=""/>
            <p:cNvSpPr/>
            <p:nvPr/>
          </p:nvSpPr>
          <p:spPr>
            <a:xfrm rot="17973000">
              <a:off x="4553640" y="2526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3465600">
              <a:off x="4604040" y="46364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4368800">
              <a:off x="3385080" y="25484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7534800">
              <a:off x="3346200" y="46026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e582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2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640" y="25938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7600" y="25938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9560" y="259380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0" y="1828800"/>
            <a:ext cx="9144000" cy="4189320"/>
            <a:chOff x="0" y="1828800"/>
            <a:chExt cx="9144000" cy="4189320"/>
          </a:xfrm>
        </p:grpSpPr>
        <p:grpSp>
          <p:nvGrpSpPr>
            <p:cNvPr id="414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62120" y="2685960"/>
              <a:ext cx="1932480" cy="3265560"/>
              <a:chOff x="762120" y="2685960"/>
              <a:chExt cx="1932480" cy="3265560"/>
            </a:xfrm>
          </p:grpSpPr>
          <p:grpSp>
            <p:nvGrpSpPr>
              <p:cNvPr id="418" name=""/>
              <p:cNvGrpSpPr/>
              <p:nvPr/>
            </p:nvGrpSpPr>
            <p:grpSpPr>
              <a:xfrm>
                <a:off x="1163880" y="3520080"/>
                <a:ext cx="1530720" cy="2431440"/>
                <a:chOff x="1163880" y="3520080"/>
                <a:chExt cx="1530720" cy="2431440"/>
              </a:xfrm>
            </p:grpSpPr>
            <p:grpSp>
              <p:nvGrpSpPr>
                <p:cNvPr id="419" name=""/>
                <p:cNvGrpSpPr/>
                <p:nvPr/>
              </p:nvGrpSpPr>
              <p:grpSpPr>
                <a:xfrm>
                  <a:off x="1163880" y="3678480"/>
                  <a:ext cx="1424520" cy="2273040"/>
                  <a:chOff x="1163880" y="3678480"/>
                  <a:chExt cx="1424520" cy="2273040"/>
                </a:xfrm>
              </p:grpSpPr>
              <p:sp>
                <p:nvSpPr>
                  <p:cNvPr id="420" name="未知"/>
                  <p:cNvSpPr/>
                  <p:nvPr/>
                </p:nvSpPr>
                <p:spPr>
                  <a:xfrm rot="3876600">
                    <a:off x="735120" y="4567680"/>
                    <a:ext cx="228132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未知"/>
                  <p:cNvSpPr/>
                  <p:nvPr/>
                </p:nvSpPr>
                <p:spPr>
                  <a:xfrm rot="3876600">
                    <a:off x="2106000" y="544860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1601640" y="3520080"/>
                  <a:ext cx="1092960" cy="1744200"/>
                  <a:chOff x="1601640" y="3520080"/>
                  <a:chExt cx="1092960" cy="1744200"/>
                </a:xfrm>
              </p:grpSpPr>
              <p:sp>
                <p:nvSpPr>
                  <p:cNvPr id="423" name="未知"/>
                  <p:cNvSpPr/>
                  <p:nvPr/>
                </p:nvSpPr>
                <p:spPr>
                  <a:xfrm flipV="1" rot="3876600">
                    <a:off x="1272600" y="4201920"/>
                    <a:ext cx="17506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未知"/>
                  <p:cNvSpPr/>
                  <p:nvPr/>
                </p:nvSpPr>
                <p:spPr>
                  <a:xfrm flipV="1" rot="3876600">
                    <a:off x="2309400" y="488592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762120" y="2685960"/>
                <a:ext cx="1276560" cy="1312560"/>
                <a:chOff x="762120" y="2685960"/>
                <a:chExt cx="1276560" cy="13125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76212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6212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46360" y="277092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6360" y="277416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901440" y="2829240"/>
                  <a:ext cx="99756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916560" y="2845080"/>
                  <a:ext cx="966960" cy="995400"/>
                  <a:chOff x="916560" y="2845080"/>
                  <a:chExt cx="966960" cy="99540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916560" y="2845080"/>
                    <a:ext cx="966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928800" y="2850480"/>
                    <a:ext cx="94356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938880" y="2860200"/>
                    <a:ext cx="89748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991440" y="2885400"/>
                    <a:ext cx="79776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6" name=""/>
              <p:cNvSpPr/>
              <p:nvPr/>
            </p:nvSpPr>
            <p:spPr>
              <a:xfrm rot="3925800">
                <a:off x="1134000" y="450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925800">
                <a:off x="1589040" y="4219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509920" y="2685960"/>
              <a:ext cx="1930320" cy="3265920"/>
              <a:chOff x="2509920" y="2685960"/>
              <a:chExt cx="1930320" cy="326592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2909160" y="3520080"/>
                <a:ext cx="1531080" cy="2431800"/>
                <a:chOff x="2909160" y="3520080"/>
                <a:chExt cx="1531080" cy="2431800"/>
              </a:xfrm>
            </p:grpSpPr>
            <p:grpSp>
              <p:nvGrpSpPr>
                <p:cNvPr id="440" name=""/>
                <p:cNvGrpSpPr/>
                <p:nvPr/>
              </p:nvGrpSpPr>
              <p:grpSpPr>
                <a:xfrm>
                  <a:off x="2909160" y="3678840"/>
                  <a:ext cx="1424520" cy="2273040"/>
                  <a:chOff x="2909160" y="3678840"/>
                  <a:chExt cx="1424520" cy="2273040"/>
                </a:xfrm>
              </p:grpSpPr>
              <p:sp>
                <p:nvSpPr>
                  <p:cNvPr id="441" name="未知"/>
                  <p:cNvSpPr/>
                  <p:nvPr/>
                </p:nvSpPr>
                <p:spPr>
                  <a:xfrm rot="3876600">
                    <a:off x="2480400" y="4568040"/>
                    <a:ext cx="228132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未知"/>
                  <p:cNvSpPr/>
                  <p:nvPr/>
                </p:nvSpPr>
                <p:spPr>
                  <a:xfrm rot="3876600">
                    <a:off x="3851280" y="544896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3347280" y="3520080"/>
                  <a:ext cx="1092960" cy="1744200"/>
                  <a:chOff x="3347280" y="3520080"/>
                  <a:chExt cx="1092960" cy="1744200"/>
                </a:xfrm>
              </p:grpSpPr>
              <p:sp>
                <p:nvSpPr>
                  <p:cNvPr id="444" name="未知"/>
                  <p:cNvSpPr/>
                  <p:nvPr/>
                </p:nvSpPr>
                <p:spPr>
                  <a:xfrm flipV="1" rot="3876600">
                    <a:off x="3018240" y="4201920"/>
                    <a:ext cx="17506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未知"/>
                  <p:cNvSpPr/>
                  <p:nvPr/>
                </p:nvSpPr>
                <p:spPr>
                  <a:xfrm flipV="1" rot="3876600">
                    <a:off x="4055040" y="488592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2509920" y="2685960"/>
                <a:ext cx="1276200" cy="1312560"/>
                <a:chOff x="2509920" y="2685960"/>
                <a:chExt cx="1276200" cy="1312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509920" y="2685960"/>
                  <a:ext cx="127620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509920" y="2685960"/>
                  <a:ext cx="127620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594160" y="2770920"/>
                  <a:ext cx="11070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594160" y="2774160"/>
                  <a:ext cx="11070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649240" y="2829240"/>
                  <a:ext cx="99720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4360" y="2845080"/>
                  <a:ext cx="966600" cy="995400"/>
                  <a:chOff x="2664360" y="2845080"/>
                  <a:chExt cx="966600" cy="99540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2664360" y="2845080"/>
                    <a:ext cx="96660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676600" y="2850480"/>
                    <a:ext cx="94320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86680" y="2860200"/>
                    <a:ext cx="89712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739240" y="2885400"/>
                    <a:ext cx="79740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7" name=""/>
              <p:cNvSpPr/>
              <p:nvPr/>
            </p:nvSpPr>
            <p:spPr>
              <a:xfrm rot="3925800">
                <a:off x="2875680" y="450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3925800">
                <a:off x="3330720" y="4219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4313160" y="2685960"/>
              <a:ext cx="1932480" cy="3265560"/>
              <a:chOff x="4313160" y="2685960"/>
              <a:chExt cx="1932480" cy="326556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4714920" y="3520080"/>
                <a:ext cx="1530720" cy="2431440"/>
                <a:chOff x="4714920" y="3520080"/>
                <a:chExt cx="1530720" cy="2431440"/>
              </a:xfrm>
            </p:grpSpPr>
            <p:grpSp>
              <p:nvGrpSpPr>
                <p:cNvPr id="461" name=""/>
                <p:cNvGrpSpPr/>
                <p:nvPr/>
              </p:nvGrpSpPr>
              <p:grpSpPr>
                <a:xfrm>
                  <a:off x="4714920" y="3678480"/>
                  <a:ext cx="1424520" cy="2273040"/>
                  <a:chOff x="4714920" y="3678480"/>
                  <a:chExt cx="1424520" cy="2273040"/>
                </a:xfrm>
              </p:grpSpPr>
              <p:sp>
                <p:nvSpPr>
                  <p:cNvPr id="462" name="未知"/>
                  <p:cNvSpPr/>
                  <p:nvPr/>
                </p:nvSpPr>
                <p:spPr>
                  <a:xfrm rot="3876600">
                    <a:off x="4286160" y="4567680"/>
                    <a:ext cx="228132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未知"/>
                  <p:cNvSpPr/>
                  <p:nvPr/>
                </p:nvSpPr>
                <p:spPr>
                  <a:xfrm rot="3876600">
                    <a:off x="5657040" y="544860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152680" y="3520080"/>
                  <a:ext cx="1092960" cy="1744200"/>
                  <a:chOff x="5152680" y="3520080"/>
                  <a:chExt cx="1092960" cy="1744200"/>
                </a:xfrm>
              </p:grpSpPr>
              <p:sp>
                <p:nvSpPr>
                  <p:cNvPr id="465" name="未知"/>
                  <p:cNvSpPr/>
                  <p:nvPr/>
                </p:nvSpPr>
                <p:spPr>
                  <a:xfrm flipV="1" rot="3876600">
                    <a:off x="4823640" y="4201920"/>
                    <a:ext cx="17506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未知"/>
                  <p:cNvSpPr/>
                  <p:nvPr/>
                </p:nvSpPr>
                <p:spPr>
                  <a:xfrm flipV="1" rot="3876600">
                    <a:off x="5860440" y="488592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7" name=""/>
              <p:cNvGrpSpPr/>
              <p:nvPr/>
            </p:nvGrpSpPr>
            <p:grpSpPr>
              <a:xfrm>
                <a:off x="4313160" y="2685960"/>
                <a:ext cx="1278360" cy="1312560"/>
                <a:chOff x="4313160" y="2685960"/>
                <a:chExt cx="1278360" cy="13125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4313160" y="2685960"/>
                  <a:ext cx="12783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313160" y="2685960"/>
                  <a:ext cx="12783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397760" y="2770920"/>
                  <a:ext cx="11088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97760" y="2774160"/>
                  <a:ext cx="11088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452480" y="2829240"/>
                  <a:ext cx="99900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4467960" y="2845080"/>
                  <a:ext cx="968040" cy="995400"/>
                  <a:chOff x="4467960" y="2845080"/>
                  <a:chExt cx="968040" cy="9954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4467960" y="2845080"/>
                    <a:ext cx="968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4480200" y="2850480"/>
                    <a:ext cx="94464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490280" y="2860200"/>
                    <a:ext cx="89856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542840" y="2885400"/>
                    <a:ext cx="79848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"/>
              <p:cNvSpPr/>
              <p:nvPr/>
            </p:nvSpPr>
            <p:spPr>
              <a:xfrm rot="3925800">
                <a:off x="4688280" y="450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5143680" y="4219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6089760" y="2541600"/>
              <a:ext cx="2122560" cy="3476520"/>
              <a:chOff x="6089760" y="2541600"/>
              <a:chExt cx="2122560" cy="347652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6681960" y="3587400"/>
                <a:ext cx="1530360" cy="2430720"/>
                <a:chOff x="6681960" y="3587400"/>
                <a:chExt cx="1530360" cy="2430720"/>
              </a:xfrm>
            </p:grpSpPr>
            <p:grpSp>
              <p:nvGrpSpPr>
                <p:cNvPr id="482" name=""/>
                <p:cNvGrpSpPr/>
                <p:nvPr/>
              </p:nvGrpSpPr>
              <p:grpSpPr>
                <a:xfrm>
                  <a:off x="6681960" y="3746160"/>
                  <a:ext cx="1423800" cy="2271960"/>
                  <a:chOff x="6681960" y="3746160"/>
                  <a:chExt cx="1423800" cy="2271960"/>
                </a:xfrm>
              </p:grpSpPr>
              <p:sp>
                <p:nvSpPr>
                  <p:cNvPr id="483" name="未知"/>
                  <p:cNvSpPr/>
                  <p:nvPr/>
                </p:nvSpPr>
                <p:spPr>
                  <a:xfrm rot="3876600">
                    <a:off x="6253200" y="4635000"/>
                    <a:ext cx="228060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未知"/>
                  <p:cNvSpPr/>
                  <p:nvPr/>
                </p:nvSpPr>
                <p:spPr>
                  <a:xfrm rot="3876600">
                    <a:off x="7624080" y="5515920"/>
                    <a:ext cx="35820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7119720" y="3587400"/>
                  <a:ext cx="1092600" cy="1743480"/>
                  <a:chOff x="7119720" y="3587400"/>
                  <a:chExt cx="1092600" cy="1743480"/>
                </a:xfrm>
              </p:grpSpPr>
              <p:sp>
                <p:nvSpPr>
                  <p:cNvPr id="486" name="未知"/>
                  <p:cNvSpPr/>
                  <p:nvPr/>
                </p:nvSpPr>
                <p:spPr>
                  <a:xfrm flipV="1" rot="3876600">
                    <a:off x="6791040" y="4268880"/>
                    <a:ext cx="174996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未知"/>
                  <p:cNvSpPr/>
                  <p:nvPr/>
                </p:nvSpPr>
                <p:spPr>
                  <a:xfrm flipV="1" rot="3876600">
                    <a:off x="7827120" y="495288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8" name=""/>
              <p:cNvSpPr/>
              <p:nvPr/>
            </p:nvSpPr>
            <p:spPr>
              <a:xfrm>
                <a:off x="6089760" y="2541600"/>
                <a:ext cx="1532520" cy="1573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89760" y="2541600"/>
                <a:ext cx="1532520" cy="1573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191640" y="2644920"/>
                <a:ext cx="1331640" cy="1366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93440" y="2647800"/>
                <a:ext cx="1331280" cy="13665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57160" y="2713320"/>
                <a:ext cx="1199160" cy="122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6276600" y="2732400"/>
                <a:ext cx="1162080" cy="1192680"/>
                <a:chOff x="6276600" y="2732400"/>
                <a:chExt cx="1162080" cy="11926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6276600" y="2732400"/>
                  <a:ext cx="1162080" cy="119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291360" y="2738880"/>
                  <a:ext cx="1134000" cy="116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303240" y="2750400"/>
                  <a:ext cx="1078560" cy="108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366600" y="2781000"/>
                  <a:ext cx="958680" cy="88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 rot="3925800">
                <a:off x="6641280" y="465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3925800">
                <a:off x="7094880" y="4363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9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669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cxnSp>
            <p:nvCxnSpPr>
              <p:cNvPr id="505" name=""/>
              <p:cNvCxnSpPr>
                <a:stCxn id="501" idx="3"/>
                <a:endCxn id="50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506" name=""/>
              <p:cNvCxnSpPr>
                <a:stCxn id="502" idx="3"/>
                <a:endCxn id="50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50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10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12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2f636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1c1"/>
                  </a:gs>
                  <a:gs pos="50000">
                    <a:srgbClr val="458f8f">
                      <a:alpha val="0"/>
                    </a:srgbClr>
                  </a:gs>
                  <a:gs pos="100000">
                    <a:srgbClr val="99c1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090240" y="1725120"/>
              <a:ext cx="43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17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19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4b4fe"/>
                  </a:gs>
                  <a:gs pos="100000">
                    <a:srgbClr val="9999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99ff">
                      <a:alpha val="0"/>
                    </a:srgbClr>
                  </a:gs>
                  <a:gs pos="100000">
                    <a:srgbClr val="d2d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3090240" y="3232440"/>
              <a:ext cx="43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4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26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bed4"/>
                  </a:gs>
                  <a:gs pos="100000">
                    <a:srgbClr val="6c9bb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7" name="未知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9bbe">
                      <a:alpha val="0"/>
                    </a:srgbClr>
                  </a:gs>
                  <a:gs pos="100000">
                    <a:srgbClr val="b6cdd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3090240" y="4772520"/>
              <a:ext cx="431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3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3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4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980000"/>
            </a:gra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50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052640" y="2392200"/>
          <a:ext cx="7191360" cy="3198960"/>
        </p:xfrm>
        <a:graphic>
          <a:graphicData uri="http://schemas.openxmlformats.org/drawingml/2006/table">
            <a:tbl>
              <a:tblPr/>
              <a:tblGrid>
                <a:gridCol w="1622520"/>
                <a:gridCol w="1130040"/>
                <a:gridCol w="1111320"/>
                <a:gridCol w="1106640"/>
                <a:gridCol w="1114200"/>
                <a:gridCol w="110664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67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babafe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95656"/>
                </a:gs>
                <a:gs pos="100000">
                  <a:srgbClr val="458f8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6e6e00"/>
                </a:gs>
                <a:gs pos="100000">
                  <a:srgbClr val="cccc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79" name="未知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c9bbe"/>
                  </a:gs>
                  <a:gs pos="100000">
                    <a:srgbClr val="415d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100000">
                    <a:srgbClr val="6c9bbe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100000">
                    <a:srgbClr val="6c9b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2b166e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88" name=""/>
            <p:cNvSpPr/>
            <p:nvPr/>
          </p:nvSpPr>
          <p:spPr>
            <a:xfrm>
              <a:off x="1905120" y="221004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8f8f"/>
                </a:gs>
                <a:gs pos="50000">
                  <a:srgbClr val="d0e2e2"/>
                </a:gs>
                <a:gs pos="100000">
                  <a:srgbClr val="458f8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00"/>
                      </a:gs>
                      <a:gs pos="100000">
                        <a:srgbClr val="818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未知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9bbe"/>
                      </a:gs>
                      <a:gs pos="100000">
                        <a:srgbClr val="1a25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未知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c9bb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e4e8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608" name="未知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58f8f"/>
                      </a:gs>
                      <a:gs pos="100000">
                        <a:srgbClr val="23494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未知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458f8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99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00" name="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07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08" name="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15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16" name="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23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6c9bbe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b166e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2514600" y="3009960"/>
            <a:ext cx="43434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458f8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2b166e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458f8f"/>
                  </a:gs>
                </a:gsLst>
                <a:lin ang="10800000"/>
              </a:gradFill>
              <a:effectLst>
                <a:outerShdw dist="17819" dir="2700000" blurRad="0" rotWithShape="0">
                  <a:srgbClr val="2b166e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218960" y="563868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18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1DF3-2F31-4207-9CB3-BC6FD7BF93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8880" y="1447560"/>
            <a:ext cx="763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f8f"/>
                </a:solidFill>
                <a:latin typeface="Verdana"/>
                <a:ea typeface="宋体"/>
              </a:rPr>
              <a:t>请输入文字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166e"/>
                </a:solidFill>
                <a:latin typeface="Arial"/>
                <a:ea typeface="宋体"/>
              </a:rPr>
              <a:t>请输入文字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38400" y="337212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36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5c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a4a7b"/>
                    </a:gs>
                    <a:gs pos="100000">
                      <a:srgbClr val="9999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d0d0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dd7d7"/>
                  </a:gs>
                  <a:gs pos="100000">
                    <a:srgbClr val="458f8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48235"/>
                    </a:srgbClr>
                  </a:gs>
                  <a:gs pos="100000">
                    <a:srgbClr val="36707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58f8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337212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50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166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53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58f8f"/>
                </a:gs>
                <a:gs pos="100000">
                  <a:srgbClr val="152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484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0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1" name=""/>
              <p:cNvSpPr/>
              <p:nvPr/>
            </p:nvSpPr>
            <p:spPr>
              <a:xfrm flipH="1" rot="16200000">
                <a:off x="2928240" y="3249000"/>
                <a:ext cx="45936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5400000">
                <a:off x="5531040" y="3198600"/>
                <a:ext cx="45936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10800000">
                <a:off x="4240800" y="4609800"/>
                <a:ext cx="4453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d6"/>
                  </a:gs>
                  <a:gs pos="100000">
                    <a:srgbClr val="33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06600" y="2209680"/>
                <a:ext cx="23338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39800" y="2344680"/>
                <a:ext cx="20667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61480" y="2471040"/>
                <a:ext cx="1823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61480" y="2471040"/>
                <a:ext cx="1823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81360" y="2594520"/>
                <a:ext cx="15836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81360" y="2594520"/>
                <a:ext cx="15836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14757"/>
                </a:gs>
                <a:gs pos="50000">
                  <a:srgbClr val="6c9bbe"/>
                </a:gs>
                <a:gs pos="100000">
                  <a:srgbClr val="3147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f4141"/>
                </a:gs>
                <a:gs pos="50000">
                  <a:srgbClr val="458f8f"/>
                </a:gs>
                <a:gs pos="100000">
                  <a:srgbClr val="1f4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50000">
                    <a:srgbClr val="cccc00"/>
                  </a:gs>
                  <a:gs pos="100000">
                    <a:srgbClr val="5e5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5000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14757"/>
                  </a:gs>
                  <a:gs pos="50000">
                    <a:srgbClr val="6c9bbe"/>
                  </a:gs>
                  <a:gs pos="100000">
                    <a:srgbClr val="31475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141"/>
                  </a:gs>
                  <a:gs pos="50000">
                    <a:srgbClr val="458f8f"/>
                  </a:gs>
                  <a:gs pos="100000">
                    <a:srgbClr val="1f414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5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39300"/>
                  </a:gs>
                  <a:gs pos="50000">
                    <a:srgbClr val="cccc00"/>
                  </a:gs>
                  <a:gs pos="100000">
                    <a:srgbClr val="939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e6eb8"/>
                  </a:gs>
                  <a:gs pos="50000">
                    <a:srgbClr val="9999ff"/>
                  </a:gs>
                  <a:gs pos="100000">
                    <a:srgbClr val="6e6e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c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e7089"/>
                  </a:gs>
                  <a:gs pos="50000">
                    <a:srgbClr val="6c9bbe"/>
                  </a:gs>
                  <a:gs pos="100000">
                    <a:srgbClr val="4e708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16767"/>
                  </a:gs>
                  <a:gs pos="50000">
                    <a:srgbClr val="458f8f"/>
                  </a:gs>
                  <a:gs pos="100000">
                    <a:srgbClr val="3167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166e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45" name="未知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a1a1f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c9bbe"/>
                </a:gs>
                <a:gs pos="100000">
                  <a:srgbClr val="a9c4d8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5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c9b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93b49"/>
                  </a:gs>
                  <a:gs pos="50000">
                    <a:srgbClr val="6c9bbe"/>
                  </a:gs>
                  <a:gs pos="100000">
                    <a:srgbClr val="293b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90720" y="3342960"/>
                <a:ext cx="213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2b166e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2b166e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505320" y="288576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9920" y="2352600"/>
              <a:ext cx="213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2b166e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2b166e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a</cp:lastModifiedBy>
  <dcterms:modified xsi:type="dcterms:W3CDTF">2015-07-04T08:18:38Z</dcterms:modified>
  <cp:revision>6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