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033-1629-41CD-9456-D70C8A65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8C2-993C-47EE-801F-19607D48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136-FD38-4AA8-9849-3E66E4A2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BE7-3FBA-44A7-9019-A8FF01FF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2269-509C-4D29-8060-AF13CEDA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49A-F9A1-406D-9130-D3F9E938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AEBE-ECD8-4972-B4A7-4AEF356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F3CF-77F5-4937-A342-F3FA228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3FB6-DA22-4E2A-935B-FDA20F5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2111-E640-4FF8-A046-7F13A0A5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0017-890E-4DFF-B7D8-E309899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B10-5003-43E3-B3A4-C4058AB2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6385-C302-4FDF-8B97-070CB8A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8F5-1F4A-4386-8C8B-042146D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06BF-7844-43E9-972C-3EAF65E9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FE9-4E05-4876-8B35-25FCD394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9BB1-9D31-460C-9855-DF2334E7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13A-3302-4B62-B97E-3F5F67F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180-22FA-4EF5-8148-CB51B94D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95C-D589-483C-94B1-01EC92F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458-099A-489A-9264-E0846CC5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2BD-D291-4760-90B2-6D961B2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948-8688-462B-A41E-1EC5540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641-5AE0-4999-93AC-EBA6A1D4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C15-1D56-49B1-8820-1A812F42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269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7EB-9F94-4551-AE39-5B93B3AC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269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唯美水墨荷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79640" y="3573000"/>
            <a:ext cx="5905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269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感谢您的关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3789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720" y="260280"/>
            <a:ext cx="22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www.eeppt.com</a:t>
            </a:r>
            <a:r>
              <a:rPr b="0" lang="zh-CN" sz="18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58F-A6D4-4E16-A77E-071E21043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47:22Z</dcterms:created>
  <dc:creator/>
  <dc:description/>
  <dc:language>en-US</dc:language>
  <cp:lastModifiedBy/>
  <dcterms:modified xsi:type="dcterms:W3CDTF">2015-07-04T08:04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