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F19-2390-46FF-81E1-909AD2BC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7B6-2B4C-42C5-90F6-2232B430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9DA3E-7C39-4E0A-8998-23BD00BC06D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EE07B-719A-4B20-96A5-59EC80E355A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CC9FE-59B0-4E0D-8F05-A46EEAF0636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228B2-B4BD-4296-A6EC-7CC0DEBE0B5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29810-0131-415A-B427-8825298839B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86CB0-1C8B-4C49-9B3F-BCCBA6AB450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CE2CF-0F5B-4548-B05C-396C63B6C63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D181B-9E63-49F8-B2B0-A7FA4F72CF1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3D67F-268F-47CA-884C-BE94F718863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D10F5F-5A79-4D10-8D02-0C190D505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CD27-BB43-41DB-A51E-F8653112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702F0-2AD4-4E76-BEA3-6B3C1CBB34A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AEE3F-B52E-4113-93D3-7CB3A27FF6D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49C952-15F9-4B8E-AAE8-5355BD449C5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A70701-36BE-4607-830B-DCA8C6ACD81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EAD94B-E7C7-4BC3-8E3F-5175F5BE5AF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7F7AE9-9C05-47FB-9A99-4BD8E723818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E97A7-EE6E-4AD6-AED9-A73E3A9D9D2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2D054-1D49-4AFF-8A3E-87591218F10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321EE-B7CA-4A91-9262-7DC61F4F6FA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639A1-2C19-4D7A-AC94-4E5452A66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48A9-2735-4888-BDA2-043F09F2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33661F-5421-42D8-9EBC-E5EADBE86FA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E74C85-73AE-4B8F-96CC-2371DBC9766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8DA827-85C3-4774-8502-945DFD23040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5F5357-45C2-4C4C-90F2-B5F886714DB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A8E4B4-B1AE-421F-9E07-1F379C533A1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F0CD2F-9446-4A88-AD1D-40DCA4E2D7C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EF09C1-97D1-4555-B291-68CE9BDF378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A44C04-167F-48CB-A2D0-F61CD8AF26B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6731B4-B35F-405F-AFD6-253A063661B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7F4420-F91B-4474-A114-248D6504D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F1848-5BE3-4CA7-BB6F-3F993A0D7F6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181AB9-BA23-4A32-989C-358AE88C07D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3E0639-2767-4D04-96FD-59B10D86A4F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E6E33A-17EA-4AD7-9B4C-58350AC1A7D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89A66-B618-4B36-8341-2F75E0028CE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6400E-6AC0-470C-8529-39B1E22F604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77CC7-6829-4729-9D8C-13D1FF833AB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C3765-DAF9-43A5-8F9B-275DF7D499F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19B4B-C456-46D0-947E-7AC8C03D577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D210A-6E33-4B84-8BAC-A88CBAF6F1B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9582C-2CB8-4662-8FD7-EDBA274E17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3301F-6B28-44F0-B9C4-33410B5EDFE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8EC78-4E8D-41BE-A7FD-4307F741146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30D03-ADC6-4955-B74C-4594411C2C5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1FC31-C324-459B-BAC5-7B7B4722AAB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70811-5AD2-4121-87AE-59CAF69B861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3C93D-D956-4FFC-83D3-4AA2DA44E36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5376A-5A57-460D-88CC-5C27155BF22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2CEC5-BD54-4D11-917A-0C96CA8D328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4509E-5D51-47B8-88A2-8A078B58C1D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21A92-BFCF-44CC-8013-23889F30BF2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64831-B920-432D-9D6D-882910FD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56263-FA28-4C63-8AAB-48AFF167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3C01E-9EB3-49AB-B0A2-FB8CBBA1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B486D-4300-4C9C-AD45-E291D631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6EB92-B7E9-46D6-B159-E0BB5902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58F80-3BC5-4554-B3ED-FBE3D0DD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40872-042A-40FC-9B0A-4385CD38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C2E5B-4D0D-4B1F-8ECB-F585D896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BF1E5-92B1-46EC-8A6D-E8B448AB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896BE-A7E1-4A6F-B19C-F2F8948462A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2FCC8-6D14-4C85-B97D-286F3002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45B2B-E89F-492D-9BAD-E554F25E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21B22-DAEF-48AE-A23A-67F89592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77E-9774-499C-BE22-52C8A287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B2C4A-E553-484A-B19E-320BD79F8FA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7645C8-6B82-47AE-B326-6EBA90C69A5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A1006E-B171-482B-BB36-067BC748CB4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44A89C-2579-4CEB-A2CF-24E805007D0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240457-1D6E-44C4-9F5F-77566FC2D95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5F5A4D-F65C-429A-A8A0-6AC87EB9B8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B8352-2EE2-4FA3-A4A9-F3B94A6F4FF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132DE3-12F5-474F-9B8A-C67CD7253D2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4935DE-2A60-4C0C-810C-732732D28B1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876C50-0E76-4C82-9374-A2E27CAAF93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40DCB6-5955-4681-9503-62A8AE7B20D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0E35A0-1600-4B9D-B794-02B9C3EF7BB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A6FCAC-1E4A-4D57-A9C2-5BCD91A86AA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350AC0-B182-4FB4-84B1-3E679C5B175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0F033-3D4C-4309-A6EE-7EF5E2DBAB2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9E3F5-DD66-40FD-A19E-86D25C83656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A7004-4648-4A8F-AC89-3D9E901F3F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DBBA2-734F-43DD-82EB-9A5F7DD9AD4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AE622-6108-47C0-BC42-01BF9A0B3C2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5F4DD-D2D5-4293-901C-E99B941960E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D8D67-B611-4DCA-9C4E-4480064B430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EAE59-2572-44F2-A282-2E928A35F13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2BE6A-7FB7-49E1-BF9C-BC14909F74E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2F28E-D806-45AE-8ED2-A214D6215DF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BA21F-7ADB-4922-BA7F-7F7DBEF3B9E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67889-8EDE-4941-8CCD-3D9FBB9B197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5438E-8B7E-408A-A6E2-2AB75199E26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4BF24-46A5-4204-B2EE-00FEBB466E3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F92FC-A8CC-40AF-B6F1-1EA1C2554FF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367BB-3EB9-4347-91AF-3C9E643F6DB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CC9B2-6830-4C70-8996-381963670DA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E2131-A2BF-4E3A-8608-1F9AB2521FC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EA757-C302-4642-8278-A0BA25BA545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5E3A2-FDF0-45A4-B536-94350A4145C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2C650-FB1F-4621-848A-AABD74C81A5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870B9-A827-42B1-B645-4FC090C7321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E442F-0830-4594-BA9F-37BFABC64D6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C9A4D-A97C-4F47-BCCC-E9CDCD240C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6F1FA3-096A-4091-AC51-FA01C1F0453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FF7E6-E3D7-4AFD-9FE3-58E1FC9B9B8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1DCDC-5029-4CDA-B4D9-00C32E4CBDE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0D037-241C-45C9-8F93-016B94CE967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9C841F-0B05-4878-BCA4-B6A0BFBA484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4703FC-64F4-45AC-8FD9-57DE85D1FAD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F653EB-90F3-4B36-BE45-1B68D8B638D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474360-E65C-40DD-AA2A-7884A2D862B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D07026-1E50-4210-839D-60B984D7CBA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424C0F-FA60-4997-BD6B-FAE1BD03A5D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DBD353-72C6-47A6-A452-CF8BC78334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978542-7A32-466E-970F-BC0B353B20B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24ADCC-38BB-47E5-B471-F5081691670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DC526C-8A50-44AF-8912-EC23FF8D8A2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DD1FD5-0A37-4D1C-B745-B9CAB5D3F4B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0896A4-3973-4FC6-B569-EC51F239912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BEDD56-8CA2-4E88-8C69-E21B079E7EE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EC183-A236-4D1C-BD2D-41E36A0D441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E494D8-D5A8-4357-A98E-F54A90C7E26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24571-17CE-483B-81FE-1085C387EA1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9E704-FCF6-4437-85F2-B56CC8F025B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54EBE-015A-4E09-94AC-76A68B4F58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1C9CE0-4D88-4ACB-84A3-B4886A55FF4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3266C-52CA-4DE6-973A-02E505EF629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2F6AB-959F-4008-ADA3-B3BDDF9AE72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2A99E-8737-4B60-B1CB-68BC7A68D25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15EC0-0AB8-4DEC-8BBA-AB93018523C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817B8-0630-400B-B5BB-174D4E013EE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B4B063-A8CD-482F-8DA6-D2DD417B1E0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44B70-70CC-4DD9-89AF-32A1A6C59F2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0047C-5CF9-4988-8B28-D3DF4C26CD3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B03AC-515C-496D-98F5-199479A83D1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32CE7-C5B2-488A-85D4-7D27C4AEBE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6142FD-3E01-486F-A202-178BF6FDFD1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BE54B-A0E0-4455-AC5A-AD411F6424D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61C84-8B2B-42A3-B6E4-F061A9F5F73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2DB3C-135D-40AC-B68C-C382394A51C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7DB07-39CD-4265-A4FB-D97EE531606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5AE18-5E8C-48D6-A335-1B0D626454C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B44CE-4415-45CD-A4AE-F0A4C0772F4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0F229-4DE2-4F69-A5FE-986EB5C29D3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593F1-6B2F-46A2-A352-AECAE33002E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47559-8044-4C21-8D9F-23AE630D262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23431D-1F50-497D-92B8-9B7C7ADAE9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766BA3-30E9-4FAA-8DD9-E934FD9E4D0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1F2009-B151-4AC9-8B60-25517AAD518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744FFE-4CD0-48D0-A0AF-7A2A0299DB9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FA540C-180B-4455-8472-FFB5559C090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433779-CC61-4EAB-96DD-73F2CE8D1DB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B033F5-B074-4A7A-9D25-4A376F4B3A0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F9654E-F360-4DB7-8B3F-009757DE12F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8E6AFF-2072-405C-82CF-2FBA2F6B996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9C6633-9743-4651-807D-D09B1D43CA6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D91511-1AB0-4DB9-BF45-EB9DC54C089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54DE18-FFE3-4228-9267-AD760A13E1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412-8B3B-4602-8799-7668BE1D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F8AC8D-1906-4792-B2EB-CBE2191A871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9D02A7-E1CE-493F-8E15-838B09BD94E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EFA74B-ADDE-4EB8-A2B4-CC31C4465C5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2D8776-FA70-4BB7-95E9-80D3DE3214DE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CE1DDA-FF53-4DBC-807B-0726CB8BBB8B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DB7CD3-ABAD-41B9-8067-020FC2E6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11217E-83A6-4648-BFAE-8DA5B4AC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8CFE80-BA12-484F-B1ED-F56AB4E0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C93A47-857A-4C44-8824-C9D4D63D392C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DE7AE1-5F6F-40E8-A9EC-09B7B0FE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E540F7-B52B-40C8-B594-697C5A10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79FD63-F006-4479-B255-059EA22A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021BF4-105A-46AE-9B13-CF54CD07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30176C-29C1-4B4D-AE83-281F4F54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78DBF9-94F6-4AA0-B589-DDD25650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074722-C806-4AAD-BEF4-7C69FDC5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BE5736-F205-43F1-A242-76BC642A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BF97C4-397C-4BC1-948C-4F7F4490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DFDBB5-4C11-4202-A99D-B41D4D08EF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F647E5-C43E-45A7-93FA-16D317D431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A9C-0602-4005-BF72-F878ECE8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85644-BEAE-4DB3-B8C4-09CF14C39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1BF-83BB-4646-BFAC-0C06A624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56A32-760B-4473-B897-0575E776022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0D082-9621-4EE1-8A3F-737E0EC60E6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C3BA4-B98B-45B5-A464-AA39E76F021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6F896-D811-4ADE-97BE-6BF21364A4D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EC5C0-AD89-4D36-B3E5-D0DC7417CDE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A4084-E662-47BE-91DB-FAEDAA2E7EC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22F49-7440-40EE-A8D0-597ABE84F5B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55CD5-2764-4901-9B3E-433D8E06A02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3DD5-A8B8-47E0-B71B-7F261821E7A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5D527-675A-4C99-80D3-C0B90283D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FB6-5C08-46A5-B029-547CC23B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F714A-6EEB-45CC-9CE3-A7FB4157830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671B19-AB79-4D6F-8BFB-84468E70D05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418D1C-841D-421B-AC48-6C239DAB1D4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3644DF-7DA2-429A-A965-6E8C8EB30A6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48E09-0FE6-408B-A093-BDC5F2D9D50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51EF3-F5F0-413F-8B49-44BB5B51D14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D68257-E0E5-462A-BBD8-F0BCF7FB52C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A86E82-8871-4110-B41F-D89A4F61212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69D8B-BC6E-41B1-A6AD-277CCDA8EC8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BF9475-6450-4BB5-ADB0-F932FCBB1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C25-E760-4EB0-944D-C5C2D68D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795BE-4682-4F8D-B5DF-6B9F0FE78D3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F8EE85-5024-4874-ABD3-337FC673D57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AC513-09EA-4B70-8279-267C8528471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03C-E16A-4A07-9C06-AB1A6C3C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E40EB4-A0C3-452E-A1EC-B836710E0D9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EA67E9-DE87-4502-80C4-E37E2BED8AF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500DAD-BEFD-48E4-BEE8-77B6557B7E3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FBD704-04BC-4244-888B-5556CD4A711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274352-2D51-4AAB-A6CE-18C999190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41D-EA81-4B48-9F68-AFCF30EF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4A2992-BC0E-4DC8-901D-BC82C021B9F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994427-73EC-4AC8-8581-E9120F9E238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DBA084-B9A4-43D8-9713-9312FC55908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DCF66B-8980-4524-A4C0-24BF26C02A0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B1CDAF-6919-4088-B437-CA14E53F6BD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42268F-35D6-4FB5-B140-5E678ACBB09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EB0561-59EA-4EE9-9A80-515DF436B46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13547-A5BB-4464-8792-D1B9D6C2E39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AF74D-DE8A-4757-AED3-04784C5FFE7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5E90F-4567-4506-8ACD-DDC0C2A5C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69EB-BD0C-43B6-9310-1677A5817E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E21B-8E3F-4B63-A00C-599F86F17A3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EA17-BE6F-463B-8FAB-6483C0C4A2E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C31E-5941-413A-8721-1C7A889D4CB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1034-52E3-4C55-A099-708B4F077E3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DDD5-B5CF-4544-B650-322E20626E8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5985-E7CE-4C94-84A9-3711A846854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DF12-480D-4772-A69A-3DBD3037810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159E-B538-485B-B864-24A7EAF14B5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BADF-F22D-4A85-BA66-CDC75E37094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C755-7160-491F-ABE3-68AB1C61D5D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F7BC-80E0-404B-AA71-22E57935A84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4A09-9CD6-4915-A425-4043B7559C4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F467-40DD-45F6-B0A5-FDE3B13084D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1D99-ED66-44DA-892F-F4F987EBECF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9B8F-7A71-4E7E-9DF8-81AE6CF2FF1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560E-B842-4F11-9FE8-C49057298D2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7EFC-5BCD-4214-B1DD-E4B7CC5A998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6081-F811-4624-AA38-65668F6D36D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3"/>
          <p:cNvSpPr/>
          <p:nvPr/>
        </p:nvSpPr>
        <p:spPr>
          <a:xfrm>
            <a:off x="1867680" y="857160"/>
            <a:ext cx="5423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卡通幻灯片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学习的校园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121400" y="2276640"/>
            <a:ext cx="37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矩形 5"/>
          <p:cNvSpPr/>
          <p:nvPr/>
        </p:nvSpPr>
        <p:spPr>
          <a:xfrm>
            <a:off x="6308640" y="4218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그룹 27"/>
          <p:cNvGrpSpPr/>
          <p:nvPr/>
        </p:nvGrpSpPr>
        <p:grpSpPr>
          <a:xfrm>
            <a:off x="1981080" y="1558800"/>
            <a:ext cx="5543640" cy="3814920"/>
            <a:chOff x="1981080" y="1558800"/>
            <a:chExt cx="5543640" cy="3814920"/>
          </a:xfrm>
        </p:grpSpPr>
        <p:sp>
          <p:nvSpPr>
            <p:cNvPr id="1182" name="AutoShape 38"/>
            <p:cNvSpPr/>
            <p:nvPr/>
          </p:nvSpPr>
          <p:spPr>
            <a:xfrm>
              <a:off x="1981080" y="155880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cae2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AutoShape 39"/>
            <p:cNvSpPr/>
            <p:nvPr/>
          </p:nvSpPr>
          <p:spPr>
            <a:xfrm>
              <a:off x="2022120" y="1607760"/>
              <a:ext cx="544536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WordArt 40"/>
            <p:cNvSpPr txBox="1"/>
            <p:nvPr/>
          </p:nvSpPr>
          <p:spPr>
            <a:xfrm>
              <a:off x="2231640" y="174276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85" name="WordArt 41"/>
            <p:cNvSpPr txBox="1"/>
            <p:nvPr/>
          </p:nvSpPr>
          <p:spPr>
            <a:xfrm>
              <a:off x="4147920" y="180468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86" name="Line 42"/>
            <p:cNvSpPr/>
            <p:nvPr/>
          </p:nvSpPr>
          <p:spPr>
            <a:xfrm flipH="1">
              <a:off x="3996720" y="1784160"/>
              <a:ext cx="4680" cy="2044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AutoShape 43"/>
            <p:cNvSpPr/>
            <p:nvPr/>
          </p:nvSpPr>
          <p:spPr>
            <a:xfrm>
              <a:off x="1981080" y="235728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85d5d7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AutoShape 44"/>
            <p:cNvSpPr/>
            <p:nvPr/>
          </p:nvSpPr>
          <p:spPr>
            <a:xfrm>
              <a:off x="2030040" y="241920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WordArt 45"/>
            <p:cNvSpPr txBox="1"/>
            <p:nvPr/>
          </p:nvSpPr>
          <p:spPr>
            <a:xfrm>
              <a:off x="2231640" y="2543040"/>
              <a:ext cx="161280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0" name="WordArt 46"/>
            <p:cNvSpPr txBox="1"/>
            <p:nvPr/>
          </p:nvSpPr>
          <p:spPr>
            <a:xfrm>
              <a:off x="4147920" y="260316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91" name="Line 47"/>
            <p:cNvSpPr/>
            <p:nvPr/>
          </p:nvSpPr>
          <p:spPr>
            <a:xfrm>
              <a:off x="3997080" y="2543040"/>
              <a:ext cx="0" cy="244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AutoShape 48"/>
            <p:cNvSpPr/>
            <p:nvPr/>
          </p:nvSpPr>
          <p:spPr>
            <a:xfrm>
              <a:off x="1981080" y="315900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f8cb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AutoShape 49"/>
            <p:cNvSpPr/>
            <p:nvPr/>
          </p:nvSpPr>
          <p:spPr>
            <a:xfrm>
              <a:off x="2030040" y="322092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WordArt 50"/>
            <p:cNvSpPr txBox="1"/>
            <p:nvPr/>
          </p:nvSpPr>
          <p:spPr>
            <a:xfrm>
              <a:off x="2231640" y="3344760"/>
              <a:ext cx="161280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5" name="WordArt 51"/>
            <p:cNvSpPr txBox="1"/>
            <p:nvPr/>
          </p:nvSpPr>
          <p:spPr>
            <a:xfrm>
              <a:off x="4147920" y="340524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96" name="Line 52"/>
            <p:cNvSpPr/>
            <p:nvPr/>
          </p:nvSpPr>
          <p:spPr>
            <a:xfrm>
              <a:off x="3997080" y="3344760"/>
              <a:ext cx="0" cy="244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AutoShape 53"/>
            <p:cNvSpPr/>
            <p:nvPr/>
          </p:nvSpPr>
          <p:spPr>
            <a:xfrm>
              <a:off x="1981080" y="395928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AutoShape 54"/>
            <p:cNvSpPr/>
            <p:nvPr/>
          </p:nvSpPr>
          <p:spPr>
            <a:xfrm>
              <a:off x="2030040" y="401940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WordArt 55"/>
            <p:cNvSpPr txBox="1"/>
            <p:nvPr/>
          </p:nvSpPr>
          <p:spPr>
            <a:xfrm>
              <a:off x="2231640" y="414360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0" name="WordArt 56"/>
            <p:cNvSpPr txBox="1"/>
            <p:nvPr/>
          </p:nvSpPr>
          <p:spPr>
            <a:xfrm>
              <a:off x="4147920" y="420372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201" name="Line 57"/>
            <p:cNvSpPr/>
            <p:nvPr/>
          </p:nvSpPr>
          <p:spPr>
            <a:xfrm>
              <a:off x="3997080" y="4143240"/>
              <a:ext cx="0" cy="2458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AutoShape 58"/>
            <p:cNvSpPr/>
            <p:nvPr/>
          </p:nvSpPr>
          <p:spPr>
            <a:xfrm>
              <a:off x="1981080" y="475956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AutoShape 59"/>
            <p:cNvSpPr/>
            <p:nvPr/>
          </p:nvSpPr>
          <p:spPr>
            <a:xfrm>
              <a:off x="2030040" y="4784760"/>
              <a:ext cx="544536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WordArt 60"/>
            <p:cNvSpPr txBox="1"/>
            <p:nvPr/>
          </p:nvSpPr>
          <p:spPr>
            <a:xfrm>
              <a:off x="2231640" y="494352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5" name="WordArt 61"/>
            <p:cNvSpPr txBox="1"/>
            <p:nvPr/>
          </p:nvSpPr>
          <p:spPr>
            <a:xfrm>
              <a:off x="4147920" y="5005440"/>
              <a:ext cx="1512720" cy="1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206" name="Line 62"/>
            <p:cNvSpPr/>
            <p:nvPr/>
          </p:nvSpPr>
          <p:spPr>
            <a:xfrm>
              <a:off x="3997080" y="4943520"/>
              <a:ext cx="0" cy="2458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그룹 54"/>
          <p:cNvGrpSpPr/>
          <p:nvPr/>
        </p:nvGrpSpPr>
        <p:grpSpPr>
          <a:xfrm>
            <a:off x="1052640" y="1558800"/>
            <a:ext cx="785520" cy="3814920"/>
            <a:chOff x="1052640" y="1558800"/>
            <a:chExt cx="785520" cy="3814920"/>
          </a:xfrm>
        </p:grpSpPr>
        <p:sp>
          <p:nvSpPr>
            <p:cNvPr id="1208" name="AutoShape 38"/>
            <p:cNvSpPr/>
            <p:nvPr/>
          </p:nvSpPr>
          <p:spPr>
            <a:xfrm>
              <a:off x="1052640" y="155880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cae2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AutoShape 39"/>
            <p:cNvSpPr/>
            <p:nvPr/>
          </p:nvSpPr>
          <p:spPr>
            <a:xfrm>
              <a:off x="1058760" y="1607760"/>
              <a:ext cx="77148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AutoShape 43"/>
            <p:cNvSpPr/>
            <p:nvPr/>
          </p:nvSpPr>
          <p:spPr>
            <a:xfrm>
              <a:off x="1052640" y="235728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85d5d7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AutoShape 44"/>
            <p:cNvSpPr/>
            <p:nvPr/>
          </p:nvSpPr>
          <p:spPr>
            <a:xfrm>
              <a:off x="1058760" y="241920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AutoShape 48"/>
            <p:cNvSpPr/>
            <p:nvPr/>
          </p:nvSpPr>
          <p:spPr>
            <a:xfrm>
              <a:off x="1052640" y="315900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f8cb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49"/>
            <p:cNvSpPr/>
            <p:nvPr/>
          </p:nvSpPr>
          <p:spPr>
            <a:xfrm>
              <a:off x="1058760" y="322092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utoShape 53"/>
            <p:cNvSpPr/>
            <p:nvPr/>
          </p:nvSpPr>
          <p:spPr>
            <a:xfrm>
              <a:off x="1052640" y="395928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utoShape 54"/>
            <p:cNvSpPr/>
            <p:nvPr/>
          </p:nvSpPr>
          <p:spPr>
            <a:xfrm>
              <a:off x="1058760" y="401940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utoShape 58"/>
            <p:cNvSpPr/>
            <p:nvPr/>
          </p:nvSpPr>
          <p:spPr>
            <a:xfrm>
              <a:off x="1052640" y="475956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AutoShape 59"/>
            <p:cNvSpPr/>
            <p:nvPr/>
          </p:nvSpPr>
          <p:spPr>
            <a:xfrm>
              <a:off x="1058760" y="4784760"/>
              <a:ext cx="77292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TextBox 56"/>
          <p:cNvSpPr/>
          <p:nvPr/>
        </p:nvSpPr>
        <p:spPr>
          <a:xfrm>
            <a:off x="1247760" y="1566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Box 57"/>
          <p:cNvSpPr/>
          <p:nvPr/>
        </p:nvSpPr>
        <p:spPr>
          <a:xfrm>
            <a:off x="1247760" y="24004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Box 58"/>
          <p:cNvSpPr/>
          <p:nvPr/>
        </p:nvSpPr>
        <p:spPr>
          <a:xfrm>
            <a:off x="1247760" y="31813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Box 59"/>
          <p:cNvSpPr/>
          <p:nvPr/>
        </p:nvSpPr>
        <p:spPr>
          <a:xfrm>
            <a:off x="1247760" y="3987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Box 60"/>
          <p:cNvSpPr/>
          <p:nvPr/>
        </p:nvSpPr>
        <p:spPr>
          <a:xfrm>
            <a:off x="1247760" y="4775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矩形 1"/>
          <p:cNvSpPr/>
          <p:nvPr/>
        </p:nvSpPr>
        <p:spPr>
          <a:xfrm>
            <a:off x="539640" y="1444680"/>
            <a:ext cx="777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矩形 2"/>
          <p:cNvSpPr/>
          <p:nvPr/>
        </p:nvSpPr>
        <p:spPr>
          <a:xfrm>
            <a:off x="522360" y="1125360"/>
            <a:ext cx="81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" descr=""/>
          <p:cNvPicPr/>
          <p:nvPr/>
        </p:nvPicPr>
        <p:blipFill>
          <a:blip r:embed="rId2"/>
          <a:stretch/>
        </p:blipFill>
        <p:spPr>
          <a:xfrm>
            <a:off x="2341440" y="2419200"/>
            <a:ext cx="492444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130-4D5D-4671-B46D-510E510FEA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An</dc:creator>
  <dc:description/>
  <dc:language>en-US</dc:language>
  <cp:lastModifiedBy/>
  <dcterms:modified xsi:type="dcterms:W3CDTF">2015-07-04T09:14:19Z</dcterms:modified>
  <cp:revision>2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