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1.png" ContentType="image/png"/>
  <Override PartName="/ppt/media/image29.png" ContentType="image/png"/>
  <Override PartName="/ppt/media/image1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5.wmf" ContentType="image/x-wmf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Silverlight_logo.png"/>
          <p:cNvPicPr/>
          <p:nvPr/>
        </p:nvPicPr>
        <p:blipFill>
          <a:blip r:embed="rId3"/>
          <a:stretch/>
        </p:blipFill>
        <p:spPr>
          <a:xfrm>
            <a:off x="7383600" y="6053040"/>
            <a:ext cx="1379520" cy="4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Silverlight_logo.png"/>
          <p:cNvPicPr/>
          <p:nvPr/>
        </p:nvPicPr>
        <p:blipFill>
          <a:blip r:embed="rId3"/>
          <a:srcRect l="-3403" t="0" r="0" b="0"/>
          <a:stretch/>
        </p:blipFill>
        <p:spPr>
          <a:xfrm>
            <a:off x="6021360" y="5602320"/>
            <a:ext cx="2549520" cy="799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hyperlink" Target="http://www.microsoft.com/silverlight" TargetMode="Externa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hyperlink" Target="http://www.eeppt.com/moban/kej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692280" y="3473640"/>
            <a:ext cx="8030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500" spc="-1" strike="noStrike">
                <a:solidFill>
                  <a:srgbClr val="125ca7"/>
                </a:solidFill>
                <a:latin typeface="Segoe Light"/>
                <a:ea typeface="宋体"/>
              </a:rPr>
              <a:t>微软</a:t>
            </a:r>
            <a:r>
              <a:rPr b="0" lang="en-CA" sz="4500" spc="-1" strike="noStrike">
                <a:solidFill>
                  <a:srgbClr val="125ca7"/>
                </a:solidFill>
                <a:latin typeface="Segoe Light"/>
                <a:ea typeface="宋体"/>
              </a:rPr>
              <a:t>ppt</a:t>
            </a:r>
            <a:r>
              <a:rPr b="0" lang="en-CA" sz="4500" spc="-1" strike="noStrike">
                <a:solidFill>
                  <a:srgbClr val="125ca7"/>
                </a:solidFill>
                <a:latin typeface="Segoe Light"/>
                <a:ea typeface="宋体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ubtitle 2"/>
          <p:cNvSpPr/>
          <p:nvPr/>
        </p:nvSpPr>
        <p:spPr>
          <a:xfrm>
            <a:off x="4724280" y="4253040"/>
            <a:ext cx="392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66c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66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700" spc="-1" strike="noStrike">
                <a:solidFill>
                  <a:srgbClr val="125ca7"/>
                </a:solidFill>
                <a:latin typeface="Segoe Light"/>
              </a:rPr>
              <a:t>使用规范说明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4b0e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4b0e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E Icon" descr="I:\Illustrations-Icons\Windows_Vista_Icons_ for_Marketing_use\IE7.png"/>
          <p:cNvPicPr/>
          <p:nvPr/>
        </p:nvPicPr>
        <p:blipFill>
          <a:blip r:embed="rId2"/>
          <a:stretch/>
        </p:blipFill>
        <p:spPr>
          <a:xfrm>
            <a:off x="1792440" y="800280"/>
            <a:ext cx="529920" cy="529920"/>
          </a:xfrm>
          <a:prstGeom prst="rect">
            <a:avLst/>
          </a:prstGeom>
          <a:ln w="0">
            <a:noFill/>
          </a:ln>
        </p:spPr>
      </p:pic>
      <p:pic>
        <p:nvPicPr>
          <p:cNvPr id="81" name="Opera Icon" descr="I:\LOGOS\GEN_LOGO\O\Opera_logo4_t.png"/>
          <p:cNvPicPr/>
          <p:nvPr/>
        </p:nvPicPr>
        <p:blipFill>
          <a:blip r:embed="rId3"/>
          <a:srcRect l="0" t="0" r="56728" b="2808"/>
          <a:stretch/>
        </p:blipFill>
        <p:spPr>
          <a:xfrm>
            <a:off x="1752480" y="3200400"/>
            <a:ext cx="446040" cy="38088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000000"/>
            </a:outerShdw>
          </a:effectLst>
        </p:spPr>
      </p:pic>
      <p:pic>
        <p:nvPicPr>
          <p:cNvPr id="82" name="Firefox Icon" descr="I:\LOGOS\GEN_LOGO\F\firefox logo white text.png"/>
          <p:cNvPicPr/>
          <p:nvPr/>
        </p:nvPicPr>
        <p:blipFill>
          <a:blip r:embed="rId4"/>
          <a:srcRect l="0" t="0" r="57791" b="2432"/>
          <a:stretch/>
        </p:blipFill>
        <p:spPr>
          <a:xfrm>
            <a:off x="1841400" y="1676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83" name="Safari Icon" descr="I:\SHOW_ART\Executive_Show_Art\06_EXECUTIVE_SHOW_ART\Rudder - 110706 TechEd EMEA\PNGs\Logos\Safari-RSS-BLK.png"/>
          <p:cNvPicPr/>
          <p:nvPr/>
        </p:nvPicPr>
        <p:blipFill>
          <a:blip r:embed="rId5"/>
          <a:srcRect l="0" t="0" r="59271" b="-2575"/>
          <a:stretch/>
        </p:blipFill>
        <p:spPr>
          <a:xfrm>
            <a:off x="1827360" y="2438280"/>
            <a:ext cx="460080" cy="455760"/>
          </a:xfrm>
          <a:prstGeom prst="rect">
            <a:avLst/>
          </a:prstGeom>
          <a:ln w="0">
            <a:noFill/>
          </a:ln>
        </p:spPr>
      </p:pic>
      <p:pic>
        <p:nvPicPr>
          <p:cNvPr id="84" name="Vista Icon" descr=""/>
          <p:cNvPicPr/>
          <p:nvPr/>
        </p:nvPicPr>
        <p:blipFill>
          <a:blip r:embed="rId6"/>
          <a:stretch/>
        </p:blipFill>
        <p:spPr>
          <a:xfrm>
            <a:off x="6362640" y="1330200"/>
            <a:ext cx="530280" cy="5288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362640" y="2320920"/>
            <a:ext cx="442800" cy="493560"/>
            <a:chOff x="6362640" y="2320920"/>
            <a:chExt cx="442800" cy="493560"/>
          </a:xfrm>
        </p:grpSpPr>
        <p:sp>
          <p:nvSpPr>
            <p:cNvPr id="86" name="Background Fix"/>
            <p:cNvSpPr/>
            <p:nvPr/>
          </p:nvSpPr>
          <p:spPr>
            <a:xfrm>
              <a:off x="6362640" y="2320920"/>
              <a:ext cx="442800" cy="493560"/>
            </a:xfrm>
            <a:custGeom>
              <a:avLst/>
              <a:gdLst>
                <a:gd name="textAreaLeft" fmla="*/ 32760 w 442800"/>
                <a:gd name="textAreaRight" fmla="*/ 410040 w 442800"/>
                <a:gd name="textAreaTop" fmla="*/ 32760 h 493560"/>
                <a:gd name="textAreaBottom" fmla="*/ 460800 h 493560"/>
              </a:gdLst>
              <a:ahLst/>
              <a:rect l="textAreaLeft" t="textAreaTop" r="textAreaRight" b="textAreaBottom"/>
              <a:pathLst>
                <a:path w="21600" h="24074">
                  <a:moveTo>
                    <a:pt x="5472" y="0"/>
                  </a:moveTo>
                  <a:arcTo wR="5472" hR="5472" stAng="16200000" swAng="-5400000"/>
                  <a:lnTo>
                    <a:pt x="0" y="18602"/>
                  </a:lnTo>
                  <a:arcTo wR="5472" hR="5472" stAng="10800000" swAng="-5400000"/>
                  <a:lnTo>
                    <a:pt x="16128" y="24074"/>
                  </a:lnTo>
                  <a:arcTo wR="5472" hR="5472" stAng="5400000" swAng="-5400000"/>
                  <a:lnTo>
                    <a:pt x="21600" y="5472"/>
                  </a:lnTo>
                  <a:arcTo wR="5472" hR="547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Icon" descr="http://www.globalpov.com/images/apple.jpg"/>
            <p:cNvPicPr/>
            <p:nvPr/>
          </p:nvPicPr>
          <p:blipFill>
            <a:blip r:embed="rId7"/>
            <a:stretch/>
          </p:blipFill>
          <p:spPr>
            <a:xfrm>
              <a:off x="6400440" y="2347920"/>
              <a:ext cx="34488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2" descr=""/>
          <p:cNvPicPr/>
          <p:nvPr/>
        </p:nvPicPr>
        <p:blipFill>
          <a:blip r:embed="rId8"/>
          <a:stretch/>
        </p:blipFill>
        <p:spPr>
          <a:xfrm>
            <a:off x="1892160" y="3962520"/>
            <a:ext cx="330480" cy="31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9"/>
          <a:stretch/>
        </p:blipFill>
        <p:spPr>
          <a:xfrm>
            <a:off x="6288120" y="3311640"/>
            <a:ext cx="51732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Microsoft Silverligh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54440" y="1752480"/>
            <a:ext cx="1635120" cy="1817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8"/>
          <p:cNvSpPr/>
          <p:nvPr/>
        </p:nvSpPr>
        <p:spPr>
          <a:xfrm>
            <a:off x="1632600" y="4735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5ca7"/>
                </a:solidFill>
                <a:latin typeface="Segoe"/>
                <a:ea typeface="宋体"/>
              </a:rPr>
              <a:t>Silverlight is a cross-browser, cross-platform plug-i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19040" y="522144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Segoe"/>
                <a:ea typeface="宋体"/>
              </a:rPr>
              <a:t>* </a:t>
            </a:r>
            <a:r>
              <a:rPr b="0" lang="en-US" sz="1200" spc="-1" strike="noStrike">
                <a:solidFill>
                  <a:srgbClr val="7f7f7f"/>
                </a:solidFill>
                <a:latin typeface="Segoe"/>
                <a:ea typeface="宋体"/>
              </a:rPr>
              <a:t>An auxiliary program that works with a software package to enhance its capability. For example, plug-ins used in Photoshop to add a filter for some special effect. Other examples of Plug-ins are Macromedia Flash, Digital Video Express(Divx) Player plug-in, Windows Media Player et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Why it’s time for Silver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86000" y="144000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Run on all popular browsers and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Consistent experience irrespective of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upports AJAX methodology for rich Interne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Includes compelling graphics, 2D vector &amp;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treams video/audio and scales video quality from mobile device to 720 HDTV video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mall download 4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WinFX_WPF__18a"/>
          <p:cNvPicPr/>
          <p:nvPr/>
        </p:nvPicPr>
        <p:blipFill>
          <a:blip r:embed="rId8"/>
          <a:stretch/>
        </p:blipFill>
        <p:spPr>
          <a:xfrm>
            <a:off x="762120" y="762120"/>
            <a:ext cx="1074600" cy="103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WinFX_WPF__18c"/>
          <p:cNvPicPr/>
          <p:nvPr/>
        </p:nvPicPr>
        <p:blipFill>
          <a:blip r:embed="rId9"/>
          <a:stretch/>
        </p:blipFill>
        <p:spPr>
          <a:xfrm>
            <a:off x="879480" y="1841400"/>
            <a:ext cx="9572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WinFX_WPF__18d"/>
          <p:cNvPicPr/>
          <p:nvPr/>
        </p:nvPicPr>
        <p:blipFill>
          <a:blip r:embed="rId10"/>
          <a:stretch/>
        </p:blipFill>
        <p:spPr>
          <a:xfrm>
            <a:off x="762120" y="4343400"/>
            <a:ext cx="1179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09480" y="3054240"/>
            <a:ext cx="466920" cy="378000"/>
            <a:chOff x="609480" y="3054240"/>
            <a:chExt cx="466920" cy="378000"/>
          </a:xfrm>
        </p:grpSpPr>
        <p:pic>
          <p:nvPicPr>
            <p:cNvPr id="99" name="Picture 11" descr="WinFX__01a"/>
            <p:cNvPicPr/>
            <p:nvPr/>
          </p:nvPicPr>
          <p:blipFill>
            <a:blip r:embed="rId11">
              <a:alphaModFix amt="0"/>
            </a:blip>
            <a:stretch/>
          </p:blipFill>
          <p:spPr>
            <a:xfrm>
              <a:off x="609480" y="3236040"/>
              <a:ext cx="4669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2" descr="WinFX_WPF__18b"/>
            <p:cNvPicPr/>
            <p:nvPr/>
          </p:nvPicPr>
          <p:blipFill>
            <a:blip r:embed="rId12"/>
            <a:stretch/>
          </p:blipFill>
          <p:spPr>
            <a:xfrm>
              <a:off x="716760" y="3054240"/>
              <a:ext cx="24984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762120" y="3206880"/>
            <a:ext cx="1179360" cy="907560"/>
            <a:chOff x="762120" y="3206880"/>
            <a:chExt cx="1179360" cy="907560"/>
          </a:xfrm>
        </p:grpSpPr>
        <p:pic>
          <p:nvPicPr>
            <p:cNvPr id="102" name="Picture 14" descr="WinFX__01a"/>
            <p:cNvPicPr/>
            <p:nvPr/>
          </p:nvPicPr>
          <p:blipFill>
            <a:blip r:embed="rId13">
              <a:alphaModFix amt="0"/>
            </a:blip>
            <a:stretch/>
          </p:blipFill>
          <p:spPr>
            <a:xfrm>
              <a:off x="762120" y="3643560"/>
              <a:ext cx="1179360" cy="47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5" descr="WinFX_WPF__18b"/>
            <p:cNvPicPr/>
            <p:nvPr/>
          </p:nvPicPr>
          <p:blipFill>
            <a:blip r:embed="rId14"/>
            <a:stretch/>
          </p:blipFill>
          <p:spPr>
            <a:xfrm>
              <a:off x="1033200" y="3206880"/>
              <a:ext cx="63072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16" descr="WinFX_WPF__18d"/>
          <p:cNvPicPr/>
          <p:nvPr/>
        </p:nvPicPr>
        <p:blipFill>
          <a:blip r:embed="rId15"/>
          <a:stretch/>
        </p:blipFill>
        <p:spPr>
          <a:xfrm>
            <a:off x="423720" y="4000680"/>
            <a:ext cx="45576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15 -7.51445E-007 L 4.16667E-006 -7.51445E-007 E">
                                      <p:cBhvr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7 -7.51445E-007 L 4.16667E-006 -7.51445E-007 E">
                                      <p:cBhvr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Programming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Diagram 5" descr=""/>
          <p:cNvPicPr/>
          <p:nvPr/>
        </p:nvPicPr>
        <p:blipFill>
          <a:blip r:embed="rId2"/>
          <a:stretch/>
        </p:blipFill>
        <p:spPr>
          <a:xfrm>
            <a:off x="2066760" y="1390680"/>
            <a:ext cx="5004000" cy="3187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371600" y="5411880"/>
            <a:ext cx="54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XAML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- core of Silverlight for Rich User interfa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All other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- for programming log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84200" y="1063800"/>
            <a:ext cx="7802640" cy="1908000"/>
            <a:chOff x="484200" y="1063800"/>
            <a:chExt cx="7802640" cy="1908000"/>
          </a:xfrm>
        </p:grpSpPr>
        <p:grpSp>
          <p:nvGrpSpPr>
            <p:cNvPr id="109" name=""/>
            <p:cNvGrpSpPr/>
            <p:nvPr/>
          </p:nvGrpSpPr>
          <p:grpSpPr>
            <a:xfrm>
              <a:off x="484200" y="1063800"/>
              <a:ext cx="3200040" cy="1908000"/>
              <a:chOff x="484200" y="1063800"/>
              <a:chExt cx="3200040" cy="1908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484200" y="1310400"/>
                <a:ext cx="3200040" cy="1661400"/>
                <a:chOff x="484200" y="1310400"/>
                <a:chExt cx="3200040" cy="1661400"/>
              </a:xfrm>
            </p:grpSpPr>
            <p:pic>
              <p:nvPicPr>
                <p:cNvPr id="111" name="Picture 6" descr="screen"/>
                <p:cNvPicPr/>
                <p:nvPr/>
              </p:nvPicPr>
              <p:blipFill>
                <a:blip r:embed="rId2"/>
                <a:srcRect l="0" t="0" r="0" b="28325"/>
                <a:stretch/>
              </p:blipFill>
              <p:spPr>
                <a:xfrm>
                  <a:off x="484200" y="1310400"/>
                  <a:ext cx="2694240" cy="16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Rectangle 7"/>
                <p:cNvSpPr/>
                <p:nvPr/>
              </p:nvSpPr>
              <p:spPr>
                <a:xfrm>
                  <a:off x="527040" y="1650960"/>
                  <a:ext cx="31572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utton b1 = new Button(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Content = "OK"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Background = new SolidColorBrush(Colors.LightBlue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Width = 100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3" name="Picture 8" descr="C#"/>
              <p:cNvPicPr/>
              <p:nvPr/>
            </p:nvPicPr>
            <p:blipFill>
              <a:blip r:embed="rId3"/>
              <a:stretch/>
            </p:blipFill>
            <p:spPr>
              <a:xfrm>
                <a:off x="588240" y="1063800"/>
                <a:ext cx="639720" cy="42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" name="Picture 9" descr="ok button"/>
            <p:cNvPicPr/>
            <p:nvPr/>
          </p:nvPicPr>
          <p:blipFill>
            <a:blip r:embed="rId4"/>
            <a:stretch/>
          </p:blipFill>
          <p:spPr>
            <a:xfrm>
              <a:off x="6122880" y="1447920"/>
              <a:ext cx="216396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84200" y="3886200"/>
            <a:ext cx="7802640" cy="1676520"/>
            <a:chOff x="484200" y="3886200"/>
            <a:chExt cx="7802640" cy="1676520"/>
          </a:xfrm>
        </p:grpSpPr>
        <p:grpSp>
          <p:nvGrpSpPr>
            <p:cNvPr id="116" name=""/>
            <p:cNvGrpSpPr/>
            <p:nvPr/>
          </p:nvGrpSpPr>
          <p:grpSpPr>
            <a:xfrm>
              <a:off x="484200" y="3886200"/>
              <a:ext cx="2638440" cy="1676520"/>
              <a:chOff x="484200" y="3886200"/>
              <a:chExt cx="2638440" cy="16765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84200" y="4146120"/>
                <a:ext cx="2638440" cy="1416600"/>
                <a:chOff x="484200" y="4146120"/>
                <a:chExt cx="2638440" cy="1416600"/>
              </a:xfrm>
            </p:grpSpPr>
            <p:pic>
              <p:nvPicPr>
                <p:cNvPr id="118" name="Picture 15" descr="screen"/>
                <p:cNvPicPr/>
                <p:nvPr/>
              </p:nvPicPr>
              <p:blipFill>
                <a:blip r:embed="rId5"/>
                <a:srcRect l="0" t="0" r="0" b="28325"/>
                <a:stretch/>
              </p:blipFill>
              <p:spPr>
                <a:xfrm>
                  <a:off x="484200" y="4146120"/>
                  <a:ext cx="2638440" cy="14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Rectangle 16"/>
                <p:cNvSpPr/>
                <p:nvPr/>
              </p:nvSpPr>
              <p:spPr>
                <a:xfrm>
                  <a:off x="656640" y="4475520"/>
                  <a:ext cx="225108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 Width="100"&gt; OK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LightB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" name="Picture 15" descr="XAML"/>
              <p:cNvPicPr/>
              <p:nvPr/>
            </p:nvPicPr>
            <p:blipFill>
              <a:blip r:embed="rId6"/>
              <a:stretch/>
            </p:blipFill>
            <p:spPr>
              <a:xfrm>
                <a:off x="556920" y="3886200"/>
                <a:ext cx="137088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8" descr="ok button"/>
            <p:cNvPicPr/>
            <p:nvPr/>
          </p:nvPicPr>
          <p:blipFill>
            <a:blip r:embed="rId7"/>
            <a:stretch/>
          </p:blipFill>
          <p:spPr>
            <a:xfrm>
              <a:off x="6122880" y="4191120"/>
              <a:ext cx="216396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21"/>
          <p:cNvSpPr/>
          <p:nvPr/>
        </p:nvSpPr>
        <p:spPr>
          <a:xfrm>
            <a:off x="3648600" y="4556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Load, Parse,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102200" y="1932120"/>
            <a:ext cx="1128600" cy="639720"/>
            <a:chOff x="4102200" y="1932120"/>
            <a:chExt cx="1128600" cy="639720"/>
          </a:xfrm>
        </p:grpSpPr>
        <p:pic>
          <p:nvPicPr>
            <p:cNvPr id="124" name="Right Arrow 21" descr=""/>
            <p:cNvPicPr/>
            <p:nvPr/>
          </p:nvPicPr>
          <p:blipFill>
            <a:blip r:embed="rId8"/>
            <a:stretch/>
          </p:blipFill>
          <p:spPr>
            <a:xfrm>
              <a:off x="4102200" y="1932120"/>
              <a:ext cx="1128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179960" y="209556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17960" y="4883040"/>
            <a:ext cx="1127160" cy="646200"/>
            <a:chOff x="4017960" y="4883040"/>
            <a:chExt cx="1127160" cy="646200"/>
          </a:xfrm>
        </p:grpSpPr>
        <p:pic>
          <p:nvPicPr>
            <p:cNvPr id="127" name="Right Arrow 22" descr=""/>
            <p:cNvPicPr/>
            <p:nvPr/>
          </p:nvPicPr>
          <p:blipFill>
            <a:blip r:embed="rId9"/>
            <a:stretch/>
          </p:blipFill>
          <p:spPr>
            <a:xfrm>
              <a:off x="4017960" y="4883040"/>
              <a:ext cx="11271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95720" y="504648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XAML / C #/ JavaScrip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78560" y="1487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Compile and 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FlashProgramming.png"/>
          <p:cNvPicPr/>
          <p:nvPr/>
        </p:nvPicPr>
        <p:blipFill>
          <a:blip r:embed="rId2"/>
          <a:stretch/>
        </p:blipFill>
        <p:spPr>
          <a:xfrm>
            <a:off x="0" y="838080"/>
            <a:ext cx="4060800" cy="495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SilverLightProgramming.png"/>
          <p:cNvPicPr/>
          <p:nvPr/>
        </p:nvPicPr>
        <p:blipFill>
          <a:blip r:embed="rId3"/>
          <a:stretch/>
        </p:blipFill>
        <p:spPr>
          <a:xfrm>
            <a:off x="3968640" y="838080"/>
            <a:ext cx="5175360" cy="5029200"/>
          </a:xfrm>
          <a:prstGeom prst="rect">
            <a:avLst/>
          </a:prstGeom>
          <a:ln w="0">
            <a:noFill/>
          </a:ln>
        </p:spPr>
      </p:pic>
      <p:sp>
        <p:nvSpPr>
          <p:cNvPr id="133" name="Title 5"/>
          <p:cNvSpPr/>
          <p:nvPr/>
        </p:nvSpPr>
        <p:spPr>
          <a:xfrm>
            <a:off x="1066680" y="76320"/>
            <a:ext cx="8031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Comparison with F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traight Connector 5"/>
          <p:cNvSpPr/>
          <p:nvPr/>
        </p:nvSpPr>
        <p:spPr>
          <a:xfrm>
            <a:off x="3956760" y="887400"/>
            <a:ext cx="24120" cy="59706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304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b0e2"/>
                </a:solidFill>
                <a:uFillTx/>
                <a:latin typeface="Arial"/>
                <a:hlinkClick r:id="rId4"/>
              </a:rPr>
              <a:t>计算机ppt模板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066680" y="2200320"/>
            <a:ext cx="4229280" cy="2751120"/>
          </a:xfrm>
          <a:prstGeom prst="rect">
            <a:avLst/>
          </a:prstGeom>
          <a:ln w="0">
            <a:noFill/>
          </a:ln>
        </p:spPr>
      </p:pic>
      <p:pic>
        <p:nvPicPr>
          <p:cNvPr id="138" name="Chart 3" descr=""/>
          <p:cNvPicPr/>
          <p:nvPr/>
        </p:nvPicPr>
        <p:blipFill>
          <a:blip r:embed="rId3"/>
          <a:stretch/>
        </p:blipFill>
        <p:spPr>
          <a:xfrm>
            <a:off x="5276880" y="2181240"/>
            <a:ext cx="3048120" cy="2533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674640" y="990720"/>
            <a:ext cx="462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Delivering media </a:t>
            </a: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thout going b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Video delivery tr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Placeholder 2"/>
          <p:cNvSpPr/>
          <p:nvPr/>
        </p:nvSpPr>
        <p:spPr>
          <a:xfrm>
            <a:off x="884160" y="2362320"/>
            <a:ext cx="36543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y stre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ive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st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ching and Prox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hart 6" descr=""/>
          <p:cNvPicPr/>
          <p:nvPr/>
        </p:nvPicPr>
        <p:blipFill>
          <a:blip r:embed="rId6"/>
          <a:stretch/>
        </p:blipFill>
        <p:spPr>
          <a:xfrm>
            <a:off x="4559400" y="1778040"/>
            <a:ext cx="3060720" cy="410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74640" y="99072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ndows Media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971800" y="5715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Silverlight 1.0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– XAML + JavaScri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COMPLETE DOM LEVEL 1 inte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itle 5"/>
          <p:cNvSpPr/>
          <p:nvPr/>
        </p:nvSpPr>
        <p:spPr>
          <a:xfrm>
            <a:off x="1752480" y="152280"/>
            <a:ext cx="7269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Creating a Silverlight appl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Diagram 15" descr=""/>
          <p:cNvPicPr/>
          <p:nvPr/>
        </p:nvPicPr>
        <p:blipFill>
          <a:blip r:embed="rId2"/>
          <a:stretch/>
        </p:blipFill>
        <p:spPr>
          <a:xfrm>
            <a:off x="1517760" y="1274760"/>
            <a:ext cx="61084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56:26Z</dcterms:created>
  <dc:creator/>
  <dc:description/>
  <dc:language>en-US</dc:language>
  <cp:lastModifiedBy/>
  <dcterms:modified xsi:type="dcterms:W3CDTF">2015-07-04T08:07:5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