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9FC6-47BE-48FB-891C-DAFD75DA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2A8-AF82-4639-B84C-521C514E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7977-86D0-4DA2-8460-A4CE568D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7D2-FAB7-477A-BC08-847F9246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378-DF8F-4203-8DE0-AB657F53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97F-C919-4D8B-82A1-C411AF76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B9F-BB2D-4D1E-B390-90304F27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48B-2113-4689-8191-C4875FE9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66E9-9BBC-4971-B6C0-63EEB476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BA79-61C9-4D3C-B179-7F62DD48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DC6C-86A8-4777-A6DB-49AA4351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CA8C-E28A-47BB-A966-7AA79AEA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4AE2-F32E-49FB-A1BB-81EC2BC64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3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dd5807"/>
                </a:solidFill>
                <a:latin typeface="Calibri"/>
              </a:rPr>
              <a:t>万圣节南瓜</a:t>
            </a:r>
            <a:r>
              <a:rPr b="0" lang="zh-CN" sz="4400" spc="-1" strike="noStrike">
                <a:solidFill>
                  <a:srgbClr val="dd5807"/>
                </a:solidFill>
                <a:latin typeface="Calibri"/>
                <a:ea typeface="宋体"/>
              </a:rPr>
              <a:t>PPT</a:t>
            </a:r>
            <a:r>
              <a:rPr b="0" lang="fr-CA" sz="4400" spc="-1" strike="noStrike">
                <a:solidFill>
                  <a:srgbClr val="dd5807"/>
                </a:solidFill>
                <a:latin typeface="Calibri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494080"/>
            <a:ext cx="57214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5807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dd5807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5807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99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5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14720" y="27432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5807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1472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5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5807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99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5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809640" y="1587600"/>
            <a:ext cx="599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5807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99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5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CA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CA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CA8-7B2D-4E5A-A264-5585803149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2:32:40Z</dcterms:created>
  <dc:creator>Admin</dc:creator>
  <dc:description/>
  <dc:language>en-US</dc:language>
  <cp:lastModifiedBy>Admin</cp:lastModifiedBy>
  <dcterms:modified xsi:type="dcterms:W3CDTF">2015-07-04T08:16:40Z</dcterms:modified>
  <cp:revision>1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