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ABA-DA3C-4E45-B42B-A79B344F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4BC-7B95-4FCE-AE2D-417CC67C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13B-1AA3-496A-B5FE-8CDD9063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BBD-889B-4281-B6D7-5351C5AB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3D1-A14F-4FAD-A453-A4089488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AE9-A0DE-42A5-8E78-6568E298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74F-7C76-491D-A74E-1E935767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809-DDCE-4942-8919-E5EEE3F4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34C-8B48-4654-B032-B360B77B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FE5-6A77-446C-8650-66CBE8DF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60AF-8308-4C6D-9EC4-B91822E9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4C3B-1B19-4C05-9EC3-D6AA7D9B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1705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BBC7-F570-45B3-9742-26513CEC4AE2}" type="datetime">
              <a:rPr b="0" lang="zh-CN" sz="1200" spc="-1" strike="noStrike">
                <a:solidFill>
                  <a:srgbClr val="71705b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1705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82A2-1D39-409E-8886-4293C0960095}" type="slidenum">
              <a:rPr b="0" lang="zh-CN" sz="1200" spc="-1" strike="noStrike">
                <a:solidFill>
                  <a:srgbClr val="7170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现代简约大气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模板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5784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Georgia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Georgia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eorgia"/>
              </a:rPr>
              <a:t>使用规范说明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11D-1351-461D-9182-3ED9FFAFD3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14:49:18Z</dcterms:created>
  <dc:creator/>
  <dc:description/>
  <dc:language>en-US</dc:language>
  <cp:lastModifiedBy/>
  <dcterms:modified xsi:type="dcterms:W3CDTF">2015-07-04T07:46:5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_TemplateID">
    <vt:lpwstr>TC010362650</vt:lpwstr>
  </property>
</Properties>
</file>