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1160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160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鲜花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背景图片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35240" y="2098440"/>
            <a:ext cx="64008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1:04:00Z</dcterms:created>
  <dc:creator>HarryChen</dc:creator>
  <dc:description/>
  <dc:language>en-US</dc:language>
  <cp:lastModifiedBy>HarryChen</cp:lastModifiedBy>
  <dcterms:modified xsi:type="dcterms:W3CDTF">2015-07-04T07:47:33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