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353B-377F-42C7-94B7-CCE36A2DE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B4ED-7F21-40B0-9B4C-D7F32853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D1EA-32B9-4E2B-B9DC-3F4896773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6C55-19F7-45B8-B74C-AC91F7137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0B1D-EB56-4DB8-9A2C-1AEC0417E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0354-D5DF-4F16-BE3F-AE1BF125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A16F-2B41-4046-9907-B67BD4C7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5D1B-A50E-4613-9FD8-EDFA393D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C7A2-B895-4871-A481-7F612A46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DA18-3AA5-4FE6-B604-FB4C51FB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288C-2A41-4460-88F2-CDCEC647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53FB-958D-4085-B697-F8F3723B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8532-28EA-4007-9D0E-5C432CAA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C1DF-8652-4EA0-91CB-F7926290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F8F3-C929-41BB-8B72-F8B29693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791A-F0E6-4997-8869-69D1FEF85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2D46-9BA3-478B-BE39-C56BAFF6C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B115-81A5-40D7-8B22-72F34AC4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10EF-9342-443C-96BC-B363E021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6A93-5C6E-40F6-91B6-A337F6FD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4370-4C6E-477E-BA29-AB517791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9906-5C65-486E-A01C-B396B8F0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DDA8-3D6B-446A-9EAB-F699145C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C55D-67C8-4EB3-8127-3FB34945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51618"/>
          </a:solidFill>
          <a:ln w="9360">
            <a:solidFill>
              <a:srgbClr val="0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80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7240" y="1752480"/>
            <a:ext cx="6800760" cy="510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8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8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8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8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8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8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8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E8A6-2606-43D4-BB40-4B6102E2C671}" type="slidenum">
              <a:rPr b="0" lang="en-US" sz="1400" spc="-1" strike="noStrike">
                <a:solidFill>
                  <a:srgbClr val="008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51618"/>
          </a:solidFill>
          <a:ln w="9360">
            <a:solidFill>
              <a:srgbClr val="0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80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7240" y="76320"/>
            <a:ext cx="9010440" cy="6757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22D0-B4CD-4DEB-BCC4-4BED3AC3C50F}" type="slidenum">
              <a:rPr b="0" lang="en-US" sz="1400" spc="-1" strike="noStrike">
                <a:solidFill>
                  <a:srgbClr val="008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80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0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80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0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80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0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80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8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80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8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8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719000"/>
            <a:ext cx="7772400" cy="1469880"/>
          </a:xfrm>
          <a:prstGeom prst="rect">
            <a:avLst/>
          </a:prstGeom>
          <a:gradFill rotWithShape="0">
            <a:gsLst>
              <a:gs pos="0">
                <a:srgbClr val="66ccff">
                  <a:alpha val="83137"/>
                </a:srgbClr>
              </a:gs>
              <a:gs pos="100000">
                <a:srgbClr val="66ccff">
                  <a:alpha val="83137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雪花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7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70360" y="171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16000" y="3394080"/>
            <a:ext cx="444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80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ff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80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80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66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66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80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80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80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80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80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80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80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80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80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ff66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ff66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ff66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66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66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ff66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ff66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ff66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66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66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66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66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66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66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66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66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0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DB7D-96E2-45C1-9227-C4FC81B27A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6:32:38Z</dcterms:created>
  <dc:creator>Presentation Magazine</dc:creator>
  <dc:description/>
  <dc:language>en-US</dc:language>
  <cp:lastModifiedBy>Jonty Pearce</cp:lastModifiedBy>
  <dcterms:modified xsi:type="dcterms:W3CDTF">2015-07-04T07:08:14Z</dcterms:modified>
  <cp:revision>39</cp:revision>
  <dc:subject/>
  <dc:title>Falling Snow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